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10.png" ContentType="image/png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6.jpeg" ContentType="image/jpeg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2D45-5180-471A-BD20-8125A407E2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ttractive home page:, welcoming, nice atmosphere, music, pictures of the coast and s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tp://www.typoberlin.de/index.php/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tp://www.eurob.info/index.php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tp://www.mediendesignbuero.de/html/frameset/civitas/fs_c_prese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ce the website will only be as good as the input which you provide us, we need from you all the information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ults of this pilot project. Documentation. Press releases. Dissemination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ks to other projects, (also future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licy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ps&amp;vis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ce the website will only be as good as the input which you provide us, we need from you all the information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ults of this pilot project. Documentation. Press releases. Dissemination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ks to other projects, (also future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licy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ps&amp;vis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sides the full version of the report, we want to prepare a short, interactive version - a sort of Handbook on Spatial planning on the Sea and in Coast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t should contain at most 15 p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ilotproject links-&gt;Best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ictures, frames, flash, interviews, short video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asy-to read, attractiv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Nur die Essenz des Berichtes (max 15 Sei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uch deutsch? (dann aber weiterführende Texte auf Engli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teressant, knackig formul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llustriert mit kleinen Animationen, Bildern, Karten, Frames (alles zum Vergrössern in extra Fr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Reichlich querverlinkt zu weiterführender Info in den Tiefen der Webse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EFE-E6CF-4794-A397-35E1ECEE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763-8A55-4FFD-90FD-C9E17F26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191-2588-4C61-A4F9-621E2ACF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575-45EC-46D6-941E-928615B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242-0382-4005-9EFE-32FD16BC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CD1-FD22-4C6F-82E2-329A7BA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96DC-FDAD-4E8D-90F4-7B920D66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7672-3714-4113-BA13-0D45158D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2158-16DB-493E-8146-3512CF4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F4C7-DD44-4AE9-83FA-90BC190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550-1999-4C18-BD77-5B75BAF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49D-750F-49D7-BF6C-915693E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295-268F-4A91-9407-821AE16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B80-A11A-4C20-9904-F343F17A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C44-0B5C-4E83-AA03-A85CB84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A820-9FF2-426D-984C-0451ADFE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8152-1C38-4298-9230-F762FC57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BA6-70D9-41C2-B315-5778EAE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D41-385A-48B1-BB69-9E0E434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3ED-9505-4429-B47B-DF901CA5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AE2-CF82-4948-879F-D23B773A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9BF-E0FA-4506-A9BB-D729D62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363-DBDD-44D4-AB25-8A5E5D1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D02-2F64-4A75-8723-BE30DA9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9A7-9186-4E05-ADCE-C20D6D0553E1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2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3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9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8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E91-223E-4A93-9F85-EBDDEF20A399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057400" cy="770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lancoast.eu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003399"/>
                </a:solidFill>
                <a:latin typeface="Arial"/>
              </a:rPr>
              <a:t>WEBSITE DEVELOPMENT</a:t>
            </a:r>
            <a:br>
              <a:rPr sz="4400"/>
            </a:br>
            <a:r>
              <a:rPr b="1" lang="de-DE" sz="3600" spc="-1" strike="noStrike">
                <a:solidFill>
                  <a:srgbClr val="003399"/>
                </a:solidFill>
                <a:latin typeface="Arial"/>
              </a:rPr>
              <a:t>Towards the Transnational Report</a:t>
            </a:r>
            <a:br>
              <a:rPr sz="3600"/>
            </a:b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c0000"/>
                </a:solidFill>
                <a:latin typeface="Arial"/>
              </a:rPr>
              <a:t>www.plancoast.e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                                       </a:t>
            </a: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Attractivity 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2438280"/>
          <a:ext cx="7924680" cy="29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92468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873080" y="38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Discussion Forum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447832" r="0" b="0"/>
          <a:stretch/>
        </p:blipFill>
        <p:spPr>
          <a:xfrm>
            <a:off x="1219320" y="1600200"/>
            <a:ext cx="6629400" cy="411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2133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Place for your ideas...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Interactive map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Flash animation of different us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                          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Good new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plancoast.eu</a:t>
            </a:r>
            <a:r>
              <a:rPr b="0" lang="de-DE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Arial"/>
              </a:rPr>
              <a:t>till 2010!!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                        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Our websit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873920" cy="381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38480" y="2057400"/>
            <a:ext cx="838440" cy="228600"/>
          </a:xfrm>
          <a:prstGeom prst="rect">
            <a:avLst/>
          </a:prstGeom>
          <a:solidFill>
            <a:srgbClr val="d3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587920" y="248112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99"/>
                </a:solidFill>
                <a:latin typeface="Verdana"/>
              </a:rPr>
              <a:t>New visitor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1" lang="en-GB" sz="4000" spc="-1" strike="noStrike">
                <a:solidFill>
                  <a:srgbClr val="99cc00"/>
                </a:solidFill>
                <a:latin typeface="Arial"/>
              </a:rPr>
              <a:t>What do we want achieve?</a:t>
            </a: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Stronger publicity for our result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xchange platform /  network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Information point Marine Spatial Plann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Promotion of our organisation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Other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Language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English    +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iH          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?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B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MN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99"/>
                </a:solidFill>
                <a:latin typeface="Arial"/>
              </a:rPr>
              <a:t>U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cc00"/>
                </a:solidFill>
                <a:latin typeface="Arial"/>
              </a:rPr>
              <a:t>                            </a:t>
            </a:r>
            <a:r>
              <a:rPr b="1" lang="de-DE" sz="4000" spc="-1" strike="noStrike">
                <a:solidFill>
                  <a:srgbClr val="99cc00"/>
                </a:solidFill>
                <a:latin typeface="Arial"/>
              </a:rPr>
              <a:t>More</a:t>
            </a:r>
            <a:r>
              <a:rPr b="0" lang="de-DE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99cc00"/>
                </a:solidFill>
                <a:latin typeface="Arial"/>
              </a:rPr>
              <a:t>information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473228" r="0" b="0"/>
          <a:stretch/>
        </p:blipFill>
        <p:spPr>
          <a:xfrm>
            <a:off x="990720" y="1596960"/>
            <a:ext cx="7162560" cy="445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0897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6760" y="3427560"/>
            <a:ext cx="52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fc0000"/>
                </a:solidFill>
                <a:latin typeface="Verdana"/>
              </a:rPr>
              <a:t> </a:t>
            </a:r>
            <a:r>
              <a:rPr b="1" i="1" lang="de-DE" sz="800" spc="-1" strike="noStrike">
                <a:solidFill>
                  <a:srgbClr val="fc0000"/>
                </a:solidFill>
                <a:latin typeface="Verdana"/>
              </a:rPr>
              <a:t>Report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Pilot Project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Full documentation on the websit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3623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0384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48769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6386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20040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3276720" cy="1974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de-DE" sz="4400" spc="-1" strike="noStrike">
                <a:solidFill>
                  <a:srgbClr val="99cc00"/>
                </a:solidFill>
                <a:latin typeface="Arial"/>
              </a:rPr>
              <a:t>Pilot Project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Full documentation on the websit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3623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0384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876920"/>
            <a:ext cx="2971800" cy="53316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563868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200400"/>
            <a:ext cx="2971800" cy="533520"/>
          </a:xfrm>
          <a:prstGeom prst="rect">
            <a:avLst/>
          </a:prstGeom>
          <a:solidFill>
            <a:srgbClr val="e5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2766960"/>
            <a:ext cx="3048120" cy="201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9132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029200"/>
            <a:ext cx="228600" cy="380880"/>
          </a:xfrm>
          <a:prstGeom prst="octagon">
            <a:avLst>
              <a:gd name="adj" fmla="val 291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Transnational Repor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30920" cy="4703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Angela Schultz-Zehden</cp:lastModifiedBy>
  <cp:lastPrinted>2007-06-27T11:31:18Z</cp:lastPrinted>
  <dcterms:modified xsi:type="dcterms:W3CDTF">2007-07-12T10:35:51Z</dcterms:modified>
  <cp:revision>31</cp:revision>
  <dc:subject/>
  <dc:title>PowerPoint-Präsentation  -  INTERREG IIIB CADSES Project „PlanCoast“</dc:title>
</cp:coreProperties>
</file>