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078B-BABB-4CFE-9EC0-469420054C25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This imaginary pilot project is in fact very complicated, but the most signifiant problem can be summarised in 3 lines. The title could be given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858-79F4-4BD4-BCE7-E569F834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44C-86C6-442A-ACF9-F61220FB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AD5-6324-46F5-B397-D6298BED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DBD-4956-49B3-927B-BC19043B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A1E-9250-4E95-9F65-67B1F551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361-DA8F-413B-8AC7-97ED1550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085-F033-4533-AB3C-48AE5F25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2C8-FB3A-4F8C-BE4F-232F8FD8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17E-043C-4C5A-A299-1365C3E7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973-622A-44FB-A229-17C74204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A78-4025-4A02-A1EB-7E1BF86C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DB7-D512-45F7-B726-1BBF3E6C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ct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38C8-D821-4FCD-885C-603DF8C2CA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772400" y="152280"/>
          <a:ext cx="1033560" cy="852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152280"/>
                    <a:ext cx="10335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495680" y="4572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Partner Meeting 4th July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2016000" cy="755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1676520"/>
            <a:ext cx="7010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Transnational PlanCoast Stud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closer look at structure an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Presentation 4th July 2007 / Schwer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Kira G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sustainable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6: Summary of recommendations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nex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ational re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dria-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tailed case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mportant: This structure is just a mental aid a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an be adapted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ssues-based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ry chapter to have case study examp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andbook rather than desktop study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tructure of Report Chapte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ynthesis of State of Ar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 respectiv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LANCOAST countries / region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imilar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f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(taken from National Reports 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other sourc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Related samples taken from 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lanCoast Reports / Pilot Projec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The case of information collect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n Emilia Romagn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Functioning of ICZM National Committ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n Roman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llegal Housing in Pol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Conflict Resolution via Zoning in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94160" indent="-27684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94160" indent="-276840" algn="ctr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19080">
            <a:solidFill>
              <a:srgbClr val="80008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206280" indent="-12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hort Recommendations t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06280" indent="-12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patial Planners (i.e. Checklist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06280" indent="-12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06280" indent="-12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nclusions / Demands t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06280" indent="-12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olicy Mak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Back to you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7680240" y="250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-1189080" y="5373720"/>
            <a:ext cx="936720" cy="503280"/>
          </a:xfrm>
          <a:prstGeom prst="rightArrow">
            <a:avLst>
              <a:gd name="adj1" fmla="val 50000"/>
              <a:gd name="adj2" fmla="val 465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922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here to you see your case study contribution to th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ansnational stud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here do you see a specific contribution/lesson/examp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rom your national stud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tructure of National Report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Executive Summ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General Description of Spatial Planning System in the Count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volution of spatial planning in country, responsible agencies, plannin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amework, public involvement, control, urban /land /transport policies,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nvironmental protection, intro to coastal zones / maritime areas,advantages / gap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pecificities of Spatial Planning in Coastal Zo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in problems / conflicts, planning in coastal zones (urban, countryside,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ransport), advantages / ga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ntegrated Coastal Zone Managemen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mplementation of ICZM strategy, advantages / ga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ritime Spatial Planning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a uses / trends / main conflicts, main problems, state of art of maritim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patial planning, legal basis, element / contents of maritime spatial plans,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cedures / responsibilities, coordination and resolving of conflicts, land/se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tegration, practical 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nkages to International Polic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mpliance to EU recommendations, other international organisation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(HELCOM, MAP, Black Sea Commiss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commendations to be developed joint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1676520"/>
            <a:ext cx="7010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Transnational PlanCoast Stud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ilot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Kasia Scibi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sustainable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9999"/>
                </a:solidFill>
                <a:latin typeface="Verdana"/>
              </a:rPr>
              <a:t>Website: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 complete documentation 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009999"/>
                </a:solidFill>
                <a:latin typeface="Verdana"/>
              </a:rPr>
              <a:t>Transnational Report: 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chosen aspects only!</a:t>
            </a:r>
            <a:br>
              <a:rPr sz="2400"/>
            </a:br>
            <a:br>
              <a:rPr sz="24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Main theme / Main problem / Best practice / Lesson learn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7680240" y="250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Example 1: Portonovo beach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 anchorCtr="1">
            <a:normAutofit fontScale="78000"/>
          </a:bodyPr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Problem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Long tradition o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illegal cave dwelling. Recently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cliff started to collapse, pos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anger to people and their proper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wellers demand expens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protection measures from the sta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Cave dwellers have a cultural and touristic value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Besides they are the richest community me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- cannot be kicked ou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Solution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dialogue with the dwellers. Search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for compromise, time and space phased solutions.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Example 1: Portonovo beach </a:t>
            </a:r>
            <a:br>
              <a:rPr sz="2800"/>
            </a:b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Dealing with illegal practi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 anchorCtr="1">
            <a:normAutofit fontScale="78000"/>
          </a:bodyPr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Problem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Long tradition o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illegal cave dwelling. Recently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cliff started to collapse, pos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anger to people and their proper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wellers demand expens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protection measures from the sta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Cave dwellers have a cultural and touristic value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Besides they are the richest community me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- cannot be kicked ou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Solution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dialogue with the dwellers. Search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for compromise, time and space phased solutions.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Example 2: Emilia Romagna GIS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3067" t="22076" r="12133" b="13016"/>
          <a:stretch/>
        </p:blipFill>
        <p:spPr>
          <a:xfrm>
            <a:off x="3276720" y="1981080"/>
            <a:ext cx="51051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4114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 anchorCtr="1">
            <a:normAutofit fontScale="75000"/>
          </a:bodyPr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Problem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DG Environm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wants to prepare a ‚Coast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efence Catalogue‘ of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existing coastal informatio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ata from many different administrations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private companies such as enrgy providers is needed but the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-285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on’t have a digital datab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-285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not always willing to shar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Solution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creating win-win situ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Offering the product (catalogue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in exchange for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WEB-GIS as an instru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4628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The transnational report is your report!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782440"/>
            <a:ext cx="7696080" cy="33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ur role: Co-ordinators, co-authors, ed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oday: agree on overall structure and purp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.Pro will th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eep developing that structure in response to your n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ull together information from various sour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rite and edit the final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7680240" y="250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Example 2: Emilia Romagna GIS </a:t>
            </a:r>
            <a:br>
              <a:rPr sz="2800"/>
            </a:b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Data colle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3067" t="22076" r="12133" b="13016"/>
          <a:stretch/>
        </p:blipFill>
        <p:spPr>
          <a:xfrm>
            <a:off x="3276720" y="1981080"/>
            <a:ext cx="510516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4114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 anchorCtr="1">
            <a:normAutofit fontScale="75000"/>
          </a:bodyPr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Problem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DG Environm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wants to prepare a ‚Coast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efence Catalogue‘ of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existing coastal informatio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ata from many different administrations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private companies such as enrgy providers is needed but the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-285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don’t have a digital datab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-285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not always willing to shar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Solution: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creating win-win situ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Offering the product (catalogue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in exchange for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WEB-GIS as an instru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Your project‘s theme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Purpose of the transnational repor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ain target group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SPATIAL PLANNERS responsible for Coast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ones / Maritime Areas, additional target groups at policy level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cision-makers, researcher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urpose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to provide hands-on guidance (tools/instrument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n how to realise effective planning for coastal zones / maritime are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ho do we want to addres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hat are the needs of our chosen target group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hat messages are particularly importan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hat are the expectations: Yours, of target group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7680240" y="250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013360"/>
            <a:ext cx="936720" cy="503280"/>
          </a:xfrm>
          <a:prstGeom prst="rightArrow">
            <a:avLst>
              <a:gd name="adj1" fmla="val 50000"/>
              <a:gd name="adj2" fmla="val 4653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45920"/>
            <a:ext cx="7772400" cy="91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posed structure of the transnational repo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03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hy spatial planning in coastal zones/maritime are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curing the necessary baselin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ow to carry out spatial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plementation, monitoring and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upporting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ummary of recommend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nex: CD R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29920"/>
            <a:ext cx="777240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1: Why spatial planning?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asts and seas: some global tre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limate cha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ea level ri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creasing pressure on coastal and marin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asts and seas : increasing complexity of demands on 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ome national trends and examp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need for an integrated perspectiv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nd and sea are closely interconnec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terdependent impa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e international context of the s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2: Spatial planning on which basis? Securing the necessary baseline inform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ockta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aking stock of the coast and the sea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ocktake of coastal and marin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ocktake of systems inter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ocktake of spatially relevant impa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ocktake of the administrative frame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om stocktaking to assess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ow to rate trends and impa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veloping a needs-based planning appro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e importance of clear planning aims and objectives („Visions“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ta n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vailable data and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ollecting and exchanging data (results of the PlanCoast GIS grou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3: How to carry out spatial plann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stablishing the frame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rom stocktakes to policy frameworks to implementation and contro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e special role of monitoring and respective data need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paring spatial plans: core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ctical consideration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ppropriateness of scale and delineation of planning sp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tegration of land and s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e planning pro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ho to involve how and whe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ccess to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Outcomes and outpu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rocess monitoring and timesca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sponsibilities: Who is tasked with wha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actical examples at different sc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4: Implementation of plans, monitoring and control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he regulatory/legal context for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neral information from the count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blems with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ssential prerequisites for successful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e importance of context: what works in one countr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ay not work in ano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rticipation and accep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articipation as a key driver of accept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ublic participation in decision-mak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xamples of participative proc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30280"/>
            <a:ext cx="777240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apter 5: Supporting processes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432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upporting decision-making structures at a national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egional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role of international projects and proc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U Green Pap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EL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EP-M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lack Sea Commission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egrating different decision-making processes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nerating involv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ina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8:49:10Z</dcterms:created>
  <dc:creator>Angela Schultz-Zehden</dc:creator>
  <dc:description/>
  <dc:language>en-US</dc:language>
  <cp:lastModifiedBy>Angela Schultz-Zehden</cp:lastModifiedBy>
  <cp:lastPrinted>2006-06-01T18:43:13Z</cp:lastPrinted>
  <dcterms:modified xsi:type="dcterms:W3CDTF">2007-07-12T08:59:30Z</dcterms:modified>
  <cp:revision>34</cp:revision>
  <dc:subject/>
  <dc:title>PowerPoint-Präsentation</dc:title>
</cp:coreProperties>
</file>