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6C8B-53FB-412E-A433-FC589E544132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his imaginary pilot project is in fact very complicated, but the most signifiant problem can be summarised in 3 lines. The title could be give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E22-6979-4B97-A4EF-B022A51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3AD-7722-497A-945C-F0182387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A09-5812-457B-BB56-436B44EA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EF5-27E1-485B-9F00-80C53EEE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4F6-CA5B-496E-BBB7-4E17664B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AF7-859C-4ACA-8B0B-ACCAEF19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11C-F07D-4AEB-816D-DFC6C8E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E91-06CA-4ECA-B23A-5878D4EF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38E-AF31-438B-A1F4-BE99052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0D6-F725-4180-8A0B-190EEA28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2D0-67D2-4234-96B4-B8A1D1E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EDC-3FA1-458C-957D-1656C49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192B-EA4E-4C5D-B35C-2BA16095C1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772400" y="152280"/>
          <a:ext cx="1033560" cy="85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152280"/>
                    <a:ext cx="10335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495680" y="4572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Partner Meeting 4th July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2016000" cy="755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1676520"/>
            <a:ext cx="7010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Transnational PlanCoast Stud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closer look at structure an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Presentation 4th July 2007 / Schwer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Kira G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ustainable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6: Summary of recommendations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nex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ational 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dria-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tailed case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portant: This structure is just a mental aid 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an be adapted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ssues-based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ry chapter to have case study examp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andbook rather than desktop study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ructure of Report Chapte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ynthesis of State of A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 respectiv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LANCOAST countries / region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imilar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taken from National Reports 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other sourc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Related samples taken from 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lanCoast Reports / Pilot Projec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he case of information collec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 Emilia Romagn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Functioning of ICZM National Committ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 Roman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llegal Housing in Pol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Conflict Resolution via Zoning in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94160" indent="-27684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94160" indent="-276840" algn="ctr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hort Recommendations 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patial Planners (i.e. Checklis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clusions / Demands 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olicy Mak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Back to you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-1189080" y="5373720"/>
            <a:ext cx="936720" cy="503280"/>
          </a:xfrm>
          <a:prstGeom prst="rightArrow">
            <a:avLst>
              <a:gd name="adj1" fmla="val 50000"/>
              <a:gd name="adj2" fmla="val 465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922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here to you see your case study contribution to t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nsnational stud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here do you see a specific contribution/lesson/examp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rom your national stud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tructure of National Report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Executive Summ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General Description of Spatial Planning System in the Count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volution of spatial planning in country, responsible agencies, plannin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amework, public involvement, control, urban /land /transport policies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nvironmental protection, intro to coastal zones / maritime areas,advantages / gap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pecificities of Spatial Planning in Coastal Zo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n problems / conflicts, planning in coastal zones (urban, countryside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ransport), advantages / ga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ntegrated Coastal Zone Managemen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mplementation of ICZM strategy, advantages / ga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ritime Spatial Planning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a uses / trends / main conflicts, main problems, state of art of maritim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patial planning, legal basis, element / contents of maritime spatial plans,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cedures / responsibilities, coordination and resolving of conflicts, land/se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tegration, practical 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nkages to International Polic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mpliance to EU recommendations, other international organisation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(HELCOM, MAP, Black Sea Commiss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commendations to be developed joint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676520"/>
            <a:ext cx="7010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Transnational PlanCoast Stud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ilot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Kasia Scibi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ustainable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9999"/>
                </a:solidFill>
                <a:latin typeface="Verdana"/>
              </a:rPr>
              <a:t>Website: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 complete documentation 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9999"/>
                </a:solidFill>
                <a:latin typeface="Verdana"/>
              </a:rPr>
              <a:t>Transnational Report: 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chosen aspects only!</a:t>
            </a:r>
            <a:br>
              <a:rPr sz="2400"/>
            </a:br>
            <a:br>
              <a:rPr sz="24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Main theme / Main problem / Best practice / Lesson learn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1: Portonovo beach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 anchorCtr="1">
            <a:normAutofit fontScale="78000"/>
          </a:bodyPr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Long tradition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llegal cave dwelling. Recently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liff started to collapse, pos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nger to people and their proper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wellers dem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otection measures from the sta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ave dwellers have a cultural and touristic value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sides they are the richest community me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- cannot be kicked ou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ialogue with the dwellers. Search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for compromise, time and space phased solutions.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1: Portonovo beach </a:t>
            </a:r>
            <a:br>
              <a:rPr sz="2800"/>
            </a:b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Dealing with illegal practi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 anchorCtr="1">
            <a:normAutofit fontScale="78000"/>
          </a:bodyPr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Long tradition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llegal cave dwelling. Recently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liff started to collapse, pos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nger to people and their proper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wellers dem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otection measures from the sta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ave dwellers have a cultural and touristic value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sides they are the richest community me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- cannot be kicked ou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ialogue with the dwellers. Search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for compromise, time and space phased solutions.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2: Emilia Romagna GIS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3067" t="22076" r="12133" b="13016"/>
          <a:stretch/>
        </p:blipFill>
        <p:spPr>
          <a:xfrm>
            <a:off x="3276720" y="1981080"/>
            <a:ext cx="51051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 anchorCtr="1">
            <a:normAutofit fontScale="75000"/>
          </a:bodyPr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G Environ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ants to prepare a ‚Coas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efence Catalogue‘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existing coastal informatio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ta from many different administrations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ivate companies such as enrgy providers is needed but the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on’t have a digital datab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not always willing to shar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creating win-win situ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Offering the product (catalogue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n exchange for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EB-GIS as an instru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462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The transnational report is your report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782440"/>
            <a:ext cx="7696080" cy="33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ur role: Co-ordinators, co-authors, ed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oday: agree on overall structure and purp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.Pro will t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eep developing that structure in response to your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ull together information from various sour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rite and edit the final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2: Emilia Romagna GIS </a:t>
            </a:r>
            <a:br>
              <a:rPr sz="2800"/>
            </a:b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Data colle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3067" t="22076" r="12133" b="13016"/>
          <a:stretch/>
        </p:blipFill>
        <p:spPr>
          <a:xfrm>
            <a:off x="3276720" y="1981080"/>
            <a:ext cx="510516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 anchorCtr="1">
            <a:normAutofit fontScale="75000"/>
          </a:bodyPr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G Environ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ants to prepare a ‚Coas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efence Catalogue‘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existing coastal informatio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ta from many different administrations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ivate companies such as enrgy providers is needed but the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on’t have a digital datab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not always willing to shar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creating win-win situ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Offering the product (catalogue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n exchange for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EB-GIS as an instru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Your project‘s theme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Purpose of the transnational repor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ain target group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PATIAL PLANNERS responsible for Coast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ones / Maritime Areas, additional target groups at policy level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cision-makers, researcher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urpose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to provide hands-on guidance (tools/instrument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n how to realise effective planning for coastal zones / maritime are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o do we want to addres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at are the needs of our chosen target group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at messages are particularly importan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at are the expectations: Yours, of target group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013360"/>
            <a:ext cx="936720" cy="503280"/>
          </a:xfrm>
          <a:prstGeom prst="rightArrow">
            <a:avLst>
              <a:gd name="adj1" fmla="val 50000"/>
              <a:gd name="adj2" fmla="val 465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45920"/>
            <a:ext cx="777240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posed structure of the transnational repo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03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hy spatial planning in coastal zones/maritime are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curing the necessary baselin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ow to carry out spatia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plementation, monitoring and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pporting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mmary of recommend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nex: CD R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29920"/>
            <a:ext cx="777240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1: Why spatial planning?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asts and seas: some global tre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ea level ri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creasing pressure on coastal and marin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asts and seas : increasing complexity of demands on 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ome national trends and examp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need for an integrated perspectiv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 and sea are closely interconnec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terdependent imp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international context of the s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2: Spatial planning on which basis? Securing the necessary baseline inform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ockt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aking stock of the coast and the sea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coastal and marin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systems inter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spatially relevant imp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the administrative frame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stocktaking to assess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ow to rate trends and impa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veloping a needs-based planning appro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importance of clear planning aims and objectives („Visions“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ta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vailable data and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ollecting and exchanging data (results of the PlanCoast GIS grou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3: How to carry out spatial plann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stablishing the frame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rom stocktakes to policy frameworks to implementation and contr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special role of monitoring and respective data n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paring spatial plans: core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ctical consideration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ppropriateness of scale and delineation of planning s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tegration of land and s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planning pro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ho to involve how and whe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ccess to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Outcomes and outpu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ocess monitoring and timesc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sponsibilities: Who is tasked with wha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actical examples at different sc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4: Implementation of plans, monitoring and control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e regulatory/legal context for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neral information from the count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blems with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ssential prerequisites for successful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importance of context: what works in one count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ay not work in ano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ticipation and accep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articipation as a key driver of accep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ublic participation in decision-mak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xamples of participative proc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5: Supporting processes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upporting decision-making structures at a national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gional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role of international projects and proc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U Green Pap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EL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EP-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lack Sea Commission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grating different decision-making processes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nerating involv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na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8:49:10Z</dcterms:created>
  <dc:creator>Angela Schultz-Zehden</dc:creator>
  <dc:description/>
  <dc:language>en-US</dc:language>
  <cp:lastModifiedBy>Angela Schultz-Zehden</cp:lastModifiedBy>
  <cp:lastPrinted>2006-06-01T18:43:13Z</cp:lastPrinted>
  <dcterms:modified xsi:type="dcterms:W3CDTF">2007-07-12T08:59:30Z</dcterms:modified>
  <cp:revision>34</cp:revision>
  <dc:subject/>
  <dc:title>PowerPoint-Präsentation</dc:title>
</cp:coreProperties>
</file>