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ct" ContentType="image/x-pict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4255200"/>
            <a:ext cx="860436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419868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48200" y="1773360"/>
            <a:ext cx="419868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4255200"/>
            <a:ext cx="419868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48200" y="4255200"/>
            <a:ext cx="419868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277020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48440" y="1773360"/>
            <a:ext cx="277020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57600" y="1773360"/>
            <a:ext cx="277020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4255200"/>
            <a:ext cx="277020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48440" y="4255200"/>
            <a:ext cx="277020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57600" y="4255200"/>
            <a:ext cx="277020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4198680" cy="4751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48200" y="1773360"/>
            <a:ext cx="4198680" cy="4751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657360"/>
            <a:ext cx="91440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419868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8200" y="1773360"/>
            <a:ext cx="4198680" cy="4751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9280" y="4255200"/>
            <a:ext cx="419868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4198680" cy="4751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8200" y="1773360"/>
            <a:ext cx="419868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48200" y="4255200"/>
            <a:ext cx="419868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419868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48200" y="1773360"/>
            <a:ext cx="419868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9280" y="4255200"/>
            <a:ext cx="860436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9280" y="4255200"/>
            <a:ext cx="860436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419868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48200" y="1773360"/>
            <a:ext cx="419868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9280" y="4255200"/>
            <a:ext cx="419868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48200" y="4255200"/>
            <a:ext cx="419868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277020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8440" y="1773360"/>
            <a:ext cx="277020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57600" y="1773360"/>
            <a:ext cx="277020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9280" y="4255200"/>
            <a:ext cx="277020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8440" y="4255200"/>
            <a:ext cx="277020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57600" y="4255200"/>
            <a:ext cx="277020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4198680" cy="4751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8200" y="1773360"/>
            <a:ext cx="4198680" cy="4751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657360"/>
            <a:ext cx="91440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419868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8200" y="1773360"/>
            <a:ext cx="4198680" cy="4751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4255200"/>
            <a:ext cx="419868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4198680" cy="4751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8200" y="1773360"/>
            <a:ext cx="419868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48200" y="4255200"/>
            <a:ext cx="419868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419868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8200" y="1773360"/>
            <a:ext cx="419868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4255200"/>
            <a:ext cx="8604360" cy="2266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ct"/><Relationship Id="rId4" Type="http://schemas.openxmlformats.org/officeDocument/2006/relationships/image" Target="../media/image3.png"/><Relationship Id="rId5" Type="http://schemas.openxmlformats.org/officeDocument/2006/relationships/image" Target="../media/image4.pct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2.pct"/><Relationship Id="rId4" Type="http://schemas.openxmlformats.org/officeDocument/2006/relationships/image" Target="../media/image3.png"/><Relationship Id="rId5" Type="http://schemas.openxmlformats.org/officeDocument/2006/relationships/image" Target="../media/image4.pct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-3240"/>
            <a:ext cx="915192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270000" indent="-270000"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  <a:p>
            <a:pPr lvl="1" marL="625320" indent="-176040"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  <a:p>
            <a:pPr lvl="2" marL="1150920" indent="-228600">
              <a:spcBef>
                <a:spcPts val="601"/>
              </a:spcBef>
              <a:buClr>
                <a:srgbClr val="ff9933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380360" y="33480"/>
            <a:ext cx="533160" cy="5396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8101080" y="54000"/>
            <a:ext cx="960480" cy="3603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6804000" y="54000"/>
            <a:ext cx="500040" cy="358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52560" y="44280"/>
            <a:ext cx="536400" cy="360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92200" y="376200"/>
            <a:ext cx="12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Arial"/>
              </a:rPr>
              <a:t>This project is co-funded by the European Un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2560" cy="686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2000" y="1920960"/>
            <a:ext cx="6912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99"/>
                </a:solidFill>
                <a:latin typeface="Verdana"/>
              </a:rPr>
              <a:t>Conference on Marine Spatial Planning</a:t>
            </a:r>
            <a:r>
              <a:rPr b="0" i="1" lang="hr-HR" sz="1200" spc="-1" strike="noStrike">
                <a:solidFill>
                  <a:srgbClr val="000099"/>
                </a:solidFill>
                <a:latin typeface="Verdana"/>
              </a:rPr>
              <a:t> – </a:t>
            </a:r>
            <a:r>
              <a:rPr b="0" i="1" lang="en-US" sz="1200" spc="-1" strike="noStrike">
                <a:solidFill>
                  <a:srgbClr val="000099"/>
                </a:solidFill>
                <a:latin typeface="Verdana"/>
              </a:rPr>
              <a:t>Supetar</a:t>
            </a:r>
            <a:r>
              <a:rPr b="0" i="1" lang="hr-HR" sz="1200" spc="-1" strike="noStrike">
                <a:solidFill>
                  <a:srgbClr val="000099"/>
                </a:solidFill>
                <a:latin typeface="Verdana"/>
              </a:rPr>
              <a:t>,</a:t>
            </a:r>
            <a:r>
              <a:rPr b="0" i="1" lang="en-US" sz="1200" spc="-1" strike="noStrike">
                <a:solidFill>
                  <a:srgbClr val="000099"/>
                </a:solidFill>
                <a:latin typeface="Verdana"/>
              </a:rPr>
              <a:t> Croatia, 20-22 September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95200" y="4905360"/>
            <a:ext cx="892080" cy="903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49400" y="5987880"/>
            <a:ext cx="1436400" cy="540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24000" y="3792600"/>
            <a:ext cx="1003320" cy="718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6000" y="376200"/>
            <a:ext cx="122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Arial"/>
              </a:rPr>
              <a:t>This project is co-funded by the European Un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Verdana"/>
            </a:endParaRPr>
          </a:p>
          <a:p>
            <a:pPr lvl="1" marL="449280" indent="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  <a:p>
            <a:pPr lvl="2" marL="914400" indent="7920" algn="ctr">
              <a:spcBef>
                <a:spcPts val="499"/>
              </a:spcBef>
              <a:buClr>
                <a:srgbClr val="ff9933"/>
              </a:buClr>
              <a:buSzPct val="8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32000" y="1920960"/>
            <a:ext cx="6912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Verdana"/>
              </a:rPr>
              <a:t>Conference on Marine Spatial Planning</a:t>
            </a:r>
            <a:endParaRPr b="1" lang="en-US" sz="36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31640" y="3625920"/>
            <a:ext cx="6908760" cy="14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Verdana"/>
              </a:rPr>
              <a:t>Objectives</a:t>
            </a:r>
            <a:endParaRPr b="0" lang="en-US" sz="2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Verdana"/>
              </a:rPr>
              <a:t>Introduction</a:t>
            </a: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270000" indent="-270000"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Verdana"/>
              </a:rPr>
              <a:t>3</a:t>
            </a:r>
            <a:r>
              <a:rPr b="0" lang="en-GB" sz="2400" spc="-1" strike="noStrike" baseline="30000">
                <a:solidFill>
                  <a:srgbClr val="ffff99"/>
                </a:solidFill>
                <a:latin typeface="Verdana"/>
              </a:rPr>
              <a:t>rd</a:t>
            </a:r>
            <a:r>
              <a:rPr b="0" lang="en-GB" sz="2400" spc="-1" strike="noStrike">
                <a:solidFill>
                  <a:srgbClr val="ffff99"/>
                </a:solidFill>
                <a:latin typeface="Verdana"/>
              </a:rPr>
              <a:t> Conference in the framework of PlanCoast project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  <a:p>
            <a:pPr marL="270000" indent="-270000"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Verdana"/>
              </a:rPr>
              <a:t>PAP/RAC partner + new activity/initiative of MAP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  <a:p>
            <a:pPr marL="270000" indent="-270000"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Verdana"/>
              </a:rPr>
              <a:t>PlanCoast = INTERREG </a:t>
            </a:r>
            <a:r>
              <a:rPr b="0" sz="2400" spc="-1" strike="noStrike">
                <a:solidFill>
                  <a:srgbClr val="ffff99"/>
                </a:solidFill>
                <a:latin typeface="Verdana"/>
              </a:rPr>
              <a:t>III B CADSES project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  <a:p>
            <a:pPr marL="270000" indent="-270000"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Verdana"/>
              </a:rPr>
              <a:t>Participants: 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  <a:p>
            <a:pPr lvl="1" marL="625320" indent="-176040">
              <a:spcBef>
                <a:spcPts val="374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Verdana"/>
              </a:rPr>
              <a:t>PlanCoast Partners (16, from Baltic, Black Sea and Adriatic), </a:t>
            </a: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  <a:p>
            <a:pPr lvl="1" marL="625320" indent="-176040">
              <a:spcBef>
                <a:spcPts val="374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Verdana"/>
              </a:rPr>
              <a:t>other Mediterranean countries and </a:t>
            </a: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  <a:p>
            <a:pPr lvl="1" marL="625320" indent="-176040">
              <a:spcBef>
                <a:spcPts val="374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Verdana"/>
              </a:rPr>
              <a:t>members of the Adriatic Forum ICZM Expert Group</a:t>
            </a: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Verdana"/>
              </a:rPr>
              <a:t>General objectives</a:t>
            </a: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270000" indent="-270000"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Verdana"/>
              </a:rPr>
              <a:t>related to PAP/RAC (MAP) and PlanCoast project</a:t>
            </a:r>
            <a:r>
              <a:rPr b="0" lang="hr-HR" sz="2400" spc="-1" strike="noStrike">
                <a:solidFill>
                  <a:srgbClr val="ffff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  <a:p>
            <a:pPr lvl="1" marL="625320" indent="-176040">
              <a:spcBef>
                <a:spcPts val="374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Verdana"/>
              </a:rPr>
              <a:t>to review the work done and harmonise/coordinate on-going and future activities of PlanCoast</a:t>
            </a: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  <a:p>
            <a:pPr lvl="1" marL="625320" indent="-176040">
              <a:spcBef>
                <a:spcPts val="374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Verdana"/>
              </a:rPr>
              <a:t>to build a common understanding on MSP in Europe in a view of proposed EC Directive</a:t>
            </a: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  <a:p>
            <a:pPr lvl="1" marL="625320" indent="-176040">
              <a:spcBef>
                <a:spcPts val="374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Verdana"/>
              </a:rPr>
              <a:t>to contribute to introducing a relatively new field of spatial planning in coastal areas in the Adriatic Region and Mediterranean  </a:t>
            </a: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  <a:p>
            <a:pPr lvl="1" marL="625320" indent="-176040">
              <a:spcBef>
                <a:spcPts val="374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Verdana"/>
              </a:rPr>
              <a:t>to promote and discuss the topic of marine spatial planning in ICZM in a wider field of Mediterranean region and organisations </a:t>
            </a: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Verdana"/>
              </a:rPr>
              <a:t>General objectives cont.</a:t>
            </a: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lvl="1" marL="625320" indent="-176040">
              <a:spcBef>
                <a:spcPts val="374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Verdana"/>
              </a:rPr>
              <a:t>to contribute to raising the awareness and influencing policy and procedures in this area throughout the Mediterranean countries</a:t>
            </a: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  <a:p>
            <a:pPr lvl="1" marL="625320" indent="-176040">
              <a:spcBef>
                <a:spcPts val="374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Verdana"/>
              </a:rPr>
              <a:t>to share and exchange experiences and lessons learnt with different countries </a:t>
            </a: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  <a:p>
            <a:pPr lvl="1" marL="625320" indent="-176040">
              <a:spcBef>
                <a:spcPts val="374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Verdana"/>
              </a:rPr>
              <a:t>to stimulate discussion at national levels of the importance of maritime spatial planning</a:t>
            </a: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  <a:p>
            <a:pPr lvl="1" marL="625320" indent="-176040">
              <a:spcBef>
                <a:spcPts val="374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Verdana"/>
              </a:rPr>
              <a:t>to provide grounds for the implementation of the provisions of the ICZM Protocol once adopted </a:t>
            </a: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  <a:p>
            <a:pPr lvl="1" marL="625320" indent="-176040">
              <a:spcBef>
                <a:spcPts val="374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Verdana"/>
              </a:rPr>
              <a:t>to assist the implementation of objectives related to ICZM (co-ordination and integration of the sea and land part of the coast zones)</a:t>
            </a: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Verdana"/>
              </a:rPr>
              <a:t>Specific objectives</a:t>
            </a: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270000" indent="-270000"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Verdana"/>
              </a:rPr>
              <a:t>related to PlanCoast project</a:t>
            </a:r>
            <a:r>
              <a:rPr b="0" lang="hr-HR" sz="2400" spc="-1" strike="noStrike">
                <a:solidFill>
                  <a:srgbClr val="ffff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  <a:p>
            <a:pPr lvl="1" marL="625320" indent="-176040">
              <a:spcBef>
                <a:spcPts val="374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Verdana"/>
              </a:rPr>
              <a:t>to review the progress on specific PlanCoast sub-projects (pilot projects)</a:t>
            </a: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  <a:p>
            <a:pPr lvl="1" marL="625320" indent="-176040">
              <a:spcBef>
                <a:spcPts val="374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Verdana"/>
              </a:rPr>
              <a:t>to coordinate future activities</a:t>
            </a: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  <a:p>
            <a:pPr marL="270000" indent="-270000"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Verdana"/>
              </a:rPr>
              <a:t>related to Mediterranean countries</a:t>
            </a:r>
            <a:r>
              <a:rPr b="0" lang="hr-HR" sz="2400" spc="-1" strike="noStrike">
                <a:solidFill>
                  <a:srgbClr val="ffff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  <a:p>
            <a:pPr lvl="1" marL="625320" indent="-176040">
              <a:spcBef>
                <a:spcPts val="374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Verdana"/>
              </a:rPr>
              <a:t>to review the situation in the region, assess the need for MSP</a:t>
            </a: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  <a:p>
            <a:pPr lvl="1" marL="625320" indent="-176040">
              <a:spcBef>
                <a:spcPts val="374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Verdana"/>
              </a:rPr>
              <a:t>to propose future steps in the development of MSP in the framework of Barcelona Convention</a:t>
            </a: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  <a:p>
            <a:pPr marL="270000" indent="-270000"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Verdana"/>
              </a:rPr>
              <a:t>related to Adriatic Forum on IZCM</a:t>
            </a:r>
            <a:r>
              <a:rPr b="0" lang="hr-HR" sz="2400" spc="-1" strike="noStrike">
                <a:solidFill>
                  <a:srgbClr val="ffff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  <a:p>
            <a:pPr lvl="1" marL="625320" indent="-176040">
              <a:spcBef>
                <a:spcPts val="374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Verdana"/>
              </a:rPr>
              <a:t>to continue discussion on the ICZM plan and projects for the Palombina beach in Ancona</a:t>
            </a: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Verdana"/>
              </a:rPr>
              <a:t>Summary of PAP/RAC activities </a:t>
            </a: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270000" indent="-270000"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Verdana"/>
              </a:rPr>
              <a:t>National Reports on current policy, procedures, legal basis, practice of marine spatial planning for 6 Adriatic countries + additional brief reports from some Med countries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  <a:p>
            <a:pPr marL="270000" indent="-270000"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Verdana"/>
              </a:rPr>
              <a:t>Synthesis Report for Adriatic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  <a:p>
            <a:pPr marL="270000" indent="-270000"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Verdana"/>
              </a:rPr>
              <a:t>Report on marine spatial planning (Theoretical overview, Best practices) 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  <a:p>
            <a:pPr marL="270000" indent="-270000"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Verdana"/>
              </a:rPr>
              <a:t>Conference on Marine Spatial Planning 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Verdana"/>
              </a:rPr>
              <a:t>Introduction of the Agenda</a:t>
            </a: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Verdana"/>
              </a:rPr>
              <a:t>Organisation of work</a:t>
            </a:r>
            <a:endParaRPr b="1" lang="en-US" sz="30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270000" indent="-270000"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Verdana"/>
              </a:rPr>
              <a:t>presentations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  <a:p>
            <a:pPr marL="270000" indent="-270000"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Verdana"/>
              </a:rPr>
              <a:t>panel discussions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  <a:p>
            <a:pPr marL="270000" indent="-270000"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Verdana"/>
              </a:rPr>
              <a:t>WGs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  <a:p>
            <a:pPr marL="270000" indent="-270000"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Verdana"/>
              </a:rPr>
              <a:t>parallel sessions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3:25:06Z</dcterms:created>
  <dc:creator>SP</dc:creator>
  <dc:description/>
  <dc:language>en-US</dc:language>
  <cp:lastModifiedBy>Angela Schultz-Zehden</cp:lastModifiedBy>
  <dcterms:modified xsi:type="dcterms:W3CDTF">2007-09-24T10:36:31Z</dcterms:modified>
  <cp:revision>16</cp:revision>
  <dc:subject/>
  <dc:title>Slajd 1</dc:title>
</cp:coreProperties>
</file>