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0.pct" ContentType="image/x-pict"/>
  <Override PartName="/ppt/media/image19.jpeg" ContentType="image/jpeg"/>
  <Override PartName="/ppt/media/image1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17.pct" ContentType="image/x-pict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C06-D42C-47FA-AB71-BB5E7876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B6C-3FFF-43F1-91B8-D5311F3D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56E-B02E-49FD-BEB2-BFB30D53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B53-D455-453E-9181-8E3121C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756-BDAF-4B86-A5DA-5BC0A2E0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5E7-E5FB-4FCF-BEF8-1C734A90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84A-BC17-4D0C-8BDA-410DD11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F69-794D-4A1D-80F6-56C41CB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CCE-B5FD-485D-9B3C-59CBEDD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2A3-065E-4872-AC86-CFA285C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E79-4D33-423B-8EE9-3157B10E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CE6-878D-44AE-8C61-EE58314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60CF-736C-4B7C-944F-3B9927DE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MARCHE REGION D.A.M.A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Security and defence of the sea  and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5734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Geof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LEONARDO POLON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9487"/>
          <a:stretch/>
        </p:blipFill>
        <p:spPr>
          <a:xfrm>
            <a:off x="826920" y="6093000"/>
            <a:ext cx="1116360" cy="23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6192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316320" cy="2262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4763" t="11023" r="20766" b="11023"/>
          <a:stretch/>
        </p:blipFill>
        <p:spPr>
          <a:xfrm>
            <a:off x="3851280" y="1628640"/>
            <a:ext cx="4870440" cy="3681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313080" cy="2171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2708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ahoma"/>
              </a:rPr>
              <a:t>Prestige  (Galiz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587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Jessica (Galapag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damac_logo"/>
          <p:cNvPicPr/>
          <p:nvPr/>
        </p:nvPicPr>
        <p:blipFill>
          <a:blip r:embed="rId4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"/>
          <p:cNvPicPr/>
          <p:nvPr/>
        </p:nvPicPr>
        <p:blipFill>
          <a:blip r:embed="rId5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96640" y="404640"/>
            <a:ext cx="505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SCENARIOS MAN MADE DISASTERS IN ADRI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SEA EXPECTED, NOT IF…  BUT WHE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40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Le zone di cattura dell’Eledone moscata  (Calamaro) in Adriatico (con i toni più scuri le aree di maggior cattura).</a:t>
            </a:r>
            <a:br>
              <a:rPr sz="2000"/>
            </a:b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 Relazione con la dispersione dell’oil spill soprattutto sulla costa dell’I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a"/>
          <p:cNvPicPr/>
          <p:nvPr/>
        </p:nvPicPr>
        <p:blipFill>
          <a:blip r:embed="rId3"/>
          <a:stretch/>
        </p:blipFill>
        <p:spPr>
          <a:xfrm>
            <a:off x="6877080" y="6578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7200720" cy="450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84360" y="260280"/>
            <a:ext cx="4392720" cy="1079640"/>
          </a:xfrm>
          <a:prstGeom prst="downArrowCallout">
            <a:avLst>
              <a:gd name="adj1" fmla="val 101726"/>
              <a:gd name="adj2" fmla="val 101717"/>
              <a:gd name="adj3" fmla="val 16667"/>
              <a:gd name="adj4" fmla="val 66667"/>
            </a:avLst>
          </a:prstGeom>
          <a:solidFill>
            <a:srgbClr val="0000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490680"/>
            <a:ext cx="4030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 “</a:t>
            </a: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SOFT” </a:t>
            </a:r>
            <a:r>
              <a:rPr b="1" lang="en-GB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DISAS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04640"/>
            <a:ext cx="1441440" cy="2300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pote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Km 47 di c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Non balneabilità per  3 mesi ES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5702400"/>
            <a:ext cx="871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192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tons of oil released so far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45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Hours after start of spill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200.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Pixel size (m) for spill plotting  - modello MEDSL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39.78 % evapora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12.39 % superficie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 19.39 % disperso    28.44 % raggiunge la cost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997360"/>
            <a:ext cx="1152360" cy="165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5 vol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damac_logo"/>
          <p:cNvPicPr/>
          <p:nvPr/>
        </p:nvPicPr>
        <p:blipFill>
          <a:blip r:embed="rId2"/>
          <a:srcRect l="0" t="0" r="0" b="19802"/>
          <a:stretch/>
        </p:blipFill>
        <p:spPr>
          <a:xfrm>
            <a:off x="8204040" y="6661080"/>
            <a:ext cx="93996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468360" y="1773360"/>
            <a:ext cx="8424720" cy="2639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4581360"/>
            <a:ext cx="7559640" cy="1477080"/>
          </a:xfrm>
          <a:prstGeom prst="rect">
            <a:avLst/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ourist activities and the beaches would disappear during the first year of disast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 it would move to similar resorts to the north and sou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would happen in the years to co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549360"/>
            <a:ext cx="4392720" cy="1079280"/>
          </a:xfrm>
          <a:prstGeom prst="downArrowCallout">
            <a:avLst>
              <a:gd name="adj1" fmla="val 101760"/>
              <a:gd name="adj2" fmla="val 101751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1800" y="837720"/>
            <a:ext cx="7340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Tahoma"/>
              </a:rPr>
              <a:t> “</a:t>
            </a:r>
            <a:r>
              <a:rPr b="1" lang="it-IT" sz="3200" spc="-1" strike="noStrike">
                <a:solidFill>
                  <a:srgbClr val="f8f8f8"/>
                </a:solidFill>
                <a:latin typeface="Tahoma"/>
              </a:rPr>
              <a:t>SOFT” </a:t>
            </a:r>
            <a:r>
              <a:rPr b="1" lang="en-GB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ISAS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Plan Proposal to reduce the d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 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Forming a permanent working group for  confrontation  and agreement between small  and big  intereste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VTS monitor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Limit value for vessel to be destroyed  and severe vesse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Limits to the navigation  in bad meteorolog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Automatic Identification System(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Monitoring  systems and their improv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Sea  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574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MPOSSIBLE SEA 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2840" y="11793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ONLY TWO POSSIBLE HAROBOURS: PLOCE AND RIJE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6320"/>
            <a:ext cx="91440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STRADA DEL M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QUE TERRITORIAL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ACQUE INTERNAZIONALI-ZONA DI PROTEZIO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LOG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824040"/>
            <a:ext cx="30492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1184400"/>
            <a:ext cx="30492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4360" y="1544760"/>
            <a:ext cx="3049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915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D.A.M.A.C.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Tahoma"/>
              </a:rPr>
              <a:t>Environment Defence of the Adriatic Sea and Communications</a:t>
            </a: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16556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The general purpose of the project called D.A.M.A.C. (Environment Defence of the Adriatic Sea and Communications) consists in organising within European Community Programme INTERREG III A an important partnership between Marche Region and Zadar County in order to start concrete actions useful to an integrated management as well as a process of sustainable  development (economic, ecologic and emergetic  one) in the Central Adriat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1563" t="14375" r="20703" b="64378"/>
          <a:stretch/>
        </p:blipFill>
        <p:spPr>
          <a:xfrm>
            <a:off x="0" y="0"/>
            <a:ext cx="9144000" cy="156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4" descr=""/>
          <p:cNvPicPr/>
          <p:nvPr/>
        </p:nvPicPr>
        <p:blipFill>
          <a:blip r:embed="rId2"/>
          <a:srcRect l="16797" t="19376" r="21484" b="25002"/>
          <a:stretch/>
        </p:blipFill>
        <p:spPr>
          <a:xfrm>
            <a:off x="0" y="1857240"/>
            <a:ext cx="9144000" cy="515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upload.wikimedia.org/wikipedia/commons/8/85/Napolibeached.jpg"/>
          <p:cNvPicPr/>
          <p:nvPr/>
        </p:nvPicPr>
        <p:blipFill>
          <a:blip r:embed="rId3"/>
          <a:stretch/>
        </p:blipFill>
        <p:spPr>
          <a:xfrm>
            <a:off x="0" y="1571760"/>
            <a:ext cx="3286080" cy="202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867280" y="2060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IL SPILL 2000 –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damac_logo"/>
          <p:cNvPicPr/>
          <p:nvPr/>
        </p:nvPicPr>
        <p:blipFill>
          <a:blip r:embed="rId4"/>
          <a:srcRect l="0" t="0" r="0" b="19554"/>
          <a:stretch/>
        </p:blipFill>
        <p:spPr>
          <a:xfrm>
            <a:off x="4427640" y="6622920"/>
            <a:ext cx="111600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527040" y="897120"/>
            <a:ext cx="7606800" cy="4053600"/>
            <a:chOff x="-527040" y="897120"/>
            <a:chExt cx="7606800" cy="4053600"/>
          </a:xfrm>
        </p:grpSpPr>
        <p:sp>
          <p:nvSpPr>
            <p:cNvPr id="55" name="_s78854"/>
            <p:cNvSpPr/>
            <p:nvPr/>
          </p:nvSpPr>
          <p:spPr>
            <a:xfrm>
              <a:off x="2247840" y="1617120"/>
              <a:ext cx="2057040" cy="2057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8855"/>
            <p:cNvSpPr/>
            <p:nvPr/>
          </p:nvSpPr>
          <p:spPr>
            <a:xfrm>
              <a:off x="2247840" y="89712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78856"/>
            <p:cNvSpPr/>
            <p:nvPr/>
          </p:nvSpPr>
          <p:spPr>
            <a:xfrm>
              <a:off x="2925000" y="2791800"/>
              <a:ext cx="2057040" cy="205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78857"/>
            <p:cNvSpPr/>
            <p:nvPr/>
          </p:nvSpPr>
          <p:spPr>
            <a:xfrm>
              <a:off x="5022720" y="443628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78858"/>
            <p:cNvSpPr/>
            <p:nvPr/>
          </p:nvSpPr>
          <p:spPr>
            <a:xfrm>
              <a:off x="1568160" y="2790000"/>
              <a:ext cx="2057760" cy="205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78859"/>
            <p:cNvSpPr/>
            <p:nvPr/>
          </p:nvSpPr>
          <p:spPr>
            <a:xfrm>
              <a:off x="-527040" y="443628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9880" y="3864960"/>
              <a:ext cx="1127880" cy="18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TURAL 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19080" y="3772080"/>
              <a:ext cx="1193760" cy="18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CIETY, ECONOM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95760" y="2355840"/>
              <a:ext cx="1055880" cy="34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IL SPILLS DISA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3520" y="3297600"/>
              <a:ext cx="134568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CONOMICAL SOCIAL ENVIRONMENTAL CRI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EGIONE EUROADRI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428920" y="1981080"/>
          <a:ext cx="4284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981080"/>
                    <a:ext cx="4284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8" descr="damac_logo"/>
          <p:cNvPicPr/>
          <p:nvPr/>
        </p:nvPicPr>
        <p:blipFill>
          <a:blip r:embed="rId3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a"/>
          <p:cNvPicPr/>
          <p:nvPr/>
        </p:nvPicPr>
        <p:blipFill>
          <a:blip r:embed="rId4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The DAMAC’s  GIS uses the “Digital Chart of  the World” which is ESRI Inc.  vectorial world coverage geo-database  in ArcInfo format.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On this geographical  chart some topics of interest are visualised.  In this case, ship position (1830 transits in 2005) and main rou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4320"/>
            <a:ext cx="7921440" cy="42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Secur Sea Met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ahoma"/>
              </a:rPr>
              <a:t>R (RISCK)= f (Ha x Vu x E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Ha=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maritime   traffic of the vessels which transport dangerous cargo ( petrol,        chemic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high concentration of maritime traff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natural phenomena (storm, waves  generated by the seismic events, sea current dir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Vu=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vulnerability of the marine eco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human  population</a:t>
            </a:r>
            <a:r>
              <a:rPr b="1" lang="en-GB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Ex=EX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- </a:t>
            </a: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economic estimation of the natural environment eco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-"/>
              <a:tabLst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 fishing and tourist activitie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945760"/>
            <a:ext cx="6553080" cy="70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roposal for the legal  preventions measures   in case of damage of the Italian or Croat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29264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000" y="4773600"/>
            <a:ext cx="57891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Risk maps and environmental crisi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4500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61678" t="44634" r="51645" b="107073"/>
          <a:stretch/>
        </p:blipFill>
        <p:spPr>
          <a:xfrm>
            <a:off x="1771560" y="1571760"/>
            <a:ext cx="5600880" cy="371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4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OIL SPILLS FROM SATELLITAR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1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73880" y="2858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OIL TRA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8:36:16Z</dcterms:created>
  <dc:creator>recpao</dc:creator>
  <dc:description/>
  <dc:language>en-US</dc:language>
  <cp:lastModifiedBy>Angela Schultz-Zehden</cp:lastModifiedBy>
  <dcterms:modified xsi:type="dcterms:W3CDTF">2007-09-24T10:22:34Z</dcterms:modified>
  <cp:revision>18</cp:revision>
  <dc:subject/>
  <dc:title>Presentazione di PowerPoint</dc:title>
</cp:coreProperties>
</file>