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ct" ContentType="image/x-pict"/>
  <Override PartName="/ppt/media/image7.jpeg" ContentType="image/jpeg"/>
  <Override PartName="/ppt/media/image4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3018-5DE4-4239-8DD9-249C6ADD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5D29-9C12-415C-B7D1-0880F139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1554-0DD9-41FD-906D-24DB6A1F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7CE1-A9F2-497C-A180-F4C25A25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F824-5752-46E4-B441-D787888A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C541-0DB2-489D-B255-E39207D6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047F-98D2-46D5-94C0-8C4A0AEF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D674-47EE-41F7-A778-260B7AEA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9A1B-2F6B-4947-9E6E-10BF302D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F577-001D-4E1A-AC2B-A4FDE7D1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819E-168D-404B-8C30-8AA0FB55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E0C8-7DB5-4EF6-BEFB-B8212D53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F204-FB5E-434D-8EB3-BE4F00466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kzm-d.de/abbildungen/19_Fischerei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079880"/>
            <a:ext cx="9144000" cy="277812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640" y="44280"/>
            <a:ext cx="44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onference on Marine Spati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roatia, 20-22 September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939080" y="0"/>
            <a:ext cx="1090800" cy="41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04840" y="4255920"/>
            <a:ext cx="77184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Coast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challenges faced by Coastal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y Bernhard Heinric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irector of Spatial Planning De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Ministry of Transport, Building and Regional Development Mecklenburg - Vorpomm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934920"/>
          <a:ext cx="9144000" cy="308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34920"/>
                    <a:ext cx="9144000" cy="30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7128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307200"/>
            <a:ext cx="9144000" cy="5508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1640" y="44280"/>
            <a:ext cx="44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onference on Marine Spati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roatia, 20-22 September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939080" y="0"/>
            <a:ext cx="1090800" cy="411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03040" y="6440400"/>
            <a:ext cx="4040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ernhard Heinrichs: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000" y="1373040"/>
            <a:ext cx="29350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PlanCoa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Project Ar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475080" y="712800"/>
          <a:ext cx="5668920" cy="558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75080" y="712800"/>
                    <a:ext cx="566892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98400" y="1386000"/>
            <a:ext cx="782028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do we want to achie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o use Spatial Planning for successful implementation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  of ICZ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o establish Maritime Spatial Planning as a necessary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   tool in the EU Maritime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7128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307200"/>
            <a:ext cx="9144000" cy="5508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1640" y="44280"/>
            <a:ext cx="44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onference on Marine Spati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roatia, 20-22 September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939080" y="0"/>
            <a:ext cx="1090800" cy="411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03040" y="6440400"/>
            <a:ext cx="4040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ernhard Heinrichs: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108252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ich steps will be necessary to elaborate our contrib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71640" y="3487680"/>
            <a:ext cx="3529080" cy="70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national comparative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84240" y="2025720"/>
            <a:ext cx="3529080" cy="703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tional reports on the current ICZM precond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91160" y="4853160"/>
            <a:ext cx="2381040" cy="1007640"/>
          </a:xfrm>
          <a:prstGeom prst="rect">
            <a:avLst/>
          </a:prstGeom>
          <a:solidFill>
            <a:srgbClr val="287e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mmendations on Maritime Spati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2381400"/>
            <a:ext cx="3529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59280" y="5415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4360" y="5159520"/>
            <a:ext cx="71640" cy="1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01680" y="4846680"/>
            <a:ext cx="2381400" cy="1007640"/>
          </a:xfrm>
          <a:prstGeom prst="rect">
            <a:avLst/>
          </a:prstGeom>
          <a:solidFill>
            <a:srgbClr val="287e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mmendations on Spatial Planning in ICZ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2924280"/>
            <a:ext cx="942840" cy="1312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ults and Expe-rience of WP 2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67640" y="2924280"/>
            <a:ext cx="942840" cy="1312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ults and Expe-rience of WP 2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9280" y="42292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2000" y="42292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5400" y="4307040"/>
            <a:ext cx="1001520" cy="11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154640" y="4330800"/>
            <a:ext cx="1012680" cy="10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07000" y="2025720"/>
            <a:ext cx="3529080" cy="703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onal study Adriatic Reg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7440" y="2820960"/>
            <a:ext cx="677880" cy="60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719680" y="2819520"/>
            <a:ext cx="495360" cy="59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7128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307200"/>
            <a:ext cx="9144000" cy="5508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640" y="44280"/>
            <a:ext cx="44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onference on Marine Spati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roatia, 20-22 September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939080" y="0"/>
            <a:ext cx="1090800" cy="411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03040" y="6440400"/>
            <a:ext cx="4040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ernhard Heinrichs: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23720" y="1279440"/>
            <a:ext cx="7820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8160" y="1335240"/>
            <a:ext cx="7807680" cy="44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ctual state of project implementation/prog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b90b9"/>
                </a:solidFill>
                <a:latin typeface="Arial"/>
              </a:rPr>
              <a:t>Where are we now</a:t>
            </a:r>
            <a:r>
              <a:rPr b="1" lang="en-GB" sz="2400" spc="-1" strike="noStrike">
                <a:solidFill>
                  <a:srgbClr val="6b90b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tional reports are elabo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national report is under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ilot projects are r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6b90b9"/>
                </a:solidFill>
                <a:latin typeface="Arial"/>
              </a:rPr>
              <a:t>What will happen in the next half ye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plit: Starting signal for recommend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rlin: Discussion of a first draft of recommend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nalisation of all activities until 4/2008, end of PlanCo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7128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307200"/>
            <a:ext cx="9144000" cy="5508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1640" y="44280"/>
            <a:ext cx="44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onference on Marine Spati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roatia, 20-22 September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939080" y="0"/>
            <a:ext cx="1090800" cy="411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03040" y="6440400"/>
            <a:ext cx="4040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ernhard Heinrichs: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939080" y="0"/>
            <a:ext cx="1090800" cy="411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23720" y="1173240"/>
            <a:ext cx="7820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781200"/>
            <a:ext cx="5265720" cy="5440320"/>
          </a:xfrm>
          <a:prstGeom prst="rect">
            <a:avLst/>
          </a:prstGeom>
          <a:solidFill>
            <a:srgbClr val="28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Kutter&#10;Größe: 64365 Byt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62560" y="3506760"/>
            <a:ext cx="3781440" cy="2701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Wohlenberger Wiek"/>
          <p:cNvPicPr/>
          <p:nvPr/>
        </p:nvPicPr>
        <p:blipFill>
          <a:blip r:embed="rId4"/>
          <a:stretch/>
        </p:blipFill>
        <p:spPr>
          <a:xfrm>
            <a:off x="5365800" y="790560"/>
            <a:ext cx="3778200" cy="2646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4160" y="1649520"/>
            <a:ext cx="45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Thank you very much for your atten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7128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307200"/>
            <a:ext cx="9144000" cy="5508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1640" y="44280"/>
            <a:ext cx="44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onference on Marine Spati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roatia, 20-22 September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7939080" y="0"/>
            <a:ext cx="1090800" cy="411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03040" y="6440400"/>
            <a:ext cx="4040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ernhard Heinrichs: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7:35:43Z</dcterms:created>
  <dc:creator>VIII450b</dc:creator>
  <dc:description/>
  <dc:language>en-US</dc:language>
  <cp:lastModifiedBy>Angela Schultz-Zehden</cp:lastModifiedBy>
  <dcterms:modified xsi:type="dcterms:W3CDTF">2007-09-24T10:38:12Z</dcterms:modified>
  <cp:revision>56</cp:revision>
  <dc:subject/>
  <dc:title>Folie 1</dc:title>
</cp:coreProperties>
</file>