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7.jpeg" ContentType="image/jpeg"/>
  <Override PartName="/ppt/media/image4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D1A-0D16-4317-8289-F98349E5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4DE-6150-4AAF-AB3A-BD01E25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4AD-177E-4704-9F52-D2EB72EC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55E-32EA-498F-BE04-8762D03A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61A-B823-4764-A6AA-0C53543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D44-A32D-436B-84F3-E8A018F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919-C3F9-497B-8855-16B7CED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3AB-9298-47E0-8AE0-68BF4802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A7C-9BDF-4434-AE3C-8F150789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66-E0F9-449E-A360-103ED8C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B2A-7FFA-4660-9643-B8106FB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AF4-0B04-499E-8AE8-DEBFB09D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4579-E893-48A9-9CA4-DBC47C15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kzm-d.de/abbildungen/19_Fischerei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9880"/>
            <a:ext cx="9144000" cy="277812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4840" y="4255920"/>
            <a:ext cx="7718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Coas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s faced by Coastal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y Bernhard Heinri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irector of Spatial Planning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inistry of Transport, Building and Regional Development Mecklenburg - Vorpo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934920"/>
          <a:ext cx="9144000" cy="30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34920"/>
                    <a:ext cx="914400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000" y="1373040"/>
            <a:ext cx="2935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lanCo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ject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75080" y="712800"/>
          <a:ext cx="5668920" cy="558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5080" y="712800"/>
                    <a:ext cx="56689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8400" y="1386000"/>
            <a:ext cx="782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o use Spatial Planning for successful implementatio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of ICZ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o establish Maritime Spatial Planning as a necessary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tool in the EU Maritime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08252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ich steps will be necessary to elaborate our con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487680"/>
            <a:ext cx="352908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comparativ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4240" y="2025720"/>
            <a:ext cx="3529080" cy="70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reports on the current ICZM pre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91160" y="4853160"/>
            <a:ext cx="238104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ations on Maritim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381400"/>
            <a:ext cx="352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541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159520"/>
            <a:ext cx="7164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1680" y="4846680"/>
            <a:ext cx="2381400" cy="1007640"/>
          </a:xfrm>
          <a:prstGeom prst="rect">
            <a:avLst/>
          </a:prstGeom>
          <a:solidFill>
            <a:srgbClr val="287e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ations on Spatial Planning in IC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924280"/>
            <a:ext cx="942840" cy="131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2924280"/>
            <a:ext cx="942840" cy="1312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ults and Expe-rience of WP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4229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4229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5400" y="4307040"/>
            <a:ext cx="1001520" cy="11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154640" y="4330800"/>
            <a:ext cx="1012680" cy="10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7000" y="2025720"/>
            <a:ext cx="3529080" cy="70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onal study Adriatic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7440" y="2820960"/>
            <a:ext cx="6778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19680" y="2819520"/>
            <a:ext cx="495360" cy="59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3720" y="1279440"/>
            <a:ext cx="7820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8160" y="1335240"/>
            <a:ext cx="780768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ctual state of project implementation/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b90b9"/>
                </a:solidFill>
                <a:latin typeface="Arial"/>
              </a:rPr>
              <a:t>Where are we now</a:t>
            </a:r>
            <a:r>
              <a:rPr b="1" lang="en-GB" sz="2400" spc="-1" strike="noStrike">
                <a:solidFill>
                  <a:srgbClr val="6b90b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reports are elabo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national report is under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ot projects are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b90b9"/>
                </a:solidFill>
                <a:latin typeface="Arial"/>
              </a:rPr>
              <a:t>What will happen in the next half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lit: Starting signal for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rlin: Discussion of a first draft of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isation of all activities until 4/2008, end of Plan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3720" y="1173240"/>
            <a:ext cx="782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81200"/>
            <a:ext cx="5265720" cy="5440320"/>
          </a:xfrm>
          <a:prstGeom prst="rect">
            <a:avLst/>
          </a:prstGeom>
          <a:solidFill>
            <a:srgbClr val="28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Kutter&#10;Größe: 64365 By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2560" y="3506760"/>
            <a:ext cx="3781440" cy="270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Wohlenberger Wiek"/>
          <p:cNvPicPr/>
          <p:nvPr/>
        </p:nvPicPr>
        <p:blipFill>
          <a:blip r:embed="rId4"/>
          <a:stretch/>
        </p:blipFill>
        <p:spPr>
          <a:xfrm>
            <a:off x="5365800" y="790560"/>
            <a:ext cx="3778200" cy="2646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4160" y="16495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ank you very much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712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07200"/>
            <a:ext cx="9144000" cy="550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640" y="4428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nference on Marine Spati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roatia, 20-22 Sept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939080" y="0"/>
            <a:ext cx="1090800" cy="41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3040" y="6440400"/>
            <a:ext cx="404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rnhard Heinrichs: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7:35:43Z</dcterms:created>
  <dc:creator>VIII450b</dc:creator>
  <dc:description/>
  <dc:language>en-US</dc:language>
  <cp:lastModifiedBy>Angela Schultz-Zehden</cp:lastModifiedBy>
  <dcterms:modified xsi:type="dcterms:W3CDTF">2007-09-24T10:38:12Z</dcterms:modified>
  <cp:revision>56</cp:revision>
  <dc:subject/>
  <dc:title>Folie 1</dc:title>
</cp:coreProperties>
</file>