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0D5-80CC-4E0C-84E4-A986EE7B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FBE-7EBB-4142-A6EB-55B4490D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758-CBE3-41E3-8A2C-5325A6C2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8ED-6C79-4668-8A0C-A66A6240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F7BC-B62D-49AA-ACFF-B7262366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57E7-8F07-40CA-85B6-2FA50E29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2A05-3A99-4DAA-BBF6-E71A17A8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3047-2080-419D-BE24-390F6294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014D-7DAB-4625-876C-9BD22CB1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DCE1-0254-45D3-A912-4E34EEAF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972E-46EA-4412-9D9F-71EAA9C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E7B-36C9-466A-B790-B67A6DD4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67D4-D462-4114-82CE-1F7742BE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2B73-7F7B-4E37-96EE-D8A0202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4C20-0AE1-48C5-AFD0-CC8D314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FAA2-B2C5-4DE0-84C0-2E95EB9C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7A5D-E8D9-42B4-94D6-1A299879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787-6EA7-4664-9F9C-9651D17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5A2-7774-4356-8550-C88844ED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60B-C658-40D6-98BB-4CAC96C6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B68-F4E4-4166-8E2B-37C765B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9B2-508E-4A58-9A52-C8AD8DFD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12B-F455-4C5D-9582-E85BBAB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6D8-607A-484F-B56E-CBF3111B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A214-C346-481E-9476-A3F887D771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9961-AA6A-4252-B68D-7A3576D68A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9560" y="307800"/>
            <a:ext cx="2880000" cy="192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90640" y="1795320"/>
            <a:ext cx="139680" cy="10188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60640" y="2960640"/>
            <a:ext cx="543564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ICZM and MS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Black Sea Reg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Drd. Claudia Coman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Environmental engine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AG ICZM Focal Point, Rom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Black Sea Com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7832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753240" y="569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92240" y="219240"/>
            <a:ext cx="2197080" cy="1468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817720" y="3749760"/>
            <a:ext cx="4984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ack Sea Com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blacksea-commission.org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58080" y="371016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491160" y="5219640"/>
            <a:ext cx="13968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" y="3387600"/>
            <a:ext cx="520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66ffff"/>
                </a:solidFill>
                <a:uFillTx/>
                <a:latin typeface="Arial"/>
              </a:rPr>
              <a:t>Missio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- implementation of the Convention on the protection of the Black </a:t>
            </a: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Sea against pollution (Bucharest Convention, 199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- its Protoco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- Strategic Action Plan (SAP) for the rehabilitation and protection of the Black S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0680" y="566640"/>
            <a:ext cx="49212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Black Sea Commission on the Protection of the Black Sea against Pollu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-Intergovernmental 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(Bulgaria, Georgia, Romania,  Russian Federation Turkey and Ukrai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73920" y="2346480"/>
            <a:ext cx="2170080" cy="24940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upport and 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lack Se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ategi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c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3960" y="1509840"/>
            <a:ext cx="13968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0400" y="1658880"/>
            <a:ext cx="57168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Seven BSC Advisory Group 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llution monitoring and assess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 of pollution and land bases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ment of common methodologies for ICZ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vironmental Safety Aspects of Shipp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ervation of biological biod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vironmental aspects of the management of fisheries and other marine living re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formation and data ex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Seven Black Sea Regional Activity Cent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18200" y="3065400"/>
            <a:ext cx="773280" cy="541440"/>
          </a:xfrm>
          <a:prstGeom prst="rightArrow">
            <a:avLst>
              <a:gd name="adj1" fmla="val 50000"/>
              <a:gd name="adj2" fmla="val 35705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6560" y="1527120"/>
            <a:ext cx="14004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120" y="2178000"/>
            <a:ext cx="8435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BSC cooperation with other intergovernmental organiz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ed Nations Environmental Program (UNEP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national Maritime Organizations (IM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lobal Environmental Facility (GE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national Commission for the Protection of Danube River (ICPD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reement on Conservation of Cetaceans of the Black Sea, Mediterranean Sea and Contiguous Atlantic Area (ACCOBAM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ganization of the Black Sea Economic Cooperation (BSEC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opean Environmental Agency (EE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 EU institutions and organiz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41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5600" y="4419720"/>
            <a:ext cx="152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5241960"/>
            <a:ext cx="2416320" cy="1616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61800" y="6573960"/>
            <a:ext cx="13968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000" y="932040"/>
            <a:ext cx="843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ack Sea Strategic Action Plan (BSAP) - 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tional Black Sea strategic Action Plan – 1997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mendment of the BSAP – 2002, Sofia, Bulg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ised BSAP  -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9600" y="2163600"/>
            <a:ext cx="65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6920" y="3489480"/>
            <a:ext cx="1378080" cy="368280"/>
          </a:xfrm>
          <a:prstGeom prst="rect">
            <a:avLst/>
          </a:prstGeom>
          <a:noFill/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BS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82520" y="4173480"/>
            <a:ext cx="2098800" cy="368280"/>
          </a:xfrm>
          <a:prstGeom prst="rect">
            <a:avLst/>
          </a:prstGeom>
          <a:noFill/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OLICY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8480" y="4649760"/>
            <a:ext cx="3450960" cy="337320"/>
          </a:xfrm>
          <a:prstGeom prst="rect">
            <a:avLst/>
          </a:prstGeom>
          <a:noFill/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ustainable Human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7920" y="4645080"/>
            <a:ext cx="1377720" cy="368280"/>
          </a:xfrm>
          <a:prstGeom prst="rect">
            <a:avLst/>
          </a:prstGeom>
          <a:noFill/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ICZ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01720" y="3916440"/>
            <a:ext cx="0" cy="2188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83160" y="4815000"/>
            <a:ext cx="360360" cy="140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54840" y="3892680"/>
            <a:ext cx="2189160" cy="520200"/>
          </a:xfrm>
          <a:prstGeom prst="rect">
            <a:avLst/>
          </a:prstGeom>
          <a:noFill/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Regional Black Sea</a:t>
            </a:r>
            <a:r>
              <a:rPr b="1" lang="en-GB" sz="1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Strate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9000" y="4527720"/>
            <a:ext cx="2205000" cy="520200"/>
          </a:xfrm>
          <a:prstGeom prst="rect">
            <a:avLst/>
          </a:prstGeom>
          <a:noFill/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Legal and ICZM instru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50160" y="5283360"/>
            <a:ext cx="2193840" cy="520200"/>
          </a:xfrm>
          <a:prstGeom prst="rect">
            <a:avLst/>
          </a:prstGeom>
          <a:noFill/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Inter-sectoral Committe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383160" y="4157280"/>
            <a:ext cx="540000" cy="6174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394320" y="4785840"/>
            <a:ext cx="489240" cy="111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70560" y="4800600"/>
            <a:ext cx="514440" cy="7221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635880" y="542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3920" y="23004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51040" y="1795320"/>
            <a:ext cx="139680" cy="10188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600" y="2411280"/>
            <a:ext cx="84358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Black Sea Commission Achievements for ICZ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GB" sz="1600" spc="-1" strike="noStrike">
                <a:solidFill>
                  <a:srgbClr val="ece1b0"/>
                </a:solidFill>
                <a:latin typeface="Arial"/>
              </a:rPr>
              <a:t>-  </a:t>
            </a:r>
            <a:r>
              <a:rPr b="1" i="1" lang="en-US" sz="1600" spc="-1" strike="noStrike">
                <a:solidFill>
                  <a:srgbClr val="ece1b0"/>
                </a:solidFill>
                <a:latin typeface="Arial"/>
              </a:rPr>
              <a:t>EuropeAid project “Technical Assistance to the Black Sea Environmental Programme”</a:t>
            </a:r>
            <a:r>
              <a:rPr b="1" i="1" lang="en-GB" sz="1600" spc="-1" strike="noStrike">
                <a:solidFill>
                  <a:srgbClr val="ece1b0"/>
                </a:solidFill>
                <a:latin typeface="Arial"/>
              </a:rPr>
              <a:t> 2002-2006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Code of Condu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Curricul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Gloss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Draft ICZM Regional Strate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ethodology for Spatial Planning for ICZM</a:t>
            </a: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Pilot Projec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Tool and techniques</a:t>
            </a:r>
            <a:r>
              <a:rPr b="1" lang="en-GB" sz="1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35640" y="5294160"/>
            <a:ext cx="965160" cy="270000"/>
          </a:xfrm>
          <a:prstGeom prst="rightArrow">
            <a:avLst>
              <a:gd name="adj1" fmla="val 50000"/>
              <a:gd name="adj2" fmla="val 89367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57840" y="5113440"/>
            <a:ext cx="1971720" cy="520200"/>
          </a:xfrm>
          <a:prstGeom prst="rect">
            <a:avLst/>
          </a:prstGeom>
          <a:noFill/>
          <a:ln cap="sq"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Testing in Black Sea count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70000" y="19368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01720" y="1730520"/>
            <a:ext cx="13968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760" y="2320920"/>
            <a:ext cx="84358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kcakoca District Pilot Project  (Turkey - Black Sea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it’s included  the following stag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data collect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database for spatial da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GIS map (environmental land-use and socio-economic dat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conflicting us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develop means of prioritising uses based on analysis of natural and economic resources and land-use featur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functional land-use zones using primary information and evaluating of conflicting land-us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stakeholders consultation in fine tuning land-use pla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7080" cy="1468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1136520"/>
            <a:ext cx="139680" cy="10188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1754280"/>
            <a:ext cx="843624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ICZM components of the new EuropeAid project 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“Environmental Collaboration for the Black Sea – Georgia, Moldova, Russia, Ukrain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Dissemination and promote ICZM strategies via media and public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mpaign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support strategy implementation process via exchange of experienc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pilot project implementation.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Feasibility study for the ICZM Protocol to the BSC Conven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Finalize the  revised TDA based on comments of  AG BSC expe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Annual reporting of the status of the Black Sea coun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Finalise the Regional Strategy for ICZ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81760" y="111924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FURTHER ICZM  ACTIVITI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92240" y="219240"/>
            <a:ext cx="2197080" cy="1468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632320" y="2540160"/>
            <a:ext cx="52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Marine Spatial Planning  in the Black Sea Reg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27168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SP initiative  is rather new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Coast project – ICZM workshop &amp; 7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G ICZM meeting 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-5 June 2007 , Istanbul, Turke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Coast BS countries ( Romania, Bulgaria, Ukraine)  – share experience in MSP to  other  BS countries ( Georgia, Russia, Turkey)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mmendations  for  MSP develop by PlanCoast team – useful for BSC 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2:18:57Z</dcterms:created>
  <dc:creator>Oceanografie</dc:creator>
  <dc:description/>
  <dc:language>en-US</dc:language>
  <cp:lastModifiedBy>Claudia</cp:lastModifiedBy>
  <dcterms:modified xsi:type="dcterms:W3CDTF">2007-09-20T09:31:40Z</dcterms:modified>
  <cp:revision>123</cp:revision>
  <dc:subject/>
  <dc:title>NATIONAL INSTITUTE FOR MARINE        RESEARCH AND DEVELOPMENT             “GRIGORE ANTIPA”</dc:title>
</cp:coreProperties>
</file>