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807-FF66-4062-8322-BB0F44BC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DCC-622A-451C-A3F1-0F0E4942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58D4-4EEF-44F6-9D77-FCA422AF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11D-A833-4460-804D-438EC50F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E0A2-3ED6-4D7B-99EA-6E9D8729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C443-3052-416B-BB22-FD0A0AD5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5013-281B-4E5A-8C5C-65AD6BEB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E045-65A1-4F01-8CA9-8B9A69DA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29F3-7E3A-467E-A1B0-F9755D50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F070-83E6-48F0-8AB2-FF884F70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06ED-2C83-48BF-B301-B9F7FD33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D59-AF74-48EE-87AA-05466411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96C4-0FD5-4E92-9ADC-840BD727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7832-2879-4BA9-B7AD-DE8F92AA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594F-DB0D-4314-B438-DC9205CF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A04D-B7B8-4223-A354-0D66C6EC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D53D-C625-4551-9FF7-676B51F0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4A1-5C54-47A0-90A7-02FFADA9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CE9-6FA6-43E3-A224-34E22C4F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ADF-EBB6-4352-BF1A-DCF3528F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1E2-717A-4B2B-BE88-648B6642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ABF-9267-412A-A778-D2B2F04C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491-980B-4127-9599-9F0EB2CB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2CE-BBDC-4928-A018-763507DE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C98C-E377-4AFA-9F4D-3B3A4EDB6A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BC99-7D85-41EF-96E3-AE7A73E5AA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684080"/>
            <a:ext cx="91440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9560" y="307800"/>
            <a:ext cx="2880000" cy="1925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90640" y="1795320"/>
            <a:ext cx="139680" cy="10188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60640" y="2960640"/>
            <a:ext cx="543564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ICZM and MS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in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Black Sea Reg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Drd. Claudia Coman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Environmental engine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AG ICZM Focal Point, Roma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Black Sea Com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7832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753240" y="569880"/>
            <a:ext cx="11509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92240" y="219240"/>
            <a:ext cx="2197080" cy="14684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6597720" y="596880"/>
            <a:ext cx="1150920" cy="432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817720" y="3749760"/>
            <a:ext cx="49849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ank You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lack Sea Com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://www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blacksea-commission.org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684080"/>
            <a:ext cx="91440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16360" y="3981600"/>
            <a:ext cx="494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058080" y="3710160"/>
            <a:ext cx="2879640" cy="1925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491160" y="5219640"/>
            <a:ext cx="139680" cy="1015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600" y="3387600"/>
            <a:ext cx="5203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66ffff"/>
                </a:solidFill>
                <a:uFillTx/>
                <a:latin typeface="Arial"/>
              </a:rPr>
              <a:t>Mission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ff"/>
                </a:solidFill>
                <a:latin typeface="Arial"/>
              </a:rPr>
              <a:t>- implementation of the Convention on the protection of the Black </a:t>
            </a:r>
            <a:r>
              <a:rPr b="1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ff"/>
                </a:solidFill>
                <a:latin typeface="Arial"/>
              </a:rPr>
              <a:t>Sea against pollution (Bucharest Convention, 199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ff"/>
                </a:solidFill>
                <a:latin typeface="Arial"/>
              </a:rPr>
              <a:t>- its Protoco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ff"/>
                </a:solidFill>
                <a:latin typeface="Arial"/>
              </a:rPr>
              <a:t>- Strategic Action Plan (SAP) for the rehabilitation and protection of the Black S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0680" y="566640"/>
            <a:ext cx="492120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Black Sea Commission on the Protection of the Black Sea against Pollu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-Intergovernmental b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(Bulgaria, Georgia, Romania,  Russian Federation Turkey and Ukrain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597720" y="596880"/>
            <a:ext cx="11509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684080"/>
            <a:ext cx="91440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73920" y="2346480"/>
            <a:ext cx="2170080" cy="24940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upport and imp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lack Se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ategi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ction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1925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3960" y="1509840"/>
            <a:ext cx="139680" cy="1015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0400" y="1658880"/>
            <a:ext cx="57168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Seven BSC Advisory Group 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ollution monitoring and assess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rol of pollution and land bases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ment of common methodologies for ICZ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vironmental Safety Aspects of Shipp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ervation of biological biod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vironmental aspects of the management of fisheries and other marine living re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formation and data ex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Seven Black Sea Regional Activity Cent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18200" y="3065400"/>
            <a:ext cx="773280" cy="541440"/>
          </a:xfrm>
          <a:prstGeom prst="rightArrow">
            <a:avLst>
              <a:gd name="adj1" fmla="val 50000"/>
              <a:gd name="adj2" fmla="val 35705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597720" y="596880"/>
            <a:ext cx="11509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1684080"/>
            <a:ext cx="91440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16360" y="3981600"/>
            <a:ext cx="494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192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66560" y="1527120"/>
            <a:ext cx="140040" cy="1015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120" y="2178000"/>
            <a:ext cx="84358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BSC cooperation with other intergovernmental organiz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ed Nations Environmental Program (UNEP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national Maritime Organizations (IMO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lobal Environmental Facility (GE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national Commission for the Protection of Danube River (ICPD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greement on Conservation of Cetaceans of the Black Sea, Mediterranean Sea and Contiguous Atlantic Area (ACCOBAM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ganization of the Black Sea Economic Cooperation (BSEC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uropean Environmental Agency (EEA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 EU institutions and organiza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597720" y="596880"/>
            <a:ext cx="11509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414080"/>
            <a:ext cx="91440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95600" y="4419720"/>
            <a:ext cx="152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5241960"/>
            <a:ext cx="2416320" cy="16160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61800" y="6573960"/>
            <a:ext cx="139680" cy="1015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000" y="932040"/>
            <a:ext cx="843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lack Sea Strategic Action Plan (BSAP) - 19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tional Black Sea strategic Action Plan – 1997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mendment of the BSAP – 2002, Sofia, Bulg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ised BSAP  -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9600" y="2163600"/>
            <a:ext cx="65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6920" y="3489480"/>
            <a:ext cx="1378080" cy="368280"/>
          </a:xfrm>
          <a:prstGeom prst="rect">
            <a:avLst/>
          </a:prstGeom>
          <a:noFill/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BS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82520" y="4173480"/>
            <a:ext cx="2098800" cy="368280"/>
          </a:xfrm>
          <a:prstGeom prst="rect">
            <a:avLst/>
          </a:prstGeom>
          <a:noFill/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OLICY 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8480" y="4649760"/>
            <a:ext cx="3450960" cy="337320"/>
          </a:xfrm>
          <a:prstGeom prst="rect">
            <a:avLst/>
          </a:prstGeom>
          <a:noFill/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ustainable Human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57920" y="4645080"/>
            <a:ext cx="1377720" cy="368280"/>
          </a:xfrm>
          <a:prstGeom prst="rect">
            <a:avLst/>
          </a:prstGeom>
          <a:noFill/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ICZ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01720" y="3916440"/>
            <a:ext cx="0" cy="2188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83160" y="4815000"/>
            <a:ext cx="360360" cy="140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54840" y="3892680"/>
            <a:ext cx="2189160" cy="520200"/>
          </a:xfrm>
          <a:prstGeom prst="rect">
            <a:avLst/>
          </a:prstGeom>
          <a:noFill/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Arial"/>
              </a:rPr>
              <a:t>Regional Black Sea</a:t>
            </a:r>
            <a:r>
              <a:rPr b="1" lang="en-GB" sz="1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cc00"/>
                </a:solidFill>
                <a:latin typeface="Arial"/>
              </a:rPr>
              <a:t>Strate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9000" y="4527720"/>
            <a:ext cx="2205000" cy="520200"/>
          </a:xfrm>
          <a:prstGeom prst="rect">
            <a:avLst/>
          </a:prstGeom>
          <a:noFill/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Arial"/>
              </a:rPr>
              <a:t>Legal and ICZM instru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50160" y="5283360"/>
            <a:ext cx="2193840" cy="520200"/>
          </a:xfrm>
          <a:prstGeom prst="rect">
            <a:avLst/>
          </a:prstGeom>
          <a:noFill/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Arial"/>
              </a:rPr>
              <a:t>Inter-sectoral Committe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383160" y="4157280"/>
            <a:ext cx="540000" cy="6174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394320" y="4785840"/>
            <a:ext cx="489240" cy="1116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70560" y="4800600"/>
            <a:ext cx="514440" cy="72216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635880" y="542880"/>
            <a:ext cx="11509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16360" y="3981600"/>
            <a:ext cx="494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23920" y="230040"/>
            <a:ext cx="2879640" cy="1925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851040" y="1795320"/>
            <a:ext cx="139680" cy="10188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600" y="2411280"/>
            <a:ext cx="843588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Black Sea Commission Achievements for ICZ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GB" sz="1600" spc="-1" strike="noStrike">
                <a:solidFill>
                  <a:srgbClr val="ece1b0"/>
                </a:solidFill>
                <a:latin typeface="Arial"/>
              </a:rPr>
              <a:t>-  </a:t>
            </a:r>
            <a:r>
              <a:rPr b="1" i="1" lang="en-US" sz="1600" spc="-1" strike="noStrike">
                <a:solidFill>
                  <a:srgbClr val="ece1b0"/>
                </a:solidFill>
                <a:latin typeface="Arial"/>
              </a:rPr>
              <a:t>EuropeAid project “Technical Assistance to the Black Sea Environmental Programme”</a:t>
            </a:r>
            <a:r>
              <a:rPr b="1" i="1" lang="en-GB" sz="1600" spc="-1" strike="noStrike">
                <a:solidFill>
                  <a:srgbClr val="ece1b0"/>
                </a:solidFill>
                <a:latin typeface="Arial"/>
              </a:rPr>
              <a:t> 2002-2006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cc"/>
                </a:solidFill>
                <a:latin typeface="Arial"/>
              </a:rPr>
              <a:t>Code of Condu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cc"/>
                </a:solidFill>
                <a:latin typeface="Arial"/>
              </a:rPr>
              <a:t>Curricul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cc"/>
                </a:solidFill>
                <a:latin typeface="Arial"/>
              </a:rPr>
              <a:t>Gloss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cc"/>
                </a:solidFill>
                <a:latin typeface="Arial"/>
              </a:rPr>
              <a:t>Draft ICZM Regional Strate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ethodology for Spatial Planning for ICZM</a:t>
            </a:r>
            <a:r>
              <a:rPr b="1" lang="en-GB" sz="16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cc"/>
                </a:solidFill>
                <a:latin typeface="Arial"/>
              </a:rPr>
              <a:t>Pilot Projec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66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cc"/>
                </a:solidFill>
                <a:latin typeface="Arial"/>
              </a:rPr>
              <a:t>Tool and techniques</a:t>
            </a:r>
            <a:r>
              <a:rPr b="1" lang="en-GB" sz="1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35640" y="5294160"/>
            <a:ext cx="965160" cy="270000"/>
          </a:xfrm>
          <a:prstGeom prst="rightArrow">
            <a:avLst>
              <a:gd name="adj1" fmla="val 50000"/>
              <a:gd name="adj2" fmla="val 89367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57840" y="5113440"/>
            <a:ext cx="1971720" cy="520200"/>
          </a:xfrm>
          <a:prstGeom prst="rect">
            <a:avLst/>
          </a:prstGeom>
          <a:noFill/>
          <a:ln cap="sq"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Arial"/>
              </a:rPr>
              <a:t>Testing in Black Sea countr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597720" y="596880"/>
            <a:ext cx="11509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1684080"/>
            <a:ext cx="91440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16360" y="3981600"/>
            <a:ext cx="494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70000" y="193680"/>
            <a:ext cx="2879640" cy="1925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801720" y="1730520"/>
            <a:ext cx="139680" cy="1015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760" y="2320920"/>
            <a:ext cx="84358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kcakoca District Pilot Project  (Turkey - Black Sea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it’s included  the following stag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- data collect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- database for spatial da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- GIS map (environmental land-use and socio-economic data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- conflicting us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- develop means of prioritising uses based on analysis of natural and economic resources and land-use featur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- functional land-use zones using primary information and evaluating of conflicting land-us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- stakeholders consultation in fine tuning land-use pla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597720" y="596880"/>
            <a:ext cx="11509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1684080"/>
            <a:ext cx="91440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6360" y="3981600"/>
            <a:ext cx="494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7080" cy="14684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24000" y="1136520"/>
            <a:ext cx="139680" cy="10188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7040" y="1754280"/>
            <a:ext cx="843624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ICZM components of the new EuropeAid project  </a:t>
            </a: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“Environmental Collaboration for the Black Sea – Georgia, Moldova, Russia, Ukrain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bjective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Dissemination and promote ICZM strategies via media and public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mpaigns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support strategy implementation process via exchange of experienc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pilot project implementation.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Feasibility study for the ICZM Protocol to the BSC Conven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Finalize the  revised TDA based on comments of  AG BSC expe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Annual reporting of the status of the Black Sea count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Finalise the Regional Strategy for ICZ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597720" y="596880"/>
            <a:ext cx="1150920" cy="432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381760" y="111924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ff"/>
                </a:solidFill>
                <a:latin typeface="Arial"/>
              </a:rPr>
              <a:t>FURTHER ICZM  ACTIVITI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92240" y="219240"/>
            <a:ext cx="2197080" cy="1468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102280" y="0"/>
            <a:ext cx="386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Coast Conference on Marine Spatial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20-22 September 2007, Split/Croa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597720" y="596880"/>
            <a:ext cx="1150920" cy="432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632320" y="2540160"/>
            <a:ext cx="52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Marine Spatial Planning  in the Black Sea Reg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3271680"/>
            <a:ext cx="692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SP initiative  is rather new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Coast project – ICZM workshop &amp; 7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G ICZM meeting 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-5 June 2007 , Istanbul, Turke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Coast BS countries ( Romania, Bulgaria, Ukraine)  – share experience in MSP to  other  BS countries ( Georgia, Russia, Turkey)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ommendations  for  MSP develop by PlanCoast team – useful for BSC 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2:18:57Z</dcterms:created>
  <dc:creator>Oceanografie</dc:creator>
  <dc:description/>
  <dc:language>en-US</dc:language>
  <cp:lastModifiedBy>Claudia</cp:lastModifiedBy>
  <dcterms:modified xsi:type="dcterms:W3CDTF">2007-09-20T09:31:40Z</dcterms:modified>
  <cp:revision>123</cp:revision>
  <dc:subject/>
  <dc:title>NATIONAL INSTITUTE FOR MARINE        RESEARCH AND DEVELOPMENT             “GRIGORE ANTIPA”</dc:title>
</cp:coreProperties>
</file>