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925560" y="750600"/>
            <a:ext cx="5006880" cy="37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D087-541E-4F22-943C-86CAAC373CDF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5D6E-0E0D-4C29-930D-B6B16D2E00D4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B5B3-155D-4E7D-886B-B303C84477B1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1858-994E-4EA7-ADE5-899209AD2241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'abile moderazione offre vantaggi pratici e immediati. Il ruolo del moderatore consiste nel definire il programma della riunione, guidare gli interventi e determinarne il ritmo. Utilizzare questi modelli della Dale Carnegie Training® per impostare riunioni di sicuro effet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i consiglia di preparare degli stampanti in modo da focalizzare gli argomenti della discussione e fornire ai partecipanti un mezzo per annotare le proprie idee. Se si stampano stampati con tre diapositive per pagina, verranno automaticamente aggiunte tre righe vuote per le annotazioni dei partecipa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EB7D-83FD-4E97-AFB9-43849CDA9943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1B1-AECD-41E9-A081-98D13ADF8F50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abilire obiettivi chiari. Esporre in modo efficace il problema da risolvere. Chiedere l'approvazione del programma, il problema e il processo di risolu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lecitare e moderare l’intervento di tutti i partecipanti. Incoraggiare l'esposizione di esperienze personali. Chiedere dimostrazioni pratiche a supporto degli argomenti di discussione. Infondere in ogni partecipante fiducia sulla validità del proprio contribu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34CE-0524-41F6-8723-1F6ACE699668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C544-C20D-4B43-BE0B-8393549F1916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8767-7E1E-4EA3-AB4C-D64EB69FA00A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AEB2-0F44-4B1D-9F23-922DB4D0A48F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84320" y="865080"/>
            <a:ext cx="4694040" cy="3522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26920" y="4758840"/>
            <a:ext cx="52041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1AF0-122D-40D1-B18E-5F0B34BC81FB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1A5E-8A35-48F2-B7C9-1FA44B5A6186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abilire un collegamento all'argomento principale. Esporre lo scopo e l'importanza della riun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umere il ruolo di catalizzatore di idee. Porre domande. Guidare gli interventi dei partecipanti. Incoraggiare la partecipazione. Annotare i commenti. Ringraziare i partecipanti per i contributi individua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tilizzare gli Appunti presentazione per annotare i commenti dei partecipanti durante la riun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5240-B266-4E60-8F4B-D80681578C01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F2C9-4E85-404C-82ED-0F23DF34A944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B5E-F217-4A05-B158-A951B1A0B2F8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C365-6AA7-45EE-B735-7670DE2963BC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3A6C-AC52-4EA8-96DB-8BFF27B5CF46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58CA-AD9A-4624-BC5D-9331E89F4C93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9AD0-4BC2-40A9-B525-B0A555C02F8C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530E-1AB0-4530-8685-045D0EBB2302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rmulare una frase di apertura efficace, pertinente all'argomento e in grado di attirare l'attenzione del pubblico. Fare leva sugli interessi del pubblico. Il ritmo della riunione è determinato dall'atteggiamento del moderatore, che dovrà stimolare la partecipazione del pubbl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moderazione è un processo che consente la comunicazione e la collaborazione tra più persone. Creare un ambiente aperto rivolto alla risoluzione dei problemi e al cambi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FCAA-DFD2-4298-AA6F-0BFC7946F987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AAFC-4353-4F94-812F-63A7F13E9B9D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9339-9C86-426D-BE0C-77ABAB7A88A8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7201-0C4A-4BC2-9A90-08287A5E0B2A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AD43-366C-4586-A2FA-9CEE1BBDD88B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5F62-50C6-42AE-9688-46C5DE578B4A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F745-0ED2-448D-BAF5-BB7BE79A7111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400D-2C01-4380-A00A-650BB4CE5247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a volta definito il problema, concentrarsi sulla ricerca di soluzioni.  Incoraggiare l'apertura mentale e la creatività dei partecipanti e chiedere loro suggerime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ettare la diversità di opinioni. Diversi punti di vista favoriscono la risoluzione dei problemi e aggiungono sostanza alla discuss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endere nota delle idee. Considerare tutti i suggerimenti. Mantenere un atteggiamento sicuro e incoraggiante per tutta la durata della discussione. Coinvolgere i partecipanti nella discussione. Elencare le alternative in ordine di importanza. Utilizzare le proposte scaturite dalla discussione per determinare la solu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9033-3165-4CEE-8C43-CF89BDDF400A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568-3F05-4335-A1C9-B3B43B63616E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C13-D5D8-4107-BAC8-6F0EFA2C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675-2FE1-4F00-BF84-E9D553F9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41F-2E0B-4255-A491-456373ED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6A7-5A71-4578-9762-3E6CB3C8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102-E43A-46DC-938C-ED19A7EA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C05-86D3-48B5-86B4-B36BFCBB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D37-C75A-468C-932B-FA67B255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CEA-64B2-42A0-9121-F8D1B35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A7B-99EC-4866-AF31-460E4FC6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78A-C610-4C77-9A29-189F3D1A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2B6-D107-4C53-961C-BD865C2D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F89-9151-4E60-BFD8-400C68A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7FA8-AE15-435B-9A84-B06C36834C75}" type="datetime3">
              <a:rPr b="0" lang="it-IT" sz="1400" spc="-1" strike="noStrike">
                <a:solidFill>
                  <a:srgbClr val="000000"/>
                </a:solidFill>
                <a:latin typeface="Arial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3447-20A7-4629-A104-EE60CE4EDDD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lancoast.eu/php/plancoast-partners.php#Ministry of Labour#Ministry of Labour" TargetMode="External"/><Relationship Id="rId3" Type="http://schemas.openxmlformats.org/officeDocument/2006/relationships/hyperlink" Target="http://www.plancoast.eu/php/plancoast-partners.php#Maritime Office#Maritime Office" TargetMode="External"/><Relationship Id="rId4" Type="http://schemas.openxmlformats.org/officeDocument/2006/relationships/hyperlink" Target="http://www.plancoast.eu/php/plancoast-partners.php#ECAT Tirana#ECAT Tirana" TargetMode="External"/><Relationship Id="rId5" Type="http://schemas.openxmlformats.org/officeDocument/2006/relationships/hyperlink" Target="http://www.plancoast.eu/php/plancoast-partners.php#Neretva Cantonal#Neretva Cantonal" TargetMode="External"/><Relationship Id="rId6" Type="http://schemas.openxmlformats.org/officeDocument/2006/relationships/hyperlink" Target="http://www.plancoast.eu/php/plancoast-partners.php#Priority Actions Programme/Regional Activity Centre PAP/RAC#Priority Actions Programme/Regional Activity Centre PAP/RAC" TargetMode="External"/><Relationship Id="rId7" Type="http://schemas.openxmlformats.org/officeDocument/2006/relationships/hyperlink" Target="http://www.plancoast.eu/php/plancoast-partners.php#Emilia-Romagna Region#Emilia-Romagna Region" TargetMode="External"/><Relationship Id="rId8" Type="http://schemas.openxmlformats.org/officeDocument/2006/relationships/hyperlink" Target="http://www.plancoast.eu/php/plancoast-partners.php#Public Enterprise#Public Enterprise" TargetMode="External"/><Relationship Id="rId9" Type="http://schemas.openxmlformats.org/officeDocument/2006/relationships/hyperlink" Target="http://www.plancoast.eu/php/plancoast-partners.php#Regional Development#Regional Development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38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5400" spc="-1" strike="noStrike">
                <a:solidFill>
                  <a:srgbClr val="000066"/>
                </a:solidFill>
                <a:latin typeface="Arial"/>
              </a:rPr>
              <a:t>PlanCoast Final Meeting and confer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a50021"/>
                </a:solidFill>
                <a:latin typeface="Arial"/>
              </a:rPr>
              <a:t>Zanichelli L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a50021"/>
                </a:solidFill>
                <a:latin typeface="Arial"/>
              </a:rPr>
              <a:t>Ravenna 28 marz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DA69-9658-4452-9581-41707CD4CAE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La costa emiliano-romagn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In Romagna le Dune nel 1955 erano 60 Km nel 1955 ed oggi sono 19 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In Italia erano più di 1.200 Km e oggi ce ne sono meno di 600 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E’ la cifra dello sviluppo che ha caratterizzato l’Italia nel dopoguerr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I dati dell’Unione Europea: 89.000 chilometri di co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In ogni realtà è aperto un dibattito sulle iniziative da assum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satellite_norditalia_rer"/>
          <p:cNvPicPr/>
          <p:nvPr/>
        </p:nvPicPr>
        <p:blipFill>
          <a:blip r:embed="rId2"/>
          <a:srcRect l="13067" t="18224" r="12133" b="9644"/>
          <a:stretch/>
        </p:blipFill>
        <p:spPr>
          <a:xfrm>
            <a:off x="1547640" y="2997360"/>
            <a:ext cx="54007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DA90-DE51-4E53-9E9A-7B59488203F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Arial"/>
              </a:rPr>
              <a:t>Le strategie europ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a50021"/>
                </a:solidFill>
                <a:uFillTx/>
                <a:latin typeface="Arial"/>
              </a:rPr>
              <a:t>Importanza di una dimensione europea negli interventi per la gestione integrata delle zone costi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Libro Verde verso la futura Politica Marit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Direttiva 2000/60/CE che istituisce un quadro per l’azione comunitaria in materia di ac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Direttiva 2001/42/CE concernente la valutazione degli effetti di determinati piani e programmi sull’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RACCOMANDAZIONE DEL PARLAMENTO EUROPEO E DEL CONSIGLIO del 30 maggio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relativa all’attuazione della gestione integrata delle zone costiere i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a50021"/>
                </a:solidFill>
                <a:latin typeface="Arial"/>
              </a:rPr>
              <a:t>(2002/413/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887640" cy="216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38163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533A-8359-4E99-B81B-C084D8078D0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0066"/>
                </a:solidFill>
                <a:latin typeface="Arial"/>
              </a:rPr>
              <a:t>Raccomandazione ICZM </a:t>
            </a:r>
            <a:br>
              <a:rPr sz="4000"/>
            </a:br>
            <a:r>
              <a:rPr b="1" lang="it-IT" sz="4000" spc="-1" strike="noStrike">
                <a:solidFill>
                  <a:srgbClr val="660066"/>
                </a:solidFill>
                <a:latin typeface="Arial"/>
              </a:rPr>
              <a:t>30 maggio 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Approccio strategico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per la gestione delle zone cost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Principi di gestione integrata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delle zone cost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Valutazione nazionale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per individuare quali soggetti principali, leggi e istituzioni influenzano la gestione delle zone cost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Strategie nazionali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in collaborazione con le autorità regionali e le organizzazioni interregionali per applicare i principi di gestione integrata delle zone cost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Cooperazione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con i paesi vicini, le istituzioni comunitarie e gli altri gruppi di interes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08DA-130A-47C9-ADF6-E7333548360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220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0066"/>
                </a:solidFill>
                <a:latin typeface="Arial"/>
              </a:rPr>
              <a:t>Gestione integrata delle zone costi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1268280"/>
            <a:ext cx="7988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Proprio per questo in Emilia-Romagna abbiamo approvato nel dicembre del 2004 le linee guida del progetto Gizc, Gestione integrata delle zone costi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Costituisce una operazione di programmazione di “nuova generazione” che opera per saldare il livello territoriale con quello settoriale, per combinare sempre più tra loro le polit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E’ il grande tema del nostro t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Le politiche di settore sono state molto importanti nelle stagioni di crescita ed hanno dettato i tempi dello svilup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Hanno raggiunto la loro maturità e richiedono innov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NON E’ UN MOMENTO FACILE PER L’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5619-044B-4F1A-AD6C-5787B570E5A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IL GIZC Emilia-Romag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Il GIZC  rappresenta l’innovativo strumento per orientare verso la sostenibilità ambientale tutte le attività  che interessano la costa emiliano-romagn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logo GIZC"/>
          <p:cNvPicPr/>
          <p:nvPr/>
        </p:nvPicPr>
        <p:blipFill>
          <a:blip r:embed="rId2"/>
          <a:stretch/>
        </p:blipFill>
        <p:spPr>
          <a:xfrm>
            <a:off x="4648320" y="2205000"/>
            <a:ext cx="4495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BD03-6968-438C-AF4E-9618C4F51B3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uoli e Compe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22200" y="1027080"/>
            <a:ext cx="8658360" cy="2052720"/>
          </a:xfrm>
          <a:prstGeom prst="rect">
            <a:avLst/>
          </a:prstGeom>
          <a:solidFill>
            <a:srgbClr val="99ffc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30120" y="0"/>
            <a:ext cx="854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>
                <a:solidFill>
                  <a:srgbClr val="660066"/>
                </a:solidFill>
                <a:latin typeface="Arial"/>
              </a:rPr>
              <a:t>Ruoli e compete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1127160" y="1200240"/>
            <a:ext cx="2214360" cy="619200"/>
          </a:xfrm>
          <a:prstGeom prst="ellipse">
            <a:avLst/>
          </a:prstGeom>
          <a:solidFill>
            <a:srgbClr val="ffff99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3692520" y="1216080"/>
            <a:ext cx="2214720" cy="619200"/>
          </a:xfrm>
          <a:prstGeom prst="ellipse">
            <a:avLst/>
          </a:prstGeom>
          <a:solidFill>
            <a:srgbClr val="ffff99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Prov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6477120" y="1219320"/>
            <a:ext cx="2214360" cy="618840"/>
          </a:xfrm>
          <a:prstGeom prst="ellipse">
            <a:avLst/>
          </a:prstGeom>
          <a:solidFill>
            <a:srgbClr val="ffff99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Comu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066680" y="2438280"/>
            <a:ext cx="7336080" cy="5810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Comitato Istitu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062160" y="3722760"/>
            <a:ext cx="3340080" cy="1039680"/>
          </a:xfrm>
          <a:prstGeom prst="rect">
            <a:avLst/>
          </a:prstGeom>
          <a:solidFill>
            <a:srgbClr val="80ffb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itato Intersetto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 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85840" y="3281400"/>
            <a:ext cx="2103480" cy="544320"/>
          </a:xfrm>
          <a:prstGeom prst="rect">
            <a:avLst/>
          </a:prstGeom>
          <a:solidFill>
            <a:srgbClr val="80ffb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egreteria Te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311120" y="5788080"/>
            <a:ext cx="2509920" cy="557280"/>
          </a:xfrm>
          <a:prstGeom prst="rect">
            <a:avLst/>
          </a:prstGeom>
          <a:solidFill>
            <a:srgbClr val="80ffb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am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5570640" y="5767560"/>
            <a:ext cx="2509560" cy="556920"/>
          </a:xfrm>
          <a:prstGeom prst="rect">
            <a:avLst/>
          </a:prstGeom>
          <a:solidFill>
            <a:srgbClr val="80ffb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ruppi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890640" y="1324080"/>
            <a:ext cx="27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Giunt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Reg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4141800" y="1854360"/>
            <a:ext cx="1225440" cy="544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H="1">
            <a:off x="3042720" y="4844880"/>
            <a:ext cx="884520" cy="90828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3983040" y="5864400"/>
            <a:ext cx="1322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4033440" y="6111720"/>
            <a:ext cx="1260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H="1">
            <a:off x="2460600" y="3706920"/>
            <a:ext cx="4348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2488680" y="3884760"/>
            <a:ext cx="43524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1908000" y="5472000"/>
            <a:ext cx="311400" cy="34632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2"/>
          <p:cNvSpPr/>
          <p:nvPr/>
        </p:nvSpPr>
        <p:spPr>
          <a:xfrm>
            <a:off x="4254480" y="3105000"/>
            <a:ext cx="730440" cy="63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3"/>
          <p:cNvGrpSpPr/>
          <p:nvPr/>
        </p:nvGrpSpPr>
        <p:grpSpPr>
          <a:xfrm>
            <a:off x="317520" y="4199040"/>
            <a:ext cx="2046240" cy="1374840"/>
            <a:chOff x="317520" y="4199040"/>
            <a:chExt cx="2046240" cy="1374840"/>
          </a:xfrm>
        </p:grpSpPr>
        <p:sp>
          <p:nvSpPr>
            <p:cNvPr id="142" name="Oval 24"/>
            <p:cNvSpPr/>
            <p:nvPr/>
          </p:nvSpPr>
          <p:spPr>
            <a:xfrm>
              <a:off x="317520" y="4199040"/>
              <a:ext cx="2046240" cy="1374840"/>
            </a:xfrm>
            <a:prstGeom prst="ellipse">
              <a:avLst/>
            </a:prstGeom>
            <a:solidFill>
              <a:srgbClr val="80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524880" y="4270680"/>
              <a:ext cx="166824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Supporto tecnico-scientif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Fondazione CerviaAmb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26"/>
          <p:cNvSpPr/>
          <p:nvPr/>
        </p:nvSpPr>
        <p:spPr>
          <a:xfrm>
            <a:off x="1128600" y="3844800"/>
            <a:ext cx="0" cy="3351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 flipV="1">
            <a:off x="1341360" y="3862080"/>
            <a:ext cx="0" cy="282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2452680" y="4479840"/>
            <a:ext cx="511200" cy="123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>
            <a:off x="1940040" y="3879720"/>
            <a:ext cx="1023840" cy="18878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076400" y="5643720"/>
            <a:ext cx="0" cy="91728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1093680" y="6561000"/>
            <a:ext cx="56278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2"/>
          <p:cNvSpPr/>
          <p:nvPr/>
        </p:nvSpPr>
        <p:spPr>
          <a:xfrm flipV="1">
            <a:off x="6721560" y="6332040"/>
            <a:ext cx="0" cy="211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C18D-AE6B-4F31-A9E0-E70DEC9C62E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Regione Euroadri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Noi partecipiamo a diverse inizi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Regione EuroAdriatica di cui presiediamo Commissione Ambi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"Prodotto certificato Alto Adriatico"</a:t>
            </a:r>
            <a:r>
              <a:rPr b="0" lang="it-IT" sz="2800" spc="-1" strike="noStrike">
                <a:solidFill>
                  <a:srgbClr val="a50021"/>
                </a:solidFill>
                <a:latin typeface="Arial"/>
              </a:rPr>
              <a:t> progetto 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Interreg Adri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2195640" y="3860640"/>
            <a:ext cx="1584360" cy="15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C876-1022-4C37-82D9-27BCE772331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Il confronto di og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Lo scopo di questo Meeting è quello di condividere l’esperienza sviluppata durante il progetto PlanCoast e i risultati conseguiti con un vasto numero di </a:t>
            </a:r>
            <a:r>
              <a:rPr b="0" i="1" lang="it-IT" sz="2400" spc="-1" strike="noStrike">
                <a:solidFill>
                  <a:srgbClr val="a50021"/>
                </a:solidFill>
                <a:latin typeface="Arial"/>
              </a:rPr>
              <a:t>stakeholder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, al fine di promuovere l’implementazione degli strumenti di Gestione Integrata delle zone costiere e di pianificazione marittima, oltreché di approfondire il dibattito su alcuni tematismi specifici, quali l’utilizzo di sabbia litorale e sottomarina per gli interventi di ripascimento, la produzione di energia eolica </a:t>
            </a:r>
            <a:r>
              <a:rPr b="0" i="1" lang="it-IT" sz="2400" spc="-1" strike="noStrike">
                <a:solidFill>
                  <a:srgbClr val="a50021"/>
                </a:solidFill>
                <a:latin typeface="Arial"/>
              </a:rPr>
              <a:t>offshore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, la produzione e il trasporto di idrocarburi, la gestione dei sedimenti, il monitoraggio e la rice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Ci auguriamo che il lavoro prosegua e si sviluppi in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a50021"/>
                </a:solidFill>
                <a:latin typeface="Franklin Gothic Medium"/>
              </a:rPr>
              <a:t>Grazi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a50021"/>
                </a:solidFill>
                <a:latin typeface="Arial"/>
              </a:rPr>
              <a:t>Buon Lavoro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BDF0-EE53-4E0E-B038-4A9FD0B4AE9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Sa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50021"/>
                </a:solidFill>
                <a:latin typeface="Arial"/>
              </a:rPr>
              <a:t>Buongiorno a tutti nella suggestiva cornice della città di Ravenna. Una città ed una terra molto legata al m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50021"/>
                </a:solidFill>
                <a:latin typeface="Arial"/>
              </a:rPr>
              <a:t>C'è chi pensa che originariamente si chiamasse "Navenna" da "naves", altri sostengono che il nome venga da "Rhein"(abbondanza di acque) divenuto poi "Rhenna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50021"/>
                </a:solidFill>
                <a:latin typeface="Arial"/>
              </a:rPr>
              <a:t>Ecco perché è un luogo ideale per parlare di costa e di fragilità delle aree costi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CE1F-CC05-48C5-8DBB-C8AA66AC118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PlanCo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Il progetto PlanCoast, sviluppato in un periodo di due anni da 16 partners appartenenti a 11 Paesi del Mare Adriatico, Mar Baltico e Mar Nero ha sviluppato i temi della Gestione Integrata delle Zone Costiere e della Pianificazione Maritt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L’obiettivo è quello di rafforzare il ruolo della pianificazione territoriale nella gestione integrata delle zone costiere e nei processi di pianificazione degli usi del mare, attraverso la realizzazione di diversi progetti pil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nCoast Partners represent 16 institutions and organisations responsible for coastal planning in 11 countries of the Baltic, Adriatic and Black Sea Reg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nistry of Transport, Building and Regional Development Mecklenburg–Vorpommer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deral Ministry of Transport, Building and Urban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ritime Office, Gdyni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gional Spatial Planning Office, Pomorskie Voivod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CAT Tir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eretva Cantonal Ministry of Physical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riority Actions Programme⁄Regional Activity Centre PAP⁄R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milia–Romagna Region, DG Environment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ncona Municip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onteneg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ublic Enterprise for Coastal Zone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love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gional Development Centre, K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istrict Administration Centre, Varn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Black Sea NGO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oman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ational Institute for Marine Research and Development, "Grigore Antipa"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ational Institute for Research and Development "Urbanproiec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kraine Scientific Center of Ecology of Sea (UkrSCES)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plancoast"/>
          <p:cNvPicPr/>
          <p:nvPr/>
        </p:nvPicPr>
        <p:blipFill>
          <a:blip r:embed="rId10"/>
          <a:stretch/>
        </p:blipFill>
        <p:spPr>
          <a:xfrm>
            <a:off x="684360" y="404640"/>
            <a:ext cx="3024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egnaposto piè di pagina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0859-C8E0-4686-80CD-5D313E2E68D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Cambiamenti climat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058"/>
          <p:cNvGraphicFramePr/>
          <p:nvPr/>
        </p:nvGraphicFramePr>
        <p:xfrm>
          <a:off x="250920" y="1484280"/>
          <a:ext cx="403380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205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84280"/>
                    <a:ext cx="40338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dc20c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59"/>
          <p:cNvSpPr/>
          <p:nvPr/>
        </p:nvSpPr>
        <p:spPr>
          <a:xfrm>
            <a:off x="4643280" y="1345320"/>
            <a:ext cx="4500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ASHINGTON  - Un pezzo di ghiaccio grande 400 chilometri quadrati è collassato nella parte occidentale dell’Antartide….   Il fenomeno - cominciato il 28 febbraio scorso - è stato ripreso dai satelliti ed è stato “straordinario” 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anche perché non capita di vedere tutti i giorni collassare un pezzo di ghiaccio grande quanto sette volte Manhatta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A staccarsi… è stato il cosiddetto ‘Asse di Wilkins’, un’area della parte occidentale dell’Antartide che gli scienziati avevano già previsto sarebbe collassata. Ritenevano però che sarebbe avvenuto tra quindici anni. Il fenomeno è stato fotografato e ripreso con un video da un aereo mandato appositamente sul posto. 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Quanto avvenuto è rarissimo - hanno commentato al centro di Boulder - anche perché l’asse di Wilkins esisteva almeno da 1500 anni”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piè di pagina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7CFB-1B87-4E5A-AEA4-3DB4D7007C7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705720" cy="525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457200" y="404640"/>
            <a:ext cx="82296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piè di pagina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3562-A198-436F-AEA6-00FEBED31DF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096240" cy="5334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609480" y="403200"/>
            <a:ext cx="79250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17C9-14A1-4288-830B-C1C3621AA67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Mitigazione e adat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La strategia di </a:t>
            </a:r>
            <a:r>
              <a:rPr b="1" i="1" lang="it-IT" sz="2800" spc="-1" strike="noStrike" u="sng">
                <a:solidFill>
                  <a:srgbClr val="a50021"/>
                </a:solidFill>
                <a:uFillTx/>
                <a:latin typeface="Arial"/>
              </a:rPr>
              <a:t>mitigazione</a:t>
            </a: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 dei cambiamenti climatici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, che agisce sulle cause dei cambiamenti del clima e ha l'obiettivo di ridurre le emissioni di gas serra provenienti dalle attività umane per eliminarne l'accumulo in atmosf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La strategia di </a:t>
            </a:r>
            <a:r>
              <a:rPr b="1" i="1" lang="it-IT" sz="2800" spc="-1" strike="noStrike" u="sng">
                <a:solidFill>
                  <a:srgbClr val="a50021"/>
                </a:solidFill>
                <a:uFillTx/>
                <a:latin typeface="Arial"/>
              </a:rPr>
              <a:t>adattamento</a:t>
            </a:r>
            <a:r>
              <a:rPr b="1" lang="it-IT" sz="2800" spc="-1" strike="noStrike" u="sng">
                <a:solidFill>
                  <a:srgbClr val="a50021"/>
                </a:solidFill>
                <a:uFillTx/>
                <a:latin typeface="Arial"/>
              </a:rPr>
              <a:t> </a:t>
            </a: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agisce sugli effetti dei cambiamenti del clima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e ha l'obiettivo di minimizzare le conseguenze negative e di prevenire i danni riducendo la vulnerabilità territoriale e quella socio economica ai cambiamenti del clima, e sfruttando, ove possibile, nuove opportunità di sviluppo socio economico che dovessero sorgere con i cambiamenti climat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B022-015C-41B3-85E4-B82DA318614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Sviluppo sosteni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L’ISPIRAZIONE DI FONDO E’ QUELLO DI UN FUTURO SOSTENIB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Negli ultimi anni si è sviluppata una forte iniziativa tesa a regolare i “limiti” dello sviluppo. “Command and contro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Penso sia stato un passaggio neces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Oggi occorre fare un ulteriore passaggio, quello dello svilupp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Quello che fa sì che l’economia, la coesione sociale, la tutela delle risorse naturali sono il cuore di una polit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La nuova crisi energetica, ciò che rientra nei temi del protocollo di Kyoto, che qui ha un punto alto nella crisi delle polveri fini e degli altri inquinanti, le fragilità di cui parliamo quest’oggi ci conducono su un punto cruci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GUAI A TRASCURARE PER UN MOMENTO LA CENTRALITA’ DELLA QUESTIONE AMBIENT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Diagram 8"/>
          <p:cNvGrpSpPr/>
          <p:nvPr/>
        </p:nvGrpSpPr>
        <p:grpSpPr>
          <a:xfrm>
            <a:off x="4325040" y="1521360"/>
            <a:ext cx="4684320" cy="4684320"/>
            <a:chOff x="4325040" y="1521360"/>
            <a:chExt cx="4684320" cy="4684320"/>
          </a:xfrm>
        </p:grpSpPr>
        <p:sp>
          <p:nvSpPr>
            <p:cNvPr id="84" name="_s2052"/>
            <p:cNvSpPr/>
            <p:nvPr/>
          </p:nvSpPr>
          <p:spPr>
            <a:xfrm>
              <a:off x="4952880" y="2149200"/>
              <a:ext cx="3429000" cy="34290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3"/>
            <p:cNvSpPr/>
            <p:nvPr/>
          </p:nvSpPr>
          <p:spPr>
            <a:xfrm rot="7200000">
              <a:off x="4952160" y="2148840"/>
              <a:ext cx="3429000" cy="34290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4"/>
            <p:cNvSpPr/>
            <p:nvPr/>
          </p:nvSpPr>
          <p:spPr>
            <a:xfrm rot="14400000">
              <a:off x="4952520" y="2148480"/>
              <a:ext cx="3429000" cy="34290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5"/>
            <p:cNvSpPr/>
            <p:nvPr/>
          </p:nvSpPr>
          <p:spPr>
            <a:xfrm>
              <a:off x="7381800" y="2625480"/>
              <a:ext cx="1046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es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i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6"/>
            <p:cNvSpPr/>
            <p:nvPr/>
          </p:nvSpPr>
          <p:spPr>
            <a:xfrm>
              <a:off x="6146640" y="4770360"/>
              <a:ext cx="1046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te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b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7"/>
            <p:cNvSpPr/>
            <p:nvPr/>
          </p:nvSpPr>
          <p:spPr>
            <a:xfrm>
              <a:off x="4906800" y="2627280"/>
              <a:ext cx="1046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ilup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onom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37D-6B29-4BA2-947B-DC0B6DA0FBB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Arial"/>
              </a:rPr>
              <a:t>I problemi delle aree costi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Quasi la metà della popolazione europea vive lungo le coste o nelle loro vicinan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Diversi proble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Scarsa pianificazione dello sviluppo turist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Declino della pes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Reti di trasporto inadegu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Eccessiva urbanizz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Eros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Inquina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Distruzione degli habi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ffaelli_k</cp:lastModifiedBy>
  <dcterms:modified xsi:type="dcterms:W3CDTF">2008-03-28T08:59:05Z</dcterms:modified>
  <cp:revision>30</cp:revision>
  <dc:subject/>
  <dc:title>Presentazione di PowerPoint</dc:title>
</cp:coreProperties>
</file>