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925560" y="750600"/>
            <a:ext cx="500688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FD2B-9E86-442E-B0EC-2887CD34DE37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8E0F-30DF-46A8-BACE-224DA449BF4C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D8B7-3BDC-4ADF-BB02-03742E661021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4A12-0A75-4116-AC0C-DBEFBD8979EF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'abile moderazione offre vantaggi pratici e immediati. Il ruolo del moderatore consiste nel definire il programma della riunione, guidare gli interventi e determinarne il ritmo. Utilizzare questi modelli della Dale Carnegie Training® per impostare riunioni di sicuro effet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i consiglia di preparare degli stampanti in modo da focalizzare gli argomenti della discussione e fornire ai partecipanti un mezzo per annotare le proprie idee. Se si stampano stampati con tre diapositive per pagina, verranno automaticamente aggiunte tre righe vuote per le annotazioni dei partecipa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EE50-6AD3-4E13-B907-945ED5131946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B3A7-0857-4CF5-A58D-5D2F42F76AD4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abilire obiettivi chiari. Esporre in modo efficace il problema da risolvere. Chiedere l'approvazione del programma, il problema e il processo di risolu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lecitare e moderare l’intervento di tutti i partecipanti. Incoraggiare l'esposizione di esperienze personali. Chiedere dimostrazioni pratiche a supporto degli argomenti di discussione. Infondere in ogni partecipante fiducia sulla validità del proprio contribu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FC4-5B5B-4329-8237-3D6ED724FFA4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2120-DF62-478E-AA92-D887C88C72E7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E85-4076-40DF-BABB-B9C06CBF84D7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0681-CD37-4C74-B208-9055B0EC6F75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84320" y="865080"/>
            <a:ext cx="4694040" cy="3522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26920" y="4758840"/>
            <a:ext cx="52041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4F5E-D17E-4FEE-B293-8D5531AA4FA4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4BF6-C0D6-4619-A2A6-B26A47FCA634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abilire un collegamento all'argomento principale. Esporre lo scopo e l'importanza della riun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ssumere il ruolo di catalizzatore di idee. Porre domande. Guidare gli interventi dei partecipanti. Incoraggiare la partecipazione. Annotare i commenti. Ringraziare i partecipanti per i contributi individu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tilizzare gli Appunti presentazione per annotare i commenti dei partecipanti durante la riun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50A-F9F1-4B00-939B-080CC6F2A927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FBC0-DC43-498D-9535-B659BBA56B69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6468-19FA-4038-B6E6-9E796895E190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1580-0F3F-4877-BA97-4532F288CAF1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8CE0-2A62-420A-8D25-9A718AB4D9D9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A02D-CA3B-47CC-9C2A-F9022D95FAD7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732C-B0E0-48E9-B40A-23B78BD3BFA7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A907-E99A-4BCB-85FF-78ECD06CCCD3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mulare una frase di apertura efficace, pertinente all'argomento e in grado di attirare l'attenzione del pubblico. Fare leva sugli interessi del pubblico. Il ritmo della riunione è determinato dall'atteggiamento del moderatore, che dovrà stimolare la partecipazione del pubbl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moderazione è un processo che consente la comunicazione e la collaborazione tra più persone. Creare un ambiente aperto rivolto alla risoluzione dei problemi e al cambi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4790-AAB1-4D80-AA7E-BEBA6374A7CD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73E-5577-4653-B493-AF9B3A89936A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1755-56B8-4099-B83D-829DBDFED876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5CE9-957D-4735-BD9B-8DED46B8D968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6B81-9BB1-4613-938A-B652693602C8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B737-0235-43B1-A381-27A85D386C28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1BA-6923-4BFD-9777-7BB2A2269AD0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E0AD-45CE-489C-8F79-2C8870FF03D6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a volta definito il problema, concentrarsi sulla ricerca di soluzioni.  Incoraggiare l'apertura mentale e la creatività dei partecipanti e chiedere loro suggerime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ettare la diversità di opinioni. Diversi punti di vista favoriscono la risoluzione dei problemi e aggiungono sostanza alla discuss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endere nota delle idee. Considerare tutti i suggerimenti. Mantenere un atteggiamento sicuro e incoraggiante per tutta la durata della discussione. Coinvolgere i partecipanti nella discussione. Elencare le alternative in ordine di importanza. Utilizzare le proposte scaturite dalla discussione per determinare la solu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Ferrara, Cambiamenti climat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3886200" y="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502B-E96B-4257-809D-475490975477}" type="datetime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3886200" y="9513720"/>
            <a:ext cx="2971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ED6A-3585-4DF6-A8B8-5B55F70B1FB6}" type="slidenum"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6880" cy="3755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7AB-05A1-4CCF-88E7-62F2BA9E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CA2-7953-4223-B8EC-A6921293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A6D-B8A5-4208-A308-4507246A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82A-16C0-4A84-B887-AF739CF3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B25-8A7E-4191-8E48-065E73EF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6E2-7880-4B64-9B7A-44BC90D5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C87-3B4A-44F3-A865-4B415C84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B7C-1611-4DE5-B240-379B8383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0CC-AA63-4C4B-83AB-D38918B5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004-4F83-4FE7-ACAA-9D05CC7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A35-FB38-433A-BE7D-D527FB82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BB0-2F22-4C78-B4D2-526AC5FB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95A0-1E71-46DD-B3E9-A903AD868DAF}" type="datetime3">
              <a:rPr b="0" lang="it-IT" sz="1400" spc="-1" strike="noStrike">
                <a:solidFill>
                  <a:srgbClr val="000000"/>
                </a:solidFill>
                <a:latin typeface="Arial"/>
              </a:rPr>
              <a:t>30 luglio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F0CA-E012-4E27-8C72-514A9BBB429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lancoast.eu/php/plancoast-partners.php#Ministry of Labour#Ministry of Labour" TargetMode="External"/><Relationship Id="rId3" Type="http://schemas.openxmlformats.org/officeDocument/2006/relationships/hyperlink" Target="http://www.plancoast.eu/php/plancoast-partners.php#Maritime Office#Maritime Office" TargetMode="External"/><Relationship Id="rId4" Type="http://schemas.openxmlformats.org/officeDocument/2006/relationships/hyperlink" Target="http://www.plancoast.eu/php/plancoast-partners.php#ECAT Tirana#ECAT Tirana" TargetMode="External"/><Relationship Id="rId5" Type="http://schemas.openxmlformats.org/officeDocument/2006/relationships/hyperlink" Target="http://www.plancoast.eu/php/plancoast-partners.php#Neretva Cantonal#Neretva Cantonal" TargetMode="External"/><Relationship Id="rId6" Type="http://schemas.openxmlformats.org/officeDocument/2006/relationships/hyperlink" Target="http://www.plancoast.eu/php/plancoast-partners.php#Priority Actions Programme/Regional Activity Centre PAP/RAC#Priority Actions Programme/Regional Activity Centre PAP/RAC" TargetMode="External"/><Relationship Id="rId7" Type="http://schemas.openxmlformats.org/officeDocument/2006/relationships/hyperlink" Target="http://www.plancoast.eu/php/plancoast-partners.php#Emilia-Romagna Region#Emilia-Romagna Region" TargetMode="External"/><Relationship Id="rId8" Type="http://schemas.openxmlformats.org/officeDocument/2006/relationships/hyperlink" Target="http://www.plancoast.eu/php/plancoast-partners.php#Public Enterprise#Public Enterprise" TargetMode="External"/><Relationship Id="rId9" Type="http://schemas.openxmlformats.org/officeDocument/2006/relationships/hyperlink" Target="http://www.plancoast.eu/php/plancoast-partners.php#Regional Development#Regional Development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38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5400" spc="-1" strike="noStrike">
                <a:solidFill>
                  <a:srgbClr val="000066"/>
                </a:solidFill>
                <a:latin typeface="Arial"/>
              </a:rPr>
              <a:t>PlanCoast Final Meeting and confer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a50021"/>
                </a:solidFill>
                <a:latin typeface="Arial"/>
              </a:rPr>
              <a:t>Zanichelli L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a50021"/>
                </a:solidFill>
                <a:latin typeface="Arial"/>
              </a:rPr>
              <a:t>Ravenna 28 marz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AC9-E80A-4DB3-8B9E-8ECF927DA35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La costa emiliano-romagn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In Romagna le Dune nel 1955 erano 60 Km nel 1955 ed oggi sono 19 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In Italia erano più di 1.200 Km e oggi ce ne sono meno di 600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E’ la cifra dello sviluppo che ha caratterizzato l’Italia nel dopoguerr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I dati dell’Unione Europea: 89.000 chilometri di co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Arial"/>
              </a:rPr>
              <a:t>In ogni realtà è aperto un dibattito sulle iniziative da assum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satellite_norditalia_rer"/>
          <p:cNvPicPr/>
          <p:nvPr/>
        </p:nvPicPr>
        <p:blipFill>
          <a:blip r:embed="rId2"/>
          <a:srcRect l="13067" t="18224" r="12133" b="9644"/>
          <a:stretch/>
        </p:blipFill>
        <p:spPr>
          <a:xfrm>
            <a:off x="1547640" y="2997360"/>
            <a:ext cx="54007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E619-2475-4259-BA6C-3471AB63A54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Arial"/>
              </a:rPr>
              <a:t>Le strategie europ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a50021"/>
                </a:solidFill>
                <a:uFillTx/>
                <a:latin typeface="Arial"/>
              </a:rPr>
              <a:t>Importanza di una dimensione europea negli interventi per la gestione integrata delle zone cost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Libro Verde verso la futura Politica Marit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Direttiva 2000/60/CE che istituisce un quadro per l’azione comunitaria in materia di ac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Direttiva 2001/42/CE concernente la valutazione degli effetti di determinati piani e programmi sull’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RACCOMANDAZIONE DEL PARLAMENTO EUROPEO E DEL CONSIGLIO del 30 maggio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a50021"/>
                </a:solidFill>
                <a:latin typeface="Arial"/>
              </a:rPr>
              <a:t>relativa all’attuazione della gestione integrata delle zone costiere i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a50021"/>
                </a:solidFill>
                <a:latin typeface="Arial"/>
              </a:rPr>
              <a:t>(2002/413/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887640" cy="216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38163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1834-1FCA-459E-93AC-8CD45FE9009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0066"/>
                </a:solidFill>
                <a:latin typeface="Arial"/>
              </a:rPr>
              <a:t>Raccomandazione ICZM </a:t>
            </a:r>
            <a:br>
              <a:rPr sz="4000"/>
            </a:br>
            <a:r>
              <a:rPr b="1" lang="it-IT" sz="4000" spc="-1" strike="noStrike">
                <a:solidFill>
                  <a:srgbClr val="660066"/>
                </a:solidFill>
                <a:latin typeface="Arial"/>
              </a:rPr>
              <a:t>30 maggio 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Approccio strategico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per la gestione delle zone cost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Principi di gestione integrata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delle zone cost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Valutazione nazionale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per individuare quali soggetti principali, leggi e istituzioni influenzano la gestione delle zone cost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Strategie nazionali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in collaborazione con le autorità regionali e le organizzazioni interregionali per applicare i principi di gestione integrata delle zone cost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Cooperazione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con i paesi vicini, le istituzioni comunitarie e gli altri gruppi di interes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9F2F-C481-410B-9FF6-AB5DBAA8846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220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0066"/>
                </a:solidFill>
                <a:latin typeface="Arial"/>
              </a:rPr>
              <a:t>Gestione integrata delle zone costi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268280"/>
            <a:ext cx="7988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Proprio per questo in Emilia-Romagna abbiamo approvato nel dicembre del 2004 le linee guida del progetto Gizc, Gestione integrata delle zone costi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Costituisce una operazione di programmazione di “nuova generazione” che opera per saldare il livello territoriale con quello settoriale, per combinare sempre più tra loro le polit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E’ il grande tema del nostro t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Le politiche di settore sono state molto importanti nelle stagioni di crescita ed hanno dettato i tempi dello svilu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Hanno raggiunto la loro maturità e richiedono innov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NON E’ UN MOMENTO FACILE PER L’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561-1854-4FAA-9D75-ED0A6F35F13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IL GIZC Emilia-Romag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Il GIZC  rappresenta l’innovativo strumento per orientare verso la sostenibilità ambientale tutte le attività  che interessano la costa emiliano-romagn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logo GIZC"/>
          <p:cNvPicPr/>
          <p:nvPr/>
        </p:nvPicPr>
        <p:blipFill>
          <a:blip r:embed="rId2"/>
          <a:stretch/>
        </p:blipFill>
        <p:spPr>
          <a:xfrm>
            <a:off x="4648320" y="2205000"/>
            <a:ext cx="4495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613D-440C-4BB8-9BBB-E2C44D22AA4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uoli e Compe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22200" y="1027080"/>
            <a:ext cx="8658360" cy="2052720"/>
          </a:xfrm>
          <a:prstGeom prst="rect">
            <a:avLst/>
          </a:prstGeom>
          <a:solidFill>
            <a:srgbClr val="99ffc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30120" y="0"/>
            <a:ext cx="854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660066"/>
                </a:solidFill>
                <a:latin typeface="Arial"/>
              </a:rPr>
              <a:t>Ruoli e compete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1127160" y="1200240"/>
            <a:ext cx="2214360" cy="619200"/>
          </a:xfrm>
          <a:prstGeom prst="ellipse">
            <a:avLst/>
          </a:prstGeom>
          <a:solidFill>
            <a:srgbClr val="ffff99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692520" y="1216080"/>
            <a:ext cx="2214720" cy="619200"/>
          </a:xfrm>
          <a:prstGeom prst="ellipse">
            <a:avLst/>
          </a:prstGeom>
          <a:solidFill>
            <a:srgbClr val="ffff99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Prov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6477120" y="1219320"/>
            <a:ext cx="2214360" cy="618840"/>
          </a:xfrm>
          <a:prstGeom prst="ellipse">
            <a:avLst/>
          </a:prstGeom>
          <a:solidFill>
            <a:srgbClr val="ffff99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Com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066680" y="2438280"/>
            <a:ext cx="7336080" cy="5810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Comitato Istitu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062160" y="3722760"/>
            <a:ext cx="3340080" cy="1039680"/>
          </a:xfrm>
          <a:prstGeom prst="rect">
            <a:avLst/>
          </a:prstGeom>
          <a:solidFill>
            <a:srgbClr val="80ffb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itato Intersetto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 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85840" y="3281400"/>
            <a:ext cx="2103480" cy="544320"/>
          </a:xfrm>
          <a:prstGeom prst="rect">
            <a:avLst/>
          </a:prstGeom>
          <a:solidFill>
            <a:srgbClr val="80ffb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egreteria Te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311120" y="5788080"/>
            <a:ext cx="2509920" cy="557280"/>
          </a:xfrm>
          <a:prstGeom prst="rect">
            <a:avLst/>
          </a:prstGeom>
          <a:solidFill>
            <a:srgbClr val="80ffb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am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5570640" y="5767560"/>
            <a:ext cx="2509560" cy="556920"/>
          </a:xfrm>
          <a:prstGeom prst="rect">
            <a:avLst/>
          </a:prstGeom>
          <a:solidFill>
            <a:srgbClr val="80ffbc"/>
          </a:solidFill>
          <a:ln w="11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ruppi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890640" y="1324080"/>
            <a:ext cx="27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Giunt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808080"/>
                </a:solidFill>
                <a:latin typeface="Times New Roman"/>
              </a:rPr>
              <a:t>Re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4141800" y="1854360"/>
            <a:ext cx="1225440" cy="544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H="1">
            <a:off x="3042720" y="4844880"/>
            <a:ext cx="884520" cy="90828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3983040" y="5864400"/>
            <a:ext cx="1322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4033440" y="6111720"/>
            <a:ext cx="1260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H="1">
            <a:off x="2460600" y="3706920"/>
            <a:ext cx="4348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2488680" y="3884760"/>
            <a:ext cx="43524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1908000" y="5472000"/>
            <a:ext cx="311400" cy="34632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4254480" y="3105000"/>
            <a:ext cx="730440" cy="63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3"/>
          <p:cNvGrpSpPr/>
          <p:nvPr/>
        </p:nvGrpSpPr>
        <p:grpSpPr>
          <a:xfrm>
            <a:off x="317520" y="4199040"/>
            <a:ext cx="2046240" cy="1374840"/>
            <a:chOff x="317520" y="4199040"/>
            <a:chExt cx="2046240" cy="1374840"/>
          </a:xfrm>
        </p:grpSpPr>
        <p:sp>
          <p:nvSpPr>
            <p:cNvPr id="142" name="Oval 24"/>
            <p:cNvSpPr/>
            <p:nvPr/>
          </p:nvSpPr>
          <p:spPr>
            <a:xfrm>
              <a:off x="317520" y="4199040"/>
              <a:ext cx="2046240" cy="1374840"/>
            </a:xfrm>
            <a:prstGeom prst="ellipse">
              <a:avLst/>
            </a:prstGeom>
            <a:solidFill>
              <a:srgbClr val="80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524880" y="4270680"/>
              <a:ext cx="16682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Supporto tecnico-scientif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Fondazione CerviaAmb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26"/>
          <p:cNvSpPr/>
          <p:nvPr/>
        </p:nvSpPr>
        <p:spPr>
          <a:xfrm>
            <a:off x="1128600" y="3844800"/>
            <a:ext cx="0" cy="3351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 flipV="1">
            <a:off x="1341360" y="3862080"/>
            <a:ext cx="0" cy="282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2452680" y="4479840"/>
            <a:ext cx="511200" cy="123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>
            <a:off x="1940040" y="3879720"/>
            <a:ext cx="1023840" cy="18878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076400" y="5643720"/>
            <a:ext cx="0" cy="91728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1093680" y="6561000"/>
            <a:ext cx="56278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2"/>
          <p:cNvSpPr/>
          <p:nvPr/>
        </p:nvSpPr>
        <p:spPr>
          <a:xfrm flipV="1">
            <a:off x="6721560" y="6332040"/>
            <a:ext cx="0" cy="211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2F38-53B4-4885-A877-93759DF5A72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Regione Euroadri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Noi partecipiamo a diverse inizi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Regione EuroAdriatica di cui presiediamo Commissione Ambi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"Prodotto certificato Alto Adriatico"</a:t>
            </a:r>
            <a:r>
              <a:rPr b="0" lang="it-IT" sz="2800" spc="-1" strike="noStrike">
                <a:solidFill>
                  <a:srgbClr val="a50021"/>
                </a:solidFill>
                <a:latin typeface="Arial"/>
              </a:rPr>
              <a:t> progetto 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Interreg Adri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2195640" y="3860640"/>
            <a:ext cx="158436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1558-8ACE-4E75-B1AC-E05AE4A8219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Il confronto di og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Lo scopo di questo Meeting è quello di condividere l’esperienza sviluppata durante il progetto PlanCoast e i risultati conseguiti con un vasto numero di </a:t>
            </a:r>
            <a:r>
              <a:rPr b="0" i="1" lang="it-IT" sz="2400" spc="-1" strike="noStrike">
                <a:solidFill>
                  <a:srgbClr val="a50021"/>
                </a:solidFill>
                <a:latin typeface="Arial"/>
              </a:rPr>
              <a:t>stakeholder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, al fine di promuovere l’implementazione degli strumenti di Gestione Integrata delle zone costiere e di pianificazione marittima, oltreché di approfondire il dibattito su alcuni tematismi specifici, quali l’utilizzo di sabbia litorale e sottomarina per gli interventi di ripascimento, la produzione di energia eolica </a:t>
            </a:r>
            <a:r>
              <a:rPr b="0" i="1" lang="it-IT" sz="2400" spc="-1" strike="noStrike">
                <a:solidFill>
                  <a:srgbClr val="a50021"/>
                </a:solidFill>
                <a:latin typeface="Arial"/>
              </a:rPr>
              <a:t>offshore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, la produzione e il trasporto di idrocarburi, la gestione dei sedimenti, il monitoraggio e la rice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Ci auguriamo che il lavoro prosegua e si sviluppi in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a50021"/>
                </a:solidFill>
                <a:latin typeface="Franklin Gothic Medium"/>
              </a:rPr>
              <a:t>Grazi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a50021"/>
                </a:solidFill>
                <a:latin typeface="Arial"/>
              </a:rPr>
              <a:t>Buon Lavoro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54F9-32AA-4EDB-94DA-5A13C322BA6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Sa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50021"/>
                </a:solidFill>
                <a:latin typeface="Arial"/>
              </a:rPr>
              <a:t>Buongiorno a tutti nella suggestiva cornice della città di Ravenna. Una città ed una terra molto legata al m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50021"/>
                </a:solidFill>
                <a:latin typeface="Arial"/>
              </a:rPr>
              <a:t>C'è chi pensa che originariamente si chiamasse "Navenna" da "naves", altri sostengono che il nome venga da "Rhein"(abbondanza di acque) divenuto poi "Rhenna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50021"/>
                </a:solidFill>
                <a:latin typeface="Arial"/>
              </a:rPr>
              <a:t>Ecco perché è un luogo ideale per parlare di costa e di fragilità delle aree costi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F34F-2FB5-4AC2-80D6-21048A1A845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PlanCo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Il progetto PlanCoast, sviluppato in un periodo di due anni da 16 partners appartenenti a 11 Paesi del Mare Adriatico, Mar Baltico e Mar Nero ha sviluppato i temi della Gestione Integrata delle Zone Costiere e della Pianificazione Maritt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L’obiettivo è quello di rafforzare il ruolo della pianificazione territoriale nella gestione integrata delle zone costiere e nei processi di pianificazione degli usi del mare, attraverso la realizzazione di diversi progetti pil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Coast Partners represent 16 institutions and organisations responsible for coastal planning in 11 countries of the Baltic, Adriatic and Black Sea Reg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nistry of Transport, Building and Regional Development Mecklenburg–Vorpommer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deral Ministry of Transport, Building and Urban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ritime Office, Gdyn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gional Spatial Planning Office, Pomorskie Voivod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CAT Tir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eretva Cantonal Ministry of Physical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riority Actions Programme⁄Regional Activity Centre PAP⁄R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milia–Romagna Region, DG Environment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ncona Municip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onteneg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ublic Enterprise for Coastal Zone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lov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gional Development Centre, K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istrict Administration Centre, Varn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Black Sea NGO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oman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tional Institute for Marine Research and Development, "Grigore Antipa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ational Institute for Research and Development "Urbanproiec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kraine Scientific Center of Ecology of Sea (UkrSCES)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plancoast"/>
          <p:cNvPicPr/>
          <p:nvPr/>
        </p:nvPicPr>
        <p:blipFill>
          <a:blip r:embed="rId10"/>
          <a:stretch/>
        </p:blipFill>
        <p:spPr>
          <a:xfrm>
            <a:off x="684360" y="404640"/>
            <a:ext cx="3024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egnaposto piè di pagina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EEA4-F330-4762-AE34-4999F10778B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Cambiamenti climat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058"/>
          <p:cNvGraphicFramePr/>
          <p:nvPr/>
        </p:nvGraphicFramePr>
        <p:xfrm>
          <a:off x="250920" y="1484280"/>
          <a:ext cx="403380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205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84280"/>
                    <a:ext cx="4033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dc20c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59"/>
          <p:cNvSpPr/>
          <p:nvPr/>
        </p:nvSpPr>
        <p:spPr>
          <a:xfrm>
            <a:off x="4643280" y="1345320"/>
            <a:ext cx="4500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ASHINGTON  - Un pezzo di ghiaccio grande 400 chilometri quadrati è collassato nella parte occidentale dell’Antartide….   Il fenomeno - cominciato il 28 febbraio scorso - è stato ripreso dai satelliti ed è stato “straordinario” 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anche perché non capita di vedere tutti i giorni collassare un pezzo di ghiaccio grande quanto sette volte Manhatta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A staccarsi… è stato il cosiddetto ‘Asse di Wilkins’, un’area della parte occidentale dell’Antartide che gli scienziati avevano già previsto sarebbe collassata. Ritenevano però che sarebbe avvenuto tra quindici anni. Il fenomeno è stato fotografato e ripreso con un video da un aereo mandato appositamente sul posto. 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Quanto avvenuto è rarissimo - hanno commentato al centro di Boulder - anche perché l’asse di Wilkins esisteva almeno da 1500 anni”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piè di pagina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DC3-2905-4E44-9B4B-3E7F43947F7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705720" cy="525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457200" y="404640"/>
            <a:ext cx="82296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piè di pagina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5438-E301-4E15-A96A-F139347F30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096240" cy="5334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609480" y="403200"/>
            <a:ext cx="79250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17A-37E1-4972-9757-F5B913E8AF9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Mitigazione e adat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La strategia di </a:t>
            </a:r>
            <a:r>
              <a:rPr b="1" i="1" lang="it-IT" sz="2800" spc="-1" strike="noStrike" u="sng">
                <a:solidFill>
                  <a:srgbClr val="a50021"/>
                </a:solidFill>
                <a:uFillTx/>
                <a:latin typeface="Arial"/>
              </a:rPr>
              <a:t>mitigazione</a:t>
            </a: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 dei cambiamenti climatici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, che agisce sulle cause dei cambiamenti del clima e ha l'obiettivo di ridurre le emissioni di gas serra provenienti dalle attività umane per eliminarne l'accumulo in atmosf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La strategia di </a:t>
            </a:r>
            <a:r>
              <a:rPr b="1" i="1" lang="it-IT" sz="2800" spc="-1" strike="noStrike" u="sng">
                <a:solidFill>
                  <a:srgbClr val="a50021"/>
                </a:solidFill>
                <a:uFillTx/>
                <a:latin typeface="Arial"/>
              </a:rPr>
              <a:t>adattamento</a:t>
            </a:r>
            <a:r>
              <a:rPr b="1" lang="it-IT" sz="28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agisce sugli effetti dei cambiamenti del clima</a:t>
            </a:r>
            <a:r>
              <a:rPr b="0" lang="it-IT" sz="2400" spc="-1" strike="noStrike">
                <a:solidFill>
                  <a:srgbClr val="a50021"/>
                </a:solidFill>
                <a:latin typeface="Arial"/>
              </a:rPr>
              <a:t> e ha l'obiettivo di minimizzare le conseguenze negative e di prevenire i danni riducendo la vulnerabilità territoriale e quella socio economica ai cambiamenti del clima, e sfruttando, ove possibile, nuove opportunità di sviluppo socio economico che dovessero sorgere con i cambiamenti climat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6934-DCEF-4C2C-9086-51CDF749EA8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Arial"/>
              </a:rPr>
              <a:t>Sviluppo sosteni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L’ISPIRAZIONE DI FONDO E’ QUELLO DI UN FUTURO SOSTENIB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Negli ultimi anni si è sviluppata una forte iniziativa tesa a regolare i “limiti” dello sviluppo. “Command and contro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Penso sia stato un passaggio neces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Oggi occorre fare un ulteriore passaggio, quello dello svilupp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Quello che fa sì che l’economia, la coesione sociale, la tutela delle risorse naturali sono il cuore di una polit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La nuova crisi energetica, ciò che rientra nei temi del protocollo di Kyoto, che qui ha un punto alto nella crisi delle polveri fini e degli altri inquinanti, le fragilità di cui parliamo quest’oggi ci conducono su un punto cruci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50021"/>
                </a:solidFill>
                <a:latin typeface="Arial"/>
              </a:rPr>
              <a:t>GUAI A TRASCURARE PER UN MOMENTO LA CENTRALITA’ DELLA QUESTIONE AMBIENT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Diagram 8"/>
          <p:cNvGrpSpPr/>
          <p:nvPr/>
        </p:nvGrpSpPr>
        <p:grpSpPr>
          <a:xfrm>
            <a:off x="4325040" y="1521360"/>
            <a:ext cx="4684320" cy="4684320"/>
            <a:chOff x="4325040" y="1521360"/>
            <a:chExt cx="4684320" cy="4684320"/>
          </a:xfrm>
        </p:grpSpPr>
        <p:sp>
          <p:nvSpPr>
            <p:cNvPr id="84" name="_s2052"/>
            <p:cNvSpPr/>
            <p:nvPr/>
          </p:nvSpPr>
          <p:spPr>
            <a:xfrm>
              <a:off x="4952880" y="2149200"/>
              <a:ext cx="3429000" cy="34290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3"/>
            <p:cNvSpPr/>
            <p:nvPr/>
          </p:nvSpPr>
          <p:spPr>
            <a:xfrm rot="7200000">
              <a:off x="4952160" y="2148840"/>
              <a:ext cx="3429000" cy="34290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4"/>
            <p:cNvSpPr/>
            <p:nvPr/>
          </p:nvSpPr>
          <p:spPr>
            <a:xfrm rot="14400000">
              <a:off x="4952520" y="2148480"/>
              <a:ext cx="3429000" cy="34290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5"/>
            <p:cNvSpPr/>
            <p:nvPr/>
          </p:nvSpPr>
          <p:spPr>
            <a:xfrm>
              <a:off x="7381800" y="2625480"/>
              <a:ext cx="1046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es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6"/>
            <p:cNvSpPr/>
            <p:nvPr/>
          </p:nvSpPr>
          <p:spPr>
            <a:xfrm>
              <a:off x="6146640" y="4770360"/>
              <a:ext cx="1046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te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b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7"/>
            <p:cNvSpPr/>
            <p:nvPr/>
          </p:nvSpPr>
          <p:spPr>
            <a:xfrm>
              <a:off x="4906800" y="2627280"/>
              <a:ext cx="10461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ilup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onom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venna - Plan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9C67-E7B0-455D-AFB0-7BBB849FCA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Arial"/>
              </a:rPr>
              <a:t>I problemi delle aree costi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Quasi la metà della popolazione europea vive lungo le coste o nelle loro vicinan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Diversi proble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Scarsa pianificazione dello sviluppo turist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Declino della pes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Reti di trasporto inadegu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Eccessiva urbanizz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Eros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Inquina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a50021"/>
                </a:solidFill>
                <a:latin typeface="Arial"/>
              </a:rPr>
              <a:t>Distruzione degli hab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ffaelli_k</cp:lastModifiedBy>
  <dcterms:modified xsi:type="dcterms:W3CDTF">2008-03-28T08:59:05Z</dcterms:modified>
  <cp:revision>30</cp:revision>
  <dc:subject/>
  <dc:title>Presentazione di PowerPoint</dc:title>
</cp:coreProperties>
</file>