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jpeg" ContentType="image/jpeg"/>
  <Override PartName="/ppt/media/image4.jpeg" ContentType="image/jpeg"/>
  <Override PartName="/ppt/media/image5.pct" ContentType="image/x-pict"/>
  <Override PartName="/ppt/media/image8.png" ContentType="image/png"/>
  <Override PartName="/ppt/media/image6.png" ContentType="image/png"/>
  <Override PartName="/ppt/media/image7.png" ContentType="image/png"/>
  <Override PartName="/ppt/media/image9.png" ContentType="image/png"/>
  <Override PartName="/ppt/embeddings/oleObject1.docx" ContentType="application/vnd.openxmlformats-officedocument.wordprocessingml.documen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2D90-41A1-469B-8C86-21039969F2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green  topics 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57A1F-6DA0-47B2-B613-FCE45DC28C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C8014-14EE-42AF-BB2D-AFA438CB21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F30F2-E781-499B-B593-E12BC7F17D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7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65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7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65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5AD6A-AD38-49C7-8F5C-C0AA8DFB6B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F6944-17A2-4789-9B41-99D238D3B5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F4B9A-D49D-43A0-9634-E35451D64B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38227-F9BC-49A1-A7D4-509CE1A721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175A2-9F4E-454A-B6C0-53B96D8A38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E765A-A24A-400F-A59D-1D1747E3D6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8CA63-8B26-463A-8047-2D132F5780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57BF1-54E9-4C56-A02B-8FC2C58F47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F1019-A1BB-4457-86CE-CF7992971C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2.pct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2F43-427A-4AAC-9383-B7FA823E9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71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" name=""/>
          <p:cNvGraphicFramePr/>
          <p:nvPr/>
        </p:nvGraphicFramePr>
        <p:xfrm>
          <a:off x="5948280" y="0"/>
          <a:ext cx="3195720" cy="620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8280" y="0"/>
                    <a:ext cx="31957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638320" y="5105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 u="sng">
                <a:solidFill>
                  <a:srgbClr val="333399"/>
                </a:solidFill>
                <a:uFillTx/>
                <a:latin typeface="Arial"/>
              </a:rPr>
              <a:t>Maria Roman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5586480" y="3870360"/>
            <a:ext cx="271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17400">
            <a:off x="-2209680" y="35046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333399"/>
                </a:solidFill>
                <a:latin typeface="Arial"/>
              </a:rPr>
              <a:t>Final Meeting Meeting Ravenna 27 March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273400"/>
            <a:ext cx="8001000" cy="19227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Lessons learned from the</a:t>
            </a:r>
            <a:br>
              <a:rPr sz="2400"/>
            </a:b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Emilia-Romagna Pilot Project (WP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PROPOSAL OF SPATIAL PL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ACCORDING TO ICZM PRINCIP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33280" y="1252440"/>
            <a:ext cx="8677440" cy="43531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209680" y="76320"/>
            <a:ext cx="3733920" cy="6094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</a:rPr>
              <a:t>Interaction matri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320" y="1143000"/>
            <a:ext cx="2514600" cy="6094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8000"/>
                </a:solidFill>
                <a:latin typeface="Arial"/>
              </a:rPr>
              <a:t>Context 1:</a:t>
            </a:r>
            <a:br>
              <a:rPr sz="2000"/>
            </a:br>
            <a:r>
              <a:rPr b="1" lang="de-DE" sz="2000" spc="-1" strike="noStrike">
                <a:solidFill>
                  <a:srgbClr val="008000"/>
                </a:solidFill>
                <a:latin typeface="Arial"/>
              </a:rPr>
              <a:t>Town cen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76120" y="1714680"/>
            <a:ext cx="8591760" cy="3429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209680" y="76320"/>
            <a:ext cx="3733920" cy="6094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8000"/>
                </a:solidFill>
                <a:latin typeface="Arial"/>
              </a:rPr>
              <a:t>Interaction matri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320" y="1143000"/>
            <a:ext cx="2514600" cy="6094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8000"/>
                </a:solidFill>
                <a:latin typeface="Arial"/>
              </a:rPr>
              <a:t>Context 1:</a:t>
            </a:r>
            <a:br>
              <a:rPr sz="2000"/>
            </a:br>
            <a:r>
              <a:rPr b="1" lang="de-DE" sz="2000" spc="-1" strike="noStrike">
                <a:solidFill>
                  <a:srgbClr val="008000"/>
                </a:solidFill>
                <a:latin typeface="Arial"/>
              </a:rPr>
              <a:t>Town cen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Public Institutions improve an integrated Knowledge system to assess and monitore coastal system and plan‘s eff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IMSP have to be developed not only when needed but always like an ordinary activity of Public Institu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143000" y="76320"/>
            <a:ext cx="5943600" cy="1218960"/>
            <a:chOff x="1143000" y="76320"/>
            <a:chExt cx="5943600" cy="1218960"/>
          </a:xfrm>
        </p:grpSpPr>
        <p:sp>
          <p:nvSpPr>
            <p:cNvPr id="197" name=""/>
            <p:cNvSpPr/>
            <p:nvPr/>
          </p:nvSpPr>
          <p:spPr>
            <a:xfrm>
              <a:off x="2247840" y="76320"/>
              <a:ext cx="3733920" cy="6094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600" spc="-1" strike="noStrike">
                  <a:solidFill>
                    <a:srgbClr val="008000"/>
                  </a:solidFill>
                  <a:latin typeface="Arial"/>
                </a:rPr>
                <a:t>Discussion point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43000" y="685800"/>
              <a:ext cx="5943600" cy="6094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8000"/>
                  </a:solidFill>
                  <a:latin typeface="Arial"/>
                </a:rPr>
                <a:t>Comparing the PlanCoast Handbook messages vs spatial plan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98600" y="646200"/>
            <a:ext cx="8645400" cy="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7360" y="6400800"/>
            <a:ext cx="8217000" cy="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81080" y="2590920"/>
            <a:ext cx="5486400" cy="99036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008000"/>
                </a:solidFill>
                <a:uFillTx/>
                <a:latin typeface="Arial"/>
              </a:rPr>
              <a:t>Thanks for your attention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29000" y="1951200"/>
            <a:ext cx="5562720" cy="38401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52280" y="18288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Implementation of Regional ICZM Guidelines at provincial sc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Ferrara Coa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DG Environmenta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and DG Spatial Plan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first application 2006-200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implementation  Provinci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and Municipal Pla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Plan objectives and alterna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defining indicator and monitoring system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to assess Plan effe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762120"/>
            <a:ext cx="7772400" cy="6094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8000"/>
                </a:solidFill>
                <a:latin typeface="Arial"/>
              </a:rPr>
              <a:t>Basic Facts about the pilot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762120"/>
            <a:ext cx="7772400" cy="6094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8000"/>
                </a:solidFill>
                <a:latin typeface="Arial"/>
              </a:rPr>
              <a:t>Pilot project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523880"/>
            <a:ext cx="830592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The analysis</a:t>
            </a:r>
            <a:r>
              <a:rPr b="1" lang="it-IT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of the state in different sectors aimed at identifying and defining specific problems and criticality relating to different thematic pro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The drawing up of a document (Stocktake) describing the state of environmental, territorial and infrastructure resources by “sensitive/significant topics” to the territorial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An integrated assessment of the different levels of critic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Adoption of the plan’s 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Evaluation of criticality in relation to these objectives in order to identify preliminary criteria, directions and conditions related to the feasibility of the plan’s possible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666880" y="3422520"/>
            <a:ext cx="2971800" cy="1006560"/>
          </a:xfrm>
          <a:prstGeom prst="ellipse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PTCP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 (Provin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Territorial Pla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629400" y="3505320"/>
            <a:ext cx="2362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First measure to reduce neg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environmental eff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5257800"/>
            <a:ext cx="2209680" cy="838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PSC (Municipal Structural Pl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52760" y="2214720"/>
            <a:ext cx="3200400" cy="380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COGNITIVE FRAME D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380880"/>
            <a:ext cx="2971800" cy="1006560"/>
          </a:xfrm>
          <a:prstGeom prst="ellipse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REGIONAL ICZM GUIDE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 rot="5400000">
            <a:off x="906480" y="1363680"/>
            <a:ext cx="2819520" cy="54936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pilot project activ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 rot="5400000">
            <a:off x="906480" y="4335480"/>
            <a:ext cx="2819520" cy="54936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implem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the P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05720" y="1752480"/>
            <a:ext cx="22096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Interaction between spatial planning and ICZM top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3600" y="2362320"/>
            <a:ext cx="685800" cy="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2818800"/>
            <a:ext cx="1800" cy="68580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4571280"/>
            <a:ext cx="1440" cy="6858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2666160"/>
            <a:ext cx="1440" cy="6858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1523160"/>
            <a:ext cx="1440" cy="6858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-1904760" y="3047760"/>
            <a:ext cx="5029200" cy="76212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8000"/>
                </a:solidFill>
                <a:latin typeface="Arial"/>
              </a:rPr>
              <a:t>How can be implemented Regional ICZM Guidelines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5029200"/>
            <a:ext cx="2514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same measure to reduce environmental problems linked with coastal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5791320"/>
            <a:ext cx="685800" cy="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rot="16200000">
            <a:off x="-2095200" y="3162240"/>
            <a:ext cx="5029200" cy="53352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Planning and assessment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52280" y="685800"/>
            <a:ext cx="8762760" cy="5943240"/>
            <a:chOff x="152280" y="685800"/>
            <a:chExt cx="8762760" cy="5943240"/>
          </a:xfrm>
        </p:grpSpPr>
        <p:sp>
          <p:nvSpPr>
            <p:cNvPr id="78" name=""/>
            <p:cNvSpPr/>
            <p:nvPr/>
          </p:nvSpPr>
          <p:spPr>
            <a:xfrm>
              <a:off x="152280" y="4239720"/>
              <a:ext cx="24897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Consulting procedur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adoption/ approb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096560" y="946800"/>
              <a:ext cx="154548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Preliminary assessmen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10520" y="2117880"/>
              <a:ext cx="163116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Preliminary documents of the pla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350360" y="5846040"/>
              <a:ext cx="129132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Planning Perform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728080" y="685800"/>
              <a:ext cx="2145960" cy="1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Planning proces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90400" y="685800"/>
              <a:ext cx="2833200" cy="1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Assessment proces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642040" y="918360"/>
              <a:ext cx="6273000" cy="1030680"/>
            </a:xfrm>
            <a:prstGeom prst="rect">
              <a:avLst/>
            </a:prstGeom>
            <a:solidFill>
              <a:srgbClr val="b5f1a7"/>
            </a:solidFill>
            <a:ln w="15840">
              <a:solidFill>
                <a:srgbClr val="1cae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42040" y="2029320"/>
              <a:ext cx="6273000" cy="2061360"/>
            </a:xfrm>
            <a:prstGeom prst="rect">
              <a:avLst/>
            </a:prstGeom>
            <a:solidFill>
              <a:srgbClr val="f7da91"/>
            </a:solidFill>
            <a:ln w="15840">
              <a:solidFill>
                <a:srgbClr val="e6a9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642040" y="4171320"/>
              <a:ext cx="6273000" cy="1450440"/>
            </a:xfrm>
            <a:prstGeom prst="rect">
              <a:avLst/>
            </a:prstGeom>
            <a:solidFill>
              <a:srgbClr val="ccccff"/>
            </a:solidFill>
            <a:ln w="158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42040" y="5702400"/>
              <a:ext cx="6273000" cy="926640"/>
            </a:xfrm>
            <a:prstGeom prst="rect">
              <a:avLst/>
            </a:prstGeom>
            <a:solidFill>
              <a:srgbClr val="fef2c4"/>
            </a:solidFill>
            <a:ln w="15840">
              <a:solidFill>
                <a:srgbClr val="ebd8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25920" y="4738320"/>
              <a:ext cx="2289600" cy="204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Planning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confere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25920" y="4341960"/>
              <a:ext cx="2289600" cy="204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Plan’s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25920" y="2108160"/>
              <a:ext cx="2289600" cy="37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General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objectiv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25920" y="2660400"/>
              <a:ext cx="2289600" cy="204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Specific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objectiv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25920" y="1090440"/>
              <a:ext cx="2289600" cy="43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Preliminary document of the pla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25920" y="3215880"/>
              <a:ext cx="2289600" cy="204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Identify planning strategi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25920" y="3707640"/>
              <a:ext cx="2289600" cy="204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Planning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Policies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541200" y="982080"/>
              <a:ext cx="2289600" cy="234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Screen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541200" y="1370160"/>
              <a:ext cx="2289600" cy="43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Evaluation of preliminary  strategy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541200" y="2425680"/>
              <a:ext cx="2289600" cy="204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cohere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41200" y="3056760"/>
              <a:ext cx="2289600" cy="204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assessmen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541200" y="3615840"/>
              <a:ext cx="2289600" cy="37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Assessment of alternative option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41200" y="4246200"/>
              <a:ext cx="2289600" cy="37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Environmental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report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vs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monitoring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541200" y="4880880"/>
              <a:ext cx="2289600" cy="204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of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public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objec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41200" y="5994720"/>
              <a:ext cx="2289600" cy="23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Monitoring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revie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25920" y="5835960"/>
              <a:ext cx="2289600" cy="23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Plan’s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25920" y="6296040"/>
              <a:ext cx="2289600" cy="23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Corrective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25920" y="5118120"/>
              <a:ext cx="2289600" cy="336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Adoption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 Narrow"/>
                </a:rPr>
                <a:t> /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Approb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of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the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1200" y="2108160"/>
              <a:ext cx="2289600" cy="204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Scop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41200" y="2742120"/>
              <a:ext cx="2289600" cy="204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Internal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cohere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88120" y="1079280"/>
              <a:ext cx="2733120" cy="5462640"/>
            </a:xfrm>
            <a:custGeom>
              <a:avLst/>
              <a:gdLst/>
              <a:ahLst/>
              <a:rect l="l" t="t" r="r" b="b"/>
              <a:pathLst>
                <a:path w="1548" h="3306">
                  <a:moveTo>
                    <a:pt x="54" y="212"/>
                  </a:moveTo>
                  <a:cubicBezTo>
                    <a:pt x="243" y="180"/>
                    <a:pt x="972" y="38"/>
                    <a:pt x="1191" y="19"/>
                  </a:cubicBezTo>
                  <a:cubicBezTo>
                    <a:pt x="1410" y="0"/>
                    <a:pt x="1358" y="71"/>
                    <a:pt x="1367" y="99"/>
                  </a:cubicBezTo>
                  <a:cubicBezTo>
                    <a:pt x="1376" y="127"/>
                    <a:pt x="1279" y="166"/>
                    <a:pt x="1243" y="187"/>
                  </a:cubicBezTo>
                  <a:cubicBezTo>
                    <a:pt x="1207" y="208"/>
                    <a:pt x="1194" y="210"/>
                    <a:pt x="1151" y="227"/>
                  </a:cubicBezTo>
                  <a:cubicBezTo>
                    <a:pt x="1108" y="244"/>
                    <a:pt x="996" y="282"/>
                    <a:pt x="983" y="287"/>
                  </a:cubicBezTo>
                  <a:cubicBezTo>
                    <a:pt x="970" y="292"/>
                    <a:pt x="1090" y="250"/>
                    <a:pt x="1071" y="259"/>
                  </a:cubicBezTo>
                  <a:cubicBezTo>
                    <a:pt x="1052" y="268"/>
                    <a:pt x="913" y="322"/>
                    <a:pt x="867" y="339"/>
                  </a:cubicBezTo>
                  <a:cubicBezTo>
                    <a:pt x="821" y="356"/>
                    <a:pt x="850" y="344"/>
                    <a:pt x="795" y="363"/>
                  </a:cubicBezTo>
                  <a:cubicBezTo>
                    <a:pt x="740" y="382"/>
                    <a:pt x="621" y="426"/>
                    <a:pt x="539" y="455"/>
                  </a:cubicBezTo>
                  <a:cubicBezTo>
                    <a:pt x="457" y="484"/>
                    <a:pt x="372" y="511"/>
                    <a:pt x="303" y="539"/>
                  </a:cubicBezTo>
                  <a:cubicBezTo>
                    <a:pt x="234" y="567"/>
                    <a:pt x="169" y="598"/>
                    <a:pt x="125" y="626"/>
                  </a:cubicBezTo>
                  <a:cubicBezTo>
                    <a:pt x="81" y="654"/>
                    <a:pt x="50" y="681"/>
                    <a:pt x="41" y="707"/>
                  </a:cubicBezTo>
                  <a:cubicBezTo>
                    <a:pt x="32" y="733"/>
                    <a:pt x="47" y="767"/>
                    <a:pt x="71" y="783"/>
                  </a:cubicBezTo>
                  <a:cubicBezTo>
                    <a:pt x="95" y="799"/>
                    <a:pt x="138" y="804"/>
                    <a:pt x="185" y="806"/>
                  </a:cubicBezTo>
                  <a:cubicBezTo>
                    <a:pt x="232" y="808"/>
                    <a:pt x="154" y="813"/>
                    <a:pt x="355" y="795"/>
                  </a:cubicBezTo>
                  <a:cubicBezTo>
                    <a:pt x="556" y="777"/>
                    <a:pt x="1230" y="682"/>
                    <a:pt x="1389" y="696"/>
                  </a:cubicBezTo>
                  <a:cubicBezTo>
                    <a:pt x="1548" y="710"/>
                    <a:pt x="1481" y="830"/>
                    <a:pt x="1307" y="879"/>
                  </a:cubicBezTo>
                  <a:cubicBezTo>
                    <a:pt x="1133" y="928"/>
                    <a:pt x="542" y="966"/>
                    <a:pt x="347" y="989"/>
                  </a:cubicBezTo>
                  <a:cubicBezTo>
                    <a:pt x="152" y="1012"/>
                    <a:pt x="182" y="1004"/>
                    <a:pt x="137" y="1016"/>
                  </a:cubicBezTo>
                  <a:cubicBezTo>
                    <a:pt x="92" y="1028"/>
                    <a:pt x="79" y="1046"/>
                    <a:pt x="79" y="1063"/>
                  </a:cubicBezTo>
                  <a:cubicBezTo>
                    <a:pt x="79" y="1080"/>
                    <a:pt x="80" y="1108"/>
                    <a:pt x="137" y="1117"/>
                  </a:cubicBezTo>
                  <a:cubicBezTo>
                    <a:pt x="194" y="1126"/>
                    <a:pt x="257" y="1130"/>
                    <a:pt x="420" y="1117"/>
                  </a:cubicBezTo>
                  <a:cubicBezTo>
                    <a:pt x="583" y="1104"/>
                    <a:pt x="981" y="1052"/>
                    <a:pt x="1115" y="1037"/>
                  </a:cubicBezTo>
                  <a:cubicBezTo>
                    <a:pt x="1249" y="1022"/>
                    <a:pt x="1184" y="1028"/>
                    <a:pt x="1223" y="1028"/>
                  </a:cubicBezTo>
                  <a:cubicBezTo>
                    <a:pt x="1262" y="1028"/>
                    <a:pt x="1326" y="1024"/>
                    <a:pt x="1351" y="1039"/>
                  </a:cubicBezTo>
                  <a:cubicBezTo>
                    <a:pt x="1376" y="1054"/>
                    <a:pt x="1403" y="1094"/>
                    <a:pt x="1371" y="1117"/>
                  </a:cubicBezTo>
                  <a:cubicBezTo>
                    <a:pt x="1339" y="1140"/>
                    <a:pt x="1333" y="1134"/>
                    <a:pt x="1159" y="1175"/>
                  </a:cubicBezTo>
                  <a:cubicBezTo>
                    <a:pt x="985" y="1216"/>
                    <a:pt x="502" y="1317"/>
                    <a:pt x="329" y="1361"/>
                  </a:cubicBezTo>
                  <a:cubicBezTo>
                    <a:pt x="156" y="1405"/>
                    <a:pt x="150" y="1417"/>
                    <a:pt x="119" y="1439"/>
                  </a:cubicBezTo>
                  <a:cubicBezTo>
                    <a:pt x="88" y="1461"/>
                    <a:pt x="126" y="1483"/>
                    <a:pt x="143" y="1493"/>
                  </a:cubicBezTo>
                  <a:cubicBezTo>
                    <a:pt x="160" y="1503"/>
                    <a:pt x="188" y="1504"/>
                    <a:pt x="224" y="1502"/>
                  </a:cubicBezTo>
                  <a:cubicBezTo>
                    <a:pt x="260" y="1500"/>
                    <a:pt x="175" y="1507"/>
                    <a:pt x="362" y="1481"/>
                  </a:cubicBezTo>
                  <a:cubicBezTo>
                    <a:pt x="549" y="1455"/>
                    <a:pt x="1207" y="1325"/>
                    <a:pt x="1344" y="1345"/>
                  </a:cubicBezTo>
                  <a:cubicBezTo>
                    <a:pt x="1481" y="1365"/>
                    <a:pt x="1354" y="1546"/>
                    <a:pt x="1183" y="1599"/>
                  </a:cubicBezTo>
                  <a:cubicBezTo>
                    <a:pt x="1012" y="1652"/>
                    <a:pt x="475" y="1632"/>
                    <a:pt x="317" y="1664"/>
                  </a:cubicBezTo>
                  <a:cubicBezTo>
                    <a:pt x="159" y="1696"/>
                    <a:pt x="207" y="1759"/>
                    <a:pt x="233" y="1790"/>
                  </a:cubicBezTo>
                  <a:cubicBezTo>
                    <a:pt x="259" y="1821"/>
                    <a:pt x="327" y="1818"/>
                    <a:pt x="473" y="1847"/>
                  </a:cubicBezTo>
                  <a:cubicBezTo>
                    <a:pt x="619" y="1876"/>
                    <a:pt x="969" y="1931"/>
                    <a:pt x="1107" y="1967"/>
                  </a:cubicBezTo>
                  <a:cubicBezTo>
                    <a:pt x="1245" y="2003"/>
                    <a:pt x="1298" y="2041"/>
                    <a:pt x="1303" y="2063"/>
                  </a:cubicBezTo>
                  <a:cubicBezTo>
                    <a:pt x="1308" y="2085"/>
                    <a:pt x="1326" y="2107"/>
                    <a:pt x="1135" y="2099"/>
                  </a:cubicBezTo>
                  <a:cubicBezTo>
                    <a:pt x="944" y="2091"/>
                    <a:pt x="310" y="1981"/>
                    <a:pt x="155" y="2015"/>
                  </a:cubicBezTo>
                  <a:cubicBezTo>
                    <a:pt x="0" y="2049"/>
                    <a:pt x="34" y="2240"/>
                    <a:pt x="203" y="2303"/>
                  </a:cubicBezTo>
                  <a:cubicBezTo>
                    <a:pt x="372" y="2366"/>
                    <a:pt x="968" y="2365"/>
                    <a:pt x="1171" y="2395"/>
                  </a:cubicBezTo>
                  <a:cubicBezTo>
                    <a:pt x="1374" y="2425"/>
                    <a:pt x="1412" y="2451"/>
                    <a:pt x="1419" y="2483"/>
                  </a:cubicBezTo>
                  <a:cubicBezTo>
                    <a:pt x="1426" y="2515"/>
                    <a:pt x="1407" y="2566"/>
                    <a:pt x="1215" y="2587"/>
                  </a:cubicBezTo>
                  <a:cubicBezTo>
                    <a:pt x="1023" y="2608"/>
                    <a:pt x="464" y="2576"/>
                    <a:pt x="267" y="2607"/>
                  </a:cubicBezTo>
                  <a:cubicBezTo>
                    <a:pt x="70" y="2638"/>
                    <a:pt x="36" y="2722"/>
                    <a:pt x="35" y="2774"/>
                  </a:cubicBezTo>
                  <a:cubicBezTo>
                    <a:pt x="34" y="2826"/>
                    <a:pt x="150" y="2886"/>
                    <a:pt x="259" y="2919"/>
                  </a:cubicBezTo>
                  <a:cubicBezTo>
                    <a:pt x="368" y="2952"/>
                    <a:pt x="560" y="2958"/>
                    <a:pt x="687" y="2975"/>
                  </a:cubicBezTo>
                  <a:cubicBezTo>
                    <a:pt x="814" y="2992"/>
                    <a:pt x="922" y="3005"/>
                    <a:pt x="1019" y="3023"/>
                  </a:cubicBezTo>
                  <a:cubicBezTo>
                    <a:pt x="1116" y="3041"/>
                    <a:pt x="1230" y="3060"/>
                    <a:pt x="1271" y="3083"/>
                  </a:cubicBezTo>
                  <a:cubicBezTo>
                    <a:pt x="1312" y="3106"/>
                    <a:pt x="1304" y="3146"/>
                    <a:pt x="1263" y="3159"/>
                  </a:cubicBezTo>
                  <a:cubicBezTo>
                    <a:pt x="1222" y="3172"/>
                    <a:pt x="1103" y="3160"/>
                    <a:pt x="1027" y="3159"/>
                  </a:cubicBezTo>
                  <a:cubicBezTo>
                    <a:pt x="951" y="3158"/>
                    <a:pt x="881" y="3151"/>
                    <a:pt x="807" y="3151"/>
                  </a:cubicBezTo>
                  <a:cubicBezTo>
                    <a:pt x="733" y="3151"/>
                    <a:pt x="674" y="3153"/>
                    <a:pt x="581" y="3158"/>
                  </a:cubicBezTo>
                  <a:cubicBezTo>
                    <a:pt x="488" y="3163"/>
                    <a:pt x="316" y="3166"/>
                    <a:pt x="248" y="3182"/>
                  </a:cubicBezTo>
                  <a:cubicBezTo>
                    <a:pt x="180" y="3198"/>
                    <a:pt x="163" y="3235"/>
                    <a:pt x="173" y="3254"/>
                  </a:cubicBezTo>
                  <a:cubicBezTo>
                    <a:pt x="183" y="3273"/>
                    <a:pt x="217" y="3289"/>
                    <a:pt x="305" y="3296"/>
                  </a:cubicBezTo>
                  <a:cubicBezTo>
                    <a:pt x="393" y="3303"/>
                    <a:pt x="602" y="3306"/>
                    <a:pt x="703" y="3299"/>
                  </a:cubicBezTo>
                  <a:cubicBezTo>
                    <a:pt x="804" y="3292"/>
                    <a:pt x="870" y="3265"/>
                    <a:pt x="914" y="3256"/>
                  </a:cubicBezTo>
                </a:path>
              </a:pathLst>
            </a:custGeom>
            <a:noFill/>
            <a:ln w="22320">
              <a:solidFill>
                <a:srgbClr val="c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185800" y="997200"/>
              <a:ext cx="668880" cy="5489640"/>
            </a:xfrm>
            <a:prstGeom prst="downArrow">
              <a:avLst>
                <a:gd name="adj1" fmla="val 50926"/>
                <a:gd name="adj2" fmla="val 77930"/>
              </a:avLst>
            </a:prstGeom>
            <a:gradFill rotWithShape="0">
              <a:gsLst>
                <a:gs pos="0">
                  <a:srgbClr val="ccffff"/>
                </a:gs>
                <a:gs pos="100000">
                  <a:srgbClr val="c9d9d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Konw how ---- Public consul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19040" y="1060560"/>
              <a:ext cx="663480" cy="5330520"/>
            </a:xfrm>
            <a:prstGeom prst="upArrow">
              <a:avLst>
                <a:gd name="adj1" fmla="val 47870"/>
                <a:gd name="adj2" fmla="val 93323"/>
              </a:avLst>
            </a:prstGeom>
            <a:gradFill rotWithShape="0">
              <a:gsLst>
                <a:gs pos="0">
                  <a:srgbClr val="d0dede"/>
                </a:gs>
                <a:gs pos="100000">
                  <a:srgbClr val="cc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Environmental assest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5360" y="1157760"/>
              <a:ext cx="128880" cy="8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795360" y="1241280"/>
              <a:ext cx="243360" cy="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45160" y="1393560"/>
              <a:ext cx="0" cy="11844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48760" y="1393560"/>
              <a:ext cx="4428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6720" y="2345760"/>
              <a:ext cx="29664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15880" y="2328840"/>
              <a:ext cx="0" cy="19224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41200" y="6198840"/>
              <a:ext cx="0" cy="19224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965280" y="2186640"/>
              <a:ext cx="211320" cy="13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934320" y="2337480"/>
              <a:ext cx="284040" cy="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48760" y="2504520"/>
              <a:ext cx="169920" cy="7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541200" y="2425680"/>
              <a:ext cx="0" cy="19080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91800" y="2859480"/>
              <a:ext cx="412920" cy="12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015880" y="2822760"/>
              <a:ext cx="0" cy="19044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11480" y="2825640"/>
              <a:ext cx="253800" cy="13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6689880" y="2966040"/>
              <a:ext cx="329040" cy="324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89640" y="3498480"/>
              <a:ext cx="413280" cy="1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15880" y="3423240"/>
              <a:ext cx="0" cy="19224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81400" y="3364560"/>
              <a:ext cx="128880" cy="8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6773400" y="3462840"/>
              <a:ext cx="333000" cy="324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48760" y="3657240"/>
              <a:ext cx="88920" cy="11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41200" y="3615840"/>
              <a:ext cx="0" cy="19044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42000" y="3885120"/>
              <a:ext cx="88920" cy="3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4725360" y="3938400"/>
              <a:ext cx="205560" cy="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548760" y="4489200"/>
              <a:ext cx="167760" cy="11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41200" y="4408560"/>
              <a:ext cx="0" cy="19080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64800" y="4437000"/>
              <a:ext cx="164520" cy="12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4507560" y="4567680"/>
              <a:ext cx="203760" cy="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61720" y="4815360"/>
              <a:ext cx="244800" cy="11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13720" y="4770000"/>
              <a:ext cx="0" cy="18432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90040" y="5186520"/>
              <a:ext cx="159120" cy="8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6804360" y="5288760"/>
              <a:ext cx="243360" cy="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91800" y="5332320"/>
              <a:ext cx="241200" cy="14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600800" y="5486400"/>
              <a:ext cx="242640" cy="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19040" y="5887800"/>
              <a:ext cx="87480" cy="3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15880" y="5835960"/>
              <a:ext cx="0" cy="19260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48760" y="6232680"/>
              <a:ext cx="178560" cy="10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77560" y="6423120"/>
              <a:ext cx="223200" cy="10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13720" y="6396480"/>
              <a:ext cx="0" cy="15336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89200" y="1006920"/>
              <a:ext cx="772560" cy="160200"/>
            </a:xfrm>
            <a:custGeom>
              <a:avLst/>
              <a:gdLst/>
              <a:ahLst/>
              <a:rect l="l" t="t" r="r" b="b"/>
              <a:pathLst>
                <a:path w="384" h="96">
                  <a:moveTo>
                    <a:pt x="384" y="96"/>
                  </a:moveTo>
                  <a:cubicBezTo>
                    <a:pt x="320" y="48"/>
                    <a:pt x="256" y="0"/>
                    <a:pt x="192" y="0"/>
                  </a:cubicBezTo>
                  <a:cubicBezTo>
                    <a:pt x="128" y="0"/>
                    <a:pt x="16" y="80"/>
                    <a:pt x="0" y="96"/>
                  </a:cubicBezTo>
                </a:path>
              </a:pathLst>
            </a:custGeom>
            <a:noFill/>
            <a:ln w="22320">
              <a:solidFill>
                <a:srgbClr val="c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956200">
              <a:off x="6075000" y="6380640"/>
              <a:ext cx="98640" cy="107280"/>
            </a:xfrm>
            <a:prstGeom prst="flowChartExtract">
              <a:avLst/>
            </a:prstGeom>
            <a:solidFill>
              <a:srgbClr val="dc1f00"/>
            </a:solidFill>
            <a:ln w="9360">
              <a:solidFill>
                <a:srgbClr val="d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3585800">
              <a:off x="5393160" y="1083240"/>
              <a:ext cx="98640" cy="107280"/>
            </a:xfrm>
            <a:prstGeom prst="flowChartExtract">
              <a:avLst/>
            </a:prstGeom>
            <a:solidFill>
              <a:srgbClr val="dc1f00"/>
            </a:solidFill>
            <a:ln w="9360">
              <a:solidFill>
                <a:srgbClr val="d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40000" y="685800"/>
              <a:ext cx="1201680" cy="1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Phas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762120" y="914400"/>
            <a:ext cx="8153280" cy="3200400"/>
            <a:chOff x="762120" y="914400"/>
            <a:chExt cx="8153280" cy="3200400"/>
          </a:xfrm>
        </p:grpSpPr>
        <p:sp>
          <p:nvSpPr>
            <p:cNvPr id="154" name=""/>
            <p:cNvSpPr/>
            <p:nvPr/>
          </p:nvSpPr>
          <p:spPr>
            <a:xfrm>
              <a:off x="838080" y="914400"/>
              <a:ext cx="8077320" cy="3200400"/>
            </a:xfrm>
            <a:prstGeom prst="rect">
              <a:avLst/>
            </a:prstGeom>
            <a:noFill/>
            <a:ln w="4140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-342720" y="2019240"/>
              <a:ext cx="27432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Planning confer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774960" y="2968560"/>
            <a:ext cx="1446480" cy="941400"/>
          </a:xfrm>
          <a:prstGeom prst="ellipse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26000" y="3905280"/>
            <a:ext cx="1442880" cy="4572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obility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6880" y="3922560"/>
            <a:ext cx="1441440" cy="45576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frastructur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57680" y="3189240"/>
            <a:ext cx="1442880" cy="4572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rban Settlemen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18040" y="3619440"/>
            <a:ext cx="1446120" cy="941400"/>
          </a:xfrm>
          <a:prstGeom prst="ellipse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41760" y="3589200"/>
            <a:ext cx="1447920" cy="941400"/>
          </a:xfrm>
          <a:prstGeom prst="ellipse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54320" y="2914560"/>
            <a:ext cx="2892600" cy="2038320"/>
          </a:xfrm>
          <a:prstGeom prst="ellipse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54480" y="4497480"/>
            <a:ext cx="7603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pic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1905120"/>
            <a:ext cx="1916280" cy="93816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8000"/>
                </a:solidFill>
                <a:latin typeface="Arial"/>
              </a:rPr>
              <a:t>Topic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Physical coastal system, risk factors and defence strate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49520" y="1481040"/>
            <a:ext cx="2187720" cy="72864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8000"/>
                </a:solidFill>
                <a:latin typeface="Arial"/>
              </a:rPr>
              <a:t>Topic 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Pollution, water resource management and  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00800" y="1752480"/>
            <a:ext cx="1754280" cy="838440"/>
          </a:xfrm>
          <a:prstGeom prst="rect">
            <a:avLst/>
          </a:prstGeom>
          <a:solidFill>
            <a:srgbClr val="ff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opic 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rts, ship wastage and sea transport 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3505320"/>
            <a:ext cx="1708200" cy="63792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8000"/>
                </a:solidFill>
                <a:latin typeface="Arial"/>
              </a:rPr>
              <a:t>Topic 4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Habitat, biodiversity and land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84920" y="3595680"/>
            <a:ext cx="1139760" cy="457200"/>
          </a:xfrm>
          <a:prstGeom prst="rect">
            <a:avLst/>
          </a:prstGeom>
          <a:solidFill>
            <a:srgbClr val="ff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8000"/>
                </a:solidFill>
                <a:latin typeface="Arial"/>
              </a:rPr>
              <a:t>Topic 5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8000"/>
                </a:solidFill>
                <a:latin typeface="Arial"/>
              </a:rPr>
              <a:t>Tou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7960" y="5329080"/>
            <a:ext cx="1228680" cy="766800"/>
          </a:xfrm>
          <a:prstGeom prst="rect">
            <a:avLst/>
          </a:prstGeom>
          <a:solidFill>
            <a:srgbClr val="ff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pic 6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shing and aqui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5537160"/>
            <a:ext cx="1079280" cy="558720"/>
          </a:xfrm>
          <a:prstGeom prst="rect">
            <a:avLst/>
          </a:prstGeom>
          <a:solidFill>
            <a:srgbClr val="ff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pic 7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603760" y="5584680"/>
            <a:ext cx="1670040" cy="511200"/>
          </a:xfrm>
          <a:prstGeom prst="rect">
            <a:avLst/>
          </a:prstGeom>
          <a:solidFill>
            <a:srgbClr val="ff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pic 8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Energy poli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7375200">
            <a:off x="5487840" y="2589120"/>
            <a:ext cx="795240" cy="341280"/>
          </a:xfrm>
          <a:prstGeom prst="leftRightArrow">
            <a:avLst>
              <a:gd name="adj1" fmla="val 50000"/>
              <a:gd name="adj2" fmla="val 46387"/>
            </a:avLst>
          </a:prstGeom>
          <a:solidFill>
            <a:srgbClr val="ffcc99"/>
          </a:solidFill>
          <a:ln cap="sq"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7647000">
            <a:off x="2343600" y="4686840"/>
            <a:ext cx="1041480" cy="341280"/>
          </a:xfrm>
          <a:prstGeom prst="leftRightArrow">
            <a:avLst>
              <a:gd name="adj1" fmla="val 50000"/>
              <a:gd name="adj2" fmla="val 60751"/>
            </a:avLst>
          </a:prstGeom>
          <a:solidFill>
            <a:srgbClr val="ffcc99"/>
          </a:solidFill>
          <a:ln cap="sq"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2970000">
            <a:off x="5380200" y="4884480"/>
            <a:ext cx="901800" cy="454320"/>
          </a:xfrm>
          <a:prstGeom prst="leftRightArrow">
            <a:avLst>
              <a:gd name="adj1" fmla="val 50000"/>
              <a:gd name="adj2" fmla="val 39515"/>
            </a:avLst>
          </a:prstGeom>
          <a:solidFill>
            <a:srgbClr val="ffcc99"/>
          </a:solidFill>
          <a:ln cap="sq"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38720" y="2286000"/>
            <a:ext cx="409320" cy="555480"/>
          </a:xfrm>
          <a:prstGeom prst="upDownArrow">
            <a:avLst>
              <a:gd name="adj1" fmla="val 50000"/>
              <a:gd name="adj2" fmla="val 27016"/>
            </a:avLst>
          </a:prstGeom>
          <a:solidFill>
            <a:srgbClr val="cc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66960" y="3625920"/>
            <a:ext cx="363600" cy="3967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cc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9501800">
            <a:off x="2971800" y="2666880"/>
            <a:ext cx="341280" cy="673200"/>
          </a:xfrm>
          <a:prstGeom prst="upDownArrow">
            <a:avLst>
              <a:gd name="adj1" fmla="val 50000"/>
              <a:gd name="adj2" fmla="val 39269"/>
            </a:avLst>
          </a:prstGeom>
          <a:solidFill>
            <a:srgbClr val="cc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151680" y="3625920"/>
            <a:ext cx="477720" cy="396720"/>
          </a:xfrm>
          <a:prstGeom prst="leftRightArrow">
            <a:avLst>
              <a:gd name="adj1" fmla="val 50000"/>
              <a:gd name="adj2" fmla="val 23972"/>
            </a:avLst>
          </a:prstGeom>
          <a:solidFill>
            <a:srgbClr val="ffcc99"/>
          </a:solidFill>
          <a:ln cap="sq"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762120"/>
            <a:ext cx="8610480" cy="6094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8000"/>
                </a:solidFill>
                <a:latin typeface="Arial"/>
              </a:rPr>
              <a:t>Interaction between spatial planning and ICZM topic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14800" y="4952880"/>
            <a:ext cx="409680" cy="555840"/>
          </a:xfrm>
          <a:prstGeom prst="upDownArrow">
            <a:avLst>
              <a:gd name="adj1" fmla="val 50000"/>
              <a:gd name="adj2" fmla="val 27010"/>
            </a:avLst>
          </a:prstGeom>
          <a:solidFill>
            <a:srgbClr val="ffcc99"/>
          </a:solidFill>
          <a:ln cap="sq"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286000" y="152280"/>
            <a:ext cx="3733920" cy="45720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8000"/>
                </a:solidFill>
                <a:latin typeface="Arial"/>
              </a:rPr>
              <a:t>Delta tow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572000" y="762120"/>
          <a:ext cx="6429240" cy="556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762120"/>
                    <a:ext cx="6429240" cy="55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2280" y="762120"/>
            <a:ext cx="8839440" cy="6094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Environmental vulnerability: High for Salt water intrusion into aquifers; medium/high for sea ingression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69608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52280" y="1036800"/>
            <a:ext cx="8915400" cy="51354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209680" y="76320"/>
            <a:ext cx="3733920" cy="6094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000"/>
                </a:solidFill>
                <a:latin typeface="Arial"/>
              </a:rPr>
              <a:t>Interaction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320" y="1143000"/>
            <a:ext cx="2514600" cy="6094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8000"/>
                </a:solidFill>
                <a:latin typeface="Arial"/>
              </a:rPr>
              <a:t>Context 1:</a:t>
            </a:r>
            <a:br>
              <a:rPr sz="2000"/>
            </a:br>
            <a:r>
              <a:rPr b="1" lang="de-DE" sz="2000" spc="-1" strike="noStrike">
                <a:solidFill>
                  <a:srgbClr val="008000"/>
                </a:solidFill>
                <a:latin typeface="Arial"/>
              </a:rPr>
              <a:t>Town cen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2:03:15Z</dcterms:created>
  <dc:creator>Angela Schultz-Zehden</dc:creator>
  <dc:description/>
  <dc:language>en-US</dc:language>
  <cp:lastModifiedBy>Angela Schultz-Zehden</cp:lastModifiedBy>
  <dcterms:modified xsi:type="dcterms:W3CDTF">2008-03-25T10:04:29Z</dcterms:modified>
  <cp:revision>92</cp:revision>
  <dc:subject/>
  <dc:title>INTERREG IIIB CADSES Project „PlanCoast“</dc:title>
</cp:coreProperties>
</file>