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8656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823464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4266720"/>
            <a:ext cx="823464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401832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640" y="1811160"/>
            <a:ext cx="401832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266720"/>
            <a:ext cx="401832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7640" y="4266720"/>
            <a:ext cx="401832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265140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2320" y="1811160"/>
            <a:ext cx="265140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6920" y="1811160"/>
            <a:ext cx="265140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4266720"/>
            <a:ext cx="265140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2320" y="4266720"/>
            <a:ext cx="265140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6920" y="4266720"/>
            <a:ext cx="265140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11160"/>
            <a:ext cx="823464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823464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401832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57640" y="1811160"/>
            <a:ext cx="401832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1209240"/>
            <a:ext cx="7772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401832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7640" y="1811160"/>
            <a:ext cx="401832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266720"/>
            <a:ext cx="401832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811160"/>
            <a:ext cx="823464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401832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640" y="1811160"/>
            <a:ext cx="401832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57640" y="4266720"/>
            <a:ext cx="401832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401832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640" y="1811160"/>
            <a:ext cx="401832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266720"/>
            <a:ext cx="823464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823464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266720"/>
            <a:ext cx="823464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401832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640" y="1811160"/>
            <a:ext cx="401832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266720"/>
            <a:ext cx="401832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57640" y="4266720"/>
            <a:ext cx="401832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265140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22320" y="1811160"/>
            <a:ext cx="265140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06920" y="1811160"/>
            <a:ext cx="265140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266720"/>
            <a:ext cx="265140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22320" y="4266720"/>
            <a:ext cx="265140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06920" y="4266720"/>
            <a:ext cx="265140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823464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401832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7640" y="1811160"/>
            <a:ext cx="401832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1209240"/>
            <a:ext cx="7772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401832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640" y="1811160"/>
            <a:ext cx="401832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4266720"/>
            <a:ext cx="401832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401832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640" y="1811160"/>
            <a:ext cx="401832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7640" y="4266720"/>
            <a:ext cx="401832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401832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640" y="1811160"/>
            <a:ext cx="401832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266720"/>
            <a:ext cx="8234640" cy="22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11160"/>
            <a:ext cx="823464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2" marL="1185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6048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6616800"/>
            <a:ext cx="914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5736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616800"/>
            <a:ext cx="914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  <a:p>
            <a:pPr lvl="1" marL="447840" indent="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2" marL="914400" indent="4284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46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45736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cc0000"/>
                </a:solidFill>
                <a:latin typeface="Verdana"/>
              </a:rPr>
              <a:t>Barcelona Convention </a:t>
            </a:r>
            <a:br>
              <a:rPr sz="4000"/>
            </a:br>
            <a:r>
              <a:rPr b="1" lang="hr-HR" sz="4000" spc="-1" strike="noStrike">
                <a:solidFill>
                  <a:srgbClr val="cc0000"/>
                </a:solidFill>
                <a:latin typeface="Verdana"/>
              </a:rPr>
              <a:t>and </a:t>
            </a: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Verdana"/>
              </a:rPr>
              <a:t>ICZM Protocol</a:t>
            </a:r>
            <a:r>
              <a:rPr b="1" lang="en-GB" sz="36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3600"/>
            </a:br>
            <a:br>
              <a:rPr sz="2000"/>
            </a:b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687640" y="5522760"/>
            <a:ext cx="334188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Tahoma"/>
              </a:rPr>
              <a:t>Marko PREM</a:t>
            </a:r>
            <a:endParaRPr b="0" lang="en-US" sz="2800" spc="-1" strike="noStrike">
              <a:solidFill>
                <a:srgbClr val="cc0000"/>
              </a:solidFill>
              <a:latin typeface="Tahoma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Tahoma"/>
              </a:rPr>
              <a:t>Deputy 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Director</a:t>
            </a:r>
            <a:endParaRPr b="0" lang="en-US" sz="20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5478480"/>
            <a:ext cx="28828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Milestones and Process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823464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ahoma"/>
              </a:rPr>
              <a:t>14</a:t>
            </a:r>
            <a:r>
              <a:rPr b="0" lang="en-GB" sz="2400" spc="-1" strike="noStrike" baseline="30000">
                <a:solidFill>
                  <a:srgbClr val="cc0000"/>
                </a:solidFill>
                <a:latin typeface="Tahoma"/>
              </a:rPr>
              <a:t>th</a:t>
            </a:r>
            <a:r>
              <a:rPr b="0" lang="en-GB" sz="2400" spc="-1" strike="noStrike">
                <a:solidFill>
                  <a:srgbClr val="cc0000"/>
                </a:solidFill>
                <a:latin typeface="Tahoma"/>
              </a:rPr>
              <a:t> Meeting of the C</a:t>
            </a:r>
            <a:r>
              <a:rPr b="0" lang="hr-HR" sz="2400" spc="-1" strike="noStrike">
                <a:solidFill>
                  <a:srgbClr val="cc0000"/>
                </a:solidFill>
                <a:latin typeface="Tahoma"/>
              </a:rPr>
              <a:t>P</a:t>
            </a:r>
            <a:r>
              <a:rPr b="0" lang="en-GB" sz="2400" spc="-1" strike="noStrike">
                <a:solidFill>
                  <a:srgbClr val="cc0000"/>
                </a:solidFill>
                <a:latin typeface="Tahoma"/>
              </a:rPr>
              <a:t>s (Portoro</a:t>
            </a:r>
            <a:r>
              <a:rPr b="0" lang="hr-HR" sz="2400" spc="-1" strike="noStrike">
                <a:solidFill>
                  <a:srgbClr val="cc0000"/>
                </a:solidFill>
                <a:latin typeface="Tahoma"/>
              </a:rPr>
              <a:t>z</a:t>
            </a:r>
            <a:r>
              <a:rPr b="0" lang="en-GB" sz="2400" spc="-1" strike="noStrike">
                <a:solidFill>
                  <a:srgbClr val="cc0000"/>
                </a:solidFill>
                <a:latin typeface="Tahoma"/>
              </a:rPr>
              <a:t>, November 2005)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lnSpc>
                <a:spcPct val="90000"/>
              </a:lnSpc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99"/>
                </a:solidFill>
                <a:latin typeface="Tahoma"/>
              </a:rPr>
              <a:t>D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raft Protocol presented</a:t>
            </a:r>
            <a:r>
              <a:rPr b="0" lang="hr-HR" sz="2200" spc="-1" strike="noStrike">
                <a:solidFill>
                  <a:srgbClr val="000099"/>
                </a:solidFill>
                <a:latin typeface="Tahoma"/>
              </a:rPr>
              <a:t>;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lnSpc>
                <a:spcPct val="90000"/>
              </a:lnSpc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W</a:t>
            </a:r>
            <a:r>
              <a:rPr b="0" lang="hr-HR" sz="2200" spc="-1" strike="noStrike">
                <a:solidFill>
                  <a:srgbClr val="000099"/>
                </a:solidFill>
                <a:latin typeface="Tahoma"/>
              </a:rPr>
              <a:t>G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establish</a:t>
            </a:r>
            <a:r>
              <a:rPr b="0" lang="hr-HR" sz="2200" spc="-1" strike="noStrike">
                <a:solidFill>
                  <a:srgbClr val="000099"/>
                </a:solidFill>
                <a:latin typeface="Tahoma"/>
              </a:rPr>
              <a:t>ed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to develop and finalise the draft text, </a:t>
            </a:r>
            <a:br>
              <a:rPr sz="2200"/>
            </a:b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with a view of</a:t>
            </a:r>
            <a:r>
              <a:rPr b="0" lang="hr-HR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its consideration and possible approval </a:t>
            </a:r>
            <a:r>
              <a:rPr b="0" lang="hr-HR" sz="2200" spc="-1" strike="noStrike">
                <a:solidFill>
                  <a:srgbClr val="000099"/>
                </a:solidFill>
                <a:latin typeface="Tahoma"/>
              </a:rPr>
              <a:t>at </a:t>
            </a:r>
            <a:br>
              <a:rPr sz="2200"/>
            </a:b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15</a:t>
            </a:r>
            <a:r>
              <a:rPr b="0" lang="en-GB" sz="2200" spc="-1" strike="noStrike" baseline="30000">
                <a:solidFill>
                  <a:srgbClr val="000099"/>
                </a:solidFill>
                <a:latin typeface="Tahoma"/>
              </a:rPr>
              <a:t>th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Ordinary Meeting</a:t>
            </a:r>
            <a:r>
              <a:rPr b="0" lang="hr-HR" sz="2200" spc="-1" strike="noStrike">
                <a:solidFill>
                  <a:srgbClr val="000099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egotiation stage and drafting (2006-2007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C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onsensus reached on the text</a:t>
            </a: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 end 2007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194520"/>
            <a:ext cx="17701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Milestones and Proc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823464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ahoma"/>
              </a:rPr>
              <a:t>15</a:t>
            </a:r>
            <a:r>
              <a:rPr b="0" lang="en-GB" sz="2400" spc="-1" strike="noStrike" baseline="30000">
                <a:solidFill>
                  <a:srgbClr val="cc0000"/>
                </a:solidFill>
                <a:latin typeface="Tahoma"/>
              </a:rPr>
              <a:t>th</a:t>
            </a:r>
            <a:r>
              <a:rPr b="0" lang="en-GB" sz="2400" spc="-1" strike="noStrike">
                <a:solidFill>
                  <a:srgbClr val="cc0000"/>
                </a:solidFill>
                <a:latin typeface="Tahoma"/>
              </a:rPr>
              <a:t> Ordinary meeting of the CPs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cc0000"/>
                </a:solidFill>
                <a:latin typeface="Tahoma"/>
              </a:rPr>
              <a:t>(Almeria, Jan 2008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inal text presented</a:t>
            </a: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,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approved and prepared for signin</a:t>
            </a: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68200" indent="-268200"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Conference of the Plenipotentiaries </a:t>
            </a: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Madrid</a:t>
            </a: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21 Jan 2008</a:t>
            </a: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), ICZM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Protocol signed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4600" y="3373560"/>
            <a:ext cx="4140360" cy="3105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6480" y="3367080"/>
            <a:ext cx="4165560" cy="3124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6194520"/>
            <a:ext cx="17701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Structure of the Protoco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823464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Part I</a:t>
            </a:r>
            <a:r>
              <a:rPr b="1" lang="hr-HR" sz="2400" spc="-1" strike="noStrike">
                <a:solidFill>
                  <a:srgbClr val="000099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cc0000"/>
                </a:solidFill>
                <a:latin typeface="Tahoma"/>
              </a:rPr>
              <a:t>General Provisions</a:t>
            </a:r>
            <a:br>
              <a:rPr sz="2400"/>
            </a:b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1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General Obligations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2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cc0000"/>
                </a:solidFill>
                <a:latin typeface="Tahoma"/>
              </a:rPr>
              <a:t>Definitions</a:t>
            </a:r>
            <a:r>
              <a:rPr b="0" lang="hr-HR" sz="2200" spc="-1" strike="noStrike">
                <a:solidFill>
                  <a:srgbClr val="000099"/>
                </a:solidFill>
                <a:latin typeface="Tahoma"/>
              </a:rPr>
              <a:t> (e.g. coastal zone, IZCM)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3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cc0000"/>
                </a:solidFill>
                <a:latin typeface="Tahoma"/>
              </a:rPr>
              <a:t>Geographical Coverage</a:t>
            </a:r>
            <a:r>
              <a:rPr b="0" lang="hr-HR" sz="2200" spc="-1" strike="noStrike">
                <a:solidFill>
                  <a:srgbClr val="000099"/>
                </a:solidFill>
                <a:latin typeface="Tahoma"/>
              </a:rPr>
              <a:t> (seaward-landward)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4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cc0000"/>
                </a:solidFill>
                <a:latin typeface="Tahoma"/>
              </a:rPr>
              <a:t>Preservation of Rights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5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cc0000"/>
                </a:solidFill>
                <a:latin typeface="Tahoma"/>
              </a:rPr>
              <a:t>Objectives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 of I</a:t>
            </a:r>
            <a:r>
              <a:rPr b="0" lang="hr-HR" sz="2200" spc="-1" strike="noStrike">
                <a:solidFill>
                  <a:srgbClr val="cc0000"/>
                </a:solidFill>
                <a:latin typeface="Tahoma"/>
              </a:rPr>
              <a:t>CZM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6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General </a:t>
            </a:r>
            <a:r>
              <a:rPr b="1" lang="en-GB" sz="2200" spc="-1" strike="noStrike">
                <a:solidFill>
                  <a:srgbClr val="cc0000"/>
                </a:solidFill>
                <a:latin typeface="Tahoma"/>
              </a:rPr>
              <a:t>Principles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 of </a:t>
            </a:r>
            <a:r>
              <a:rPr b="0" lang="hr-HR" sz="2200" spc="-1" strike="noStrike">
                <a:solidFill>
                  <a:srgbClr val="cc0000"/>
                </a:solidFill>
                <a:latin typeface="Tahoma"/>
              </a:rPr>
              <a:t>ICZM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7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cc0000"/>
                </a:solidFill>
                <a:latin typeface="Tahoma"/>
              </a:rPr>
              <a:t>Co</a:t>
            </a:r>
            <a:r>
              <a:rPr b="1" lang="hr-HR" sz="2200" spc="-1" strike="noStrike">
                <a:solidFill>
                  <a:srgbClr val="cc0000"/>
                </a:solidFill>
                <a:latin typeface="Tahoma"/>
              </a:rPr>
              <a:t>-</a:t>
            </a:r>
            <a:r>
              <a:rPr b="1" lang="en-GB" sz="2200" spc="-1" strike="noStrike">
                <a:solidFill>
                  <a:srgbClr val="cc0000"/>
                </a:solidFill>
                <a:latin typeface="Tahoma"/>
              </a:rPr>
              <a:t>ordination</a:t>
            </a:r>
            <a:r>
              <a:rPr b="0" lang="hr-HR" sz="22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2200"/>
            </a:br>
            <a:r>
              <a:rPr b="0" lang="hr-HR" sz="2200" spc="-1" strike="noStrike">
                <a:solidFill>
                  <a:srgbClr val="000099"/>
                </a:solidFill>
                <a:latin typeface="Tahoma"/>
              </a:rPr>
              <a:t>(e.g. institutional, between authorities; coherence, effectiveness)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6194520"/>
            <a:ext cx="17701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28560" y="1965240"/>
            <a:ext cx="830592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Structure of the Protoco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823464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art II</a:t>
            </a:r>
            <a:r>
              <a:rPr b="1" lang="hr-HR" sz="2400" spc="-1" strike="noStrike">
                <a:solidFill>
                  <a:srgbClr val="000099"/>
                </a:solidFill>
                <a:latin typeface="Tahoma"/>
              </a:rPr>
              <a:t>: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cc0000"/>
                </a:solidFill>
                <a:latin typeface="Tahoma"/>
              </a:rPr>
              <a:t>Elements of Integrated Coastal Zone</a:t>
            </a:r>
            <a:r>
              <a:rPr b="1" lang="hr-HR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cc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lvl="1" marL="684000" indent="-2541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8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Protection and Sustainable Use of the Coastal</a:t>
            </a:r>
            <a:r>
              <a:rPr b="0" lang="hr-HR" sz="2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Zone</a:t>
            </a:r>
            <a:br>
              <a:rPr sz="2200"/>
            </a:br>
            <a:r>
              <a:rPr b="0" lang="hr-HR" sz="2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hr-HR" sz="2000" spc="-1" strike="noStrike">
                <a:solidFill>
                  <a:srgbClr val="000099"/>
                </a:solidFill>
                <a:latin typeface="Tahoma"/>
              </a:rPr>
              <a:t>setback zone of 100m – no construction allowed; exceptions</a:t>
            </a:r>
            <a:r>
              <a:rPr b="0" lang="hr-HR" sz="2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684000" indent="-254160">
              <a:spcBef>
                <a:spcPts val="249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9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Economic Activities</a:t>
            </a:r>
            <a:r>
              <a:rPr b="0" lang="hr-HR" sz="2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000099"/>
                </a:solidFill>
                <a:latin typeface="Tahoma"/>
              </a:rPr>
              <a:t>(incl. fishing, aquaculture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684000" indent="-2541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10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Specific Coastal Ecosystems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684000" indent="-2541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99"/>
                </a:solidFill>
                <a:latin typeface="Tahoma"/>
              </a:rPr>
              <a:t>Article 11:</a:t>
            </a:r>
            <a:r>
              <a:rPr b="0" lang="fr-FR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fr-FR" sz="2200" spc="-1" strike="noStrike">
                <a:solidFill>
                  <a:srgbClr val="cc0000"/>
                </a:solidFill>
                <a:latin typeface="Tahoma"/>
              </a:rPr>
              <a:t>Coastal Landscapes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684000" indent="-2541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99"/>
                </a:solidFill>
                <a:latin typeface="Tahoma"/>
              </a:rPr>
              <a:t>Article 12:</a:t>
            </a:r>
            <a:r>
              <a:rPr b="0" lang="fr-FR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fr-FR" sz="2200" spc="-1" strike="noStrike">
                <a:solidFill>
                  <a:srgbClr val="cc0000"/>
                </a:solidFill>
                <a:latin typeface="Tahoma"/>
              </a:rPr>
              <a:t>Islands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684000" indent="-2541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99"/>
                </a:solidFill>
                <a:latin typeface="Tahoma"/>
              </a:rPr>
              <a:t>Article 13:</a:t>
            </a:r>
            <a:r>
              <a:rPr b="0" lang="fr-FR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fr-FR" sz="2200" spc="-1" strike="noStrike">
                <a:solidFill>
                  <a:srgbClr val="cc0000"/>
                </a:solidFill>
                <a:latin typeface="Tahoma"/>
              </a:rPr>
              <a:t>Cultural Heritage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684000" indent="-2541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99"/>
                </a:solidFill>
                <a:latin typeface="Tahoma"/>
              </a:rPr>
              <a:t>Article 14:</a:t>
            </a:r>
            <a:r>
              <a:rPr b="0" lang="fr-FR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fr-FR" sz="2200" spc="-1" strike="noStrike">
                <a:solidFill>
                  <a:srgbClr val="cc0000"/>
                </a:solidFill>
                <a:latin typeface="Tahoma"/>
              </a:rPr>
              <a:t>Participation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684000" indent="-2541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15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Awareness-raising, Training, Education and</a:t>
            </a:r>
            <a:r>
              <a:rPr b="0" lang="hr-HR" sz="2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hr-HR" sz="22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Research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6194520"/>
            <a:ext cx="17701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17400" y="1343160"/>
            <a:ext cx="7512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8560" y="1965240"/>
            <a:ext cx="830592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Structure of the Protoco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823464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Part III</a:t>
            </a:r>
            <a:r>
              <a:rPr b="1" lang="hr-HR" sz="2400" spc="-1" strike="noStrike">
                <a:solidFill>
                  <a:srgbClr val="000099"/>
                </a:solidFill>
                <a:latin typeface="Tahoma"/>
              </a:rPr>
              <a:t>:</a:t>
            </a:r>
            <a:br>
              <a:rPr sz="2400"/>
            </a:br>
            <a:r>
              <a:rPr b="1" lang="en-GB" sz="2400" spc="-1" strike="noStrike">
                <a:solidFill>
                  <a:srgbClr val="cc0000"/>
                </a:solidFill>
                <a:latin typeface="Tahoma"/>
              </a:rPr>
              <a:t>Instruments </a:t>
            </a:r>
            <a:r>
              <a:rPr b="1" lang="hr-HR" sz="2400" spc="-1" strike="noStrike">
                <a:solidFill>
                  <a:srgbClr val="cc0000"/>
                </a:solidFill>
                <a:latin typeface="Tahoma"/>
              </a:rPr>
              <a:t>for</a:t>
            </a:r>
            <a:r>
              <a:rPr b="1" lang="en-GB" sz="2400" spc="-1" strike="noStrike">
                <a:solidFill>
                  <a:srgbClr val="cc0000"/>
                </a:solidFill>
                <a:latin typeface="Tahoma"/>
              </a:rPr>
              <a:t> Integrated Coastal</a:t>
            </a:r>
            <a:r>
              <a:rPr b="1" lang="hr-HR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cc0000"/>
                </a:solidFill>
                <a:latin typeface="Tahoma"/>
              </a:rPr>
              <a:t>Zone</a:t>
            </a:r>
            <a:r>
              <a:rPr b="1" lang="hr-HR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cc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16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Monitoring and Observation</a:t>
            </a:r>
            <a:r>
              <a:rPr b="0" lang="hr-HR" sz="2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Mechanisms and </a:t>
            </a:r>
            <a:r>
              <a:rPr b="0" lang="hr-HR" sz="22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Networks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17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Mediterranean Strategy for </a:t>
            </a:r>
            <a:r>
              <a:rPr b="0" lang="hr-HR" sz="2200" spc="-1" strike="noStrike">
                <a:solidFill>
                  <a:srgbClr val="cc0000"/>
                </a:solidFill>
                <a:latin typeface="Tahoma"/>
              </a:rPr>
              <a:t>ICZM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18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National Coastal Strategies, Plans and</a:t>
            </a:r>
            <a:r>
              <a:rPr b="0" lang="hr-HR" sz="2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hr-HR" sz="22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Programmes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19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Environmental Assessment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20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Land Policy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21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Economic, Financial and Fiscal Instruments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6194520"/>
            <a:ext cx="17701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80960" y="1965240"/>
            <a:ext cx="845352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065560" y="4008600"/>
            <a:ext cx="3638880" cy="2501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20880" y="4010040"/>
            <a:ext cx="3327120" cy="25002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Structure of the Protoco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823464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Part IV</a:t>
            </a:r>
            <a:r>
              <a:rPr b="1" lang="hr-HR" sz="2400" spc="-1" strike="noStrike">
                <a:solidFill>
                  <a:srgbClr val="000099"/>
                </a:solidFill>
                <a:latin typeface="Tahoma"/>
              </a:rPr>
              <a:t>:</a:t>
            </a: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cc0000"/>
                </a:solidFill>
                <a:latin typeface="Tahoma"/>
              </a:rPr>
              <a:t>Risks Affecting the Coastal Zon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22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Natural Hazards</a:t>
            </a:r>
            <a:r>
              <a:rPr b="0" lang="hr-HR" sz="2200" spc="-1" strike="noStrike">
                <a:solidFill>
                  <a:srgbClr val="000099"/>
                </a:solidFill>
                <a:latin typeface="Tahoma"/>
              </a:rPr>
              <a:t> (measures to address natural </a:t>
            </a:r>
            <a:r>
              <a:rPr b="0" lang="hr-HR" sz="2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hr-HR" sz="2200" spc="-1" strike="noStrike">
                <a:solidFill>
                  <a:srgbClr val="000099"/>
                </a:solidFill>
                <a:latin typeface="Tahoma"/>
              </a:rPr>
              <a:t>disasters, climate change)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23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Coastal Erosion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24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Response to Natural Disasters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6194520"/>
            <a:ext cx="17701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Structure of the Protoco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4871880"/>
            <a:ext cx="9144000" cy="16592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823464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Part V</a:t>
            </a:r>
            <a:r>
              <a:rPr b="1" lang="hr-HR" sz="2400" spc="-1" strike="noStrike">
                <a:solidFill>
                  <a:srgbClr val="000099"/>
                </a:solidFill>
                <a:latin typeface="Tahoma"/>
              </a:rPr>
              <a:t>:</a:t>
            </a:r>
            <a:br>
              <a:rPr sz="2400"/>
            </a:br>
            <a:r>
              <a:rPr b="1" lang="en-GB" sz="2400" spc="-1" strike="noStrike">
                <a:solidFill>
                  <a:srgbClr val="cc0000"/>
                </a:solidFill>
                <a:latin typeface="Tahoma"/>
              </a:rPr>
              <a:t>International Cooperatio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0">
              <a:spcBef>
                <a:spcPts val="150"/>
              </a:spcBef>
              <a:buNone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25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Training and Research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26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Scientific and Technical Assistance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27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Exchange of Information and Activities</a:t>
            </a:r>
            <a:r>
              <a:rPr b="0" lang="hr-HR" sz="2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of</a:t>
            </a:r>
            <a:r>
              <a:rPr b="0" lang="hr-HR" sz="2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hr-HR" sz="22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Common Interest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28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Transboundary Cooperation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29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Transboundary Environmental</a:t>
            </a:r>
            <a:r>
              <a:rPr b="0" lang="hr-HR" sz="2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Assessment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6194520"/>
            <a:ext cx="17701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Structure of the Protoco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823464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Part VI</a:t>
            </a:r>
            <a:r>
              <a:rPr b="1" lang="hr-HR" sz="24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0000"/>
                </a:solidFill>
                <a:latin typeface="Tahoma"/>
              </a:rPr>
              <a:t>Institutional Provision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68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99"/>
                </a:solidFill>
                <a:latin typeface="Tahoma"/>
              </a:rPr>
              <a:t>Article 30:</a:t>
            </a:r>
            <a:r>
              <a:rPr b="0" lang="fr-FR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fr-FR" sz="2200" spc="-1" strike="noStrike">
                <a:solidFill>
                  <a:srgbClr val="cc0000"/>
                </a:solidFill>
                <a:latin typeface="Tahoma"/>
              </a:rPr>
              <a:t>Focal Points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31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Reports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32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Institutional Coordination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33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Meetings of the Parties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937120" y="4141800"/>
            <a:ext cx="3156120" cy="2367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6194520"/>
            <a:ext cx="17701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Structure of the Protoco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823464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ahoma"/>
              </a:rPr>
              <a:t>Part VI</a:t>
            </a:r>
            <a:r>
              <a:rPr b="1" lang="hr-HR" sz="2400" spc="-1" strike="noStrike">
                <a:solidFill>
                  <a:srgbClr val="000099"/>
                </a:solidFill>
                <a:latin typeface="Tahoma"/>
              </a:rPr>
              <a:t>I:</a:t>
            </a:r>
            <a:br>
              <a:rPr sz="2400"/>
            </a:br>
            <a:r>
              <a:rPr b="1" lang="en-GB" sz="2400" spc="-1" strike="noStrike">
                <a:solidFill>
                  <a:srgbClr val="cc0000"/>
                </a:solidFill>
                <a:latin typeface="Tahoma"/>
              </a:rPr>
              <a:t>Final Provision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34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Relationship with the Convention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35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Relations with Third Parties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36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Signature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37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Ratification, Acceptance or Approval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38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Accession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39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Entry into Force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Tahoma"/>
              </a:rPr>
              <a:t>Article 40: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cc0000"/>
                </a:solidFill>
                <a:latin typeface="Tahoma"/>
              </a:rPr>
              <a:t>Authentic Texts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261120" y="444348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6194520"/>
            <a:ext cx="17701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022640" y="3204720"/>
            <a:ext cx="505008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UNEP Mediterranean Action Plan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riority Actions Programme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Regional Activity Centre </a:t>
            </a:r>
            <a:r>
              <a:rPr b="0" lang="hr-HR" sz="20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AP/RAC</a:t>
            </a:r>
            <a:r>
              <a:rPr b="0" lang="hr-HR" sz="20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Kraj Sv. Ivana 11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HR-21000 Split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tel:</a:t>
            </a:r>
            <a:r>
              <a:rPr b="0" lang="hr-HR" sz="2000" spc="-1" strike="noStrike">
                <a:solidFill>
                  <a:srgbClr val="000099"/>
                </a:solidFill>
                <a:latin typeface="Tahoma"/>
              </a:rPr>
              <a:t> +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385 21 340 470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-mail: pap@gradst.hr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00"/>
                </a:solidFill>
                <a:latin typeface="Tahoma"/>
              </a:rPr>
              <a:t>www.pap-thecoastcentre.org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6194520"/>
            <a:ext cx="17701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editerranean Action Plan</a:t>
            </a:r>
            <a:r>
              <a:rPr b="0" lang="hr-HR" sz="3200" spc="-1" strike="noStrike">
                <a:solidFill>
                  <a:srgbClr val="000066"/>
                </a:solidFill>
                <a:latin typeface="Tahoma"/>
              </a:rPr>
              <a:t> –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MAP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823464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AP 1975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68200" indent="-268200"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Barcelona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onvention 1976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Assess and control </a:t>
            </a:r>
            <a:br>
              <a:rPr sz="2200"/>
            </a:b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marine pollution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Formulate national </a:t>
            </a:r>
            <a:br>
              <a:rPr sz="2200"/>
            </a:b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environmental </a:t>
            </a:r>
            <a:br>
              <a:rPr sz="2200"/>
            </a:b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policies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IC</a:t>
            </a:r>
            <a:r>
              <a:rPr b="0" lang="hr-HR" sz="22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M after 1985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41640" y="2374920"/>
            <a:ext cx="5202360" cy="4106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6194520"/>
            <a:ext cx="1770120" cy="66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7360" y="1504800"/>
            <a:ext cx="9026640" cy="4910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6194520"/>
            <a:ext cx="1770120" cy="66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MAP Legal Bas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823464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Seven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specific legal frameworks</a:t>
            </a: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 algn="just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Dumping Protocol 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 algn="just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Emergency Protocol 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 algn="just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LBS Protocol 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 algn="just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SPA and Biodiversity Protocol 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 algn="just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Offshore Protocol 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 algn="just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Hazardous Wastes Protocol 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 algn="just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0000"/>
                </a:solidFill>
                <a:latin typeface="Tahoma"/>
              </a:rPr>
              <a:t>ICZM Protocol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6194520"/>
            <a:ext cx="17701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Tahoma"/>
              </a:rPr>
              <a:t>ICZM Milestones</a:t>
            </a: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2354040"/>
            <a:ext cx="8234640" cy="39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Guidelines (1988, 1995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MCSD Recommendations (1997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Best Practices Guidelines (2001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White Paper (2001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MSSD (2005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Protocol (2001-2008)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6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CAMP (Since 1989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6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6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265880" y="1380960"/>
            <a:ext cx="1754280" cy="2554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229520" y="3983040"/>
            <a:ext cx="1787400" cy="2522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05320" y="3994200"/>
            <a:ext cx="1825560" cy="2517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6194520"/>
            <a:ext cx="17701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6040" y="1436760"/>
            <a:ext cx="8967960" cy="4968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6194520"/>
            <a:ext cx="17701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7680" y="-2673000"/>
            <a:ext cx="76320" cy="87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431720"/>
            <a:ext cx="8102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Conference of the Plenipotentiaries </a:t>
            </a:r>
            <a:br>
              <a:rPr sz="2400"/>
            </a:b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Madrid</a:t>
            </a: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21 January 2008</a:t>
            </a: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68200" indent="-268200"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ICZM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Protocol signed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68200" indent="-26820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00"/>
                </a:solidFill>
                <a:latin typeface="Tahoma"/>
              </a:rPr>
              <a:t>What next?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2440" y="3449520"/>
            <a:ext cx="4097160" cy="3073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18240" y="2187720"/>
            <a:ext cx="3251160" cy="4333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6194520"/>
            <a:ext cx="17701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17400" y="1343160"/>
            <a:ext cx="7512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1811160"/>
            <a:ext cx="823464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00"/>
                </a:solidFill>
                <a:latin typeface="Tahoma"/>
              </a:rPr>
              <a:t>Crucial</a:t>
            </a:r>
            <a:r>
              <a:rPr b="1" lang="en-GB" sz="2400" spc="-1" strike="noStrike">
                <a:solidFill>
                  <a:srgbClr val="cc0000"/>
                </a:solidFill>
                <a:latin typeface="Tahoma"/>
              </a:rPr>
              <a:t> milestone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in the history of MAP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ahoma"/>
              </a:rPr>
              <a:t>Innovative</a:t>
            </a: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unique legal instrument in the entire international community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00"/>
                </a:solidFill>
                <a:latin typeface="Tahoma"/>
              </a:rPr>
              <a:t>Forward</a:t>
            </a:r>
            <a:r>
              <a:rPr b="1" lang="en-GB" sz="2400" spc="-1" strike="noStrike">
                <a:solidFill>
                  <a:srgbClr val="cc0000"/>
                </a:solidFill>
                <a:latin typeface="Tahoma"/>
              </a:rPr>
              <a:t>-looking and proactive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: it aims at preventing and not only reacting to coastal problem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00"/>
                </a:solidFill>
                <a:latin typeface="Tahoma"/>
              </a:rPr>
              <a:t>Comprehensive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: it covers all issues crucial for coastal environment and its protection in the 21</a:t>
            </a:r>
            <a:r>
              <a:rPr b="0" lang="en-GB" sz="2400" spc="-1" strike="noStrike" baseline="30000">
                <a:solidFill>
                  <a:srgbClr val="000099"/>
                </a:solidFill>
                <a:latin typeface="Tahoma"/>
              </a:rPr>
              <a:t>st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century</a:t>
            </a: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 (emerging challenges such as climate change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00"/>
                </a:solidFill>
                <a:latin typeface="Tahoma"/>
              </a:rPr>
              <a:t>In</a:t>
            </a:r>
            <a:r>
              <a:rPr b="1" lang="en-GB" sz="2400" spc="-1" strike="noStrike">
                <a:solidFill>
                  <a:srgbClr val="cc0000"/>
                </a:solidFill>
                <a:latin typeface="Tahoma"/>
              </a:rPr>
              <a:t>tegrated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: it ensures institutional co-ordination, co-ordination of national, regional and local authorities, involvement of </a:t>
            </a: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NGOs/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other competent organisations,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6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ntegrity of sea and land areas 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6194520"/>
            <a:ext cx="17701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120924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Milestones and Process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11160"/>
            <a:ext cx="8234640" cy="47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12</a:t>
            </a:r>
            <a:r>
              <a:rPr b="0" lang="en-US" sz="2400" spc="-1" strike="noStrike" baseline="30000">
                <a:solidFill>
                  <a:srgbClr val="cc00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cc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eeting of the C</a:t>
            </a:r>
            <a:r>
              <a:rPr b="0" lang="hr-HR" sz="2400" spc="-1" strike="noStrike">
                <a:solidFill>
                  <a:srgbClr val="cc0000"/>
                </a:solidFill>
                <a:latin typeface="Tahoma"/>
              </a:rPr>
              <a:t>Ps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Monaco</a:t>
            </a:r>
            <a:r>
              <a:rPr b="0" lang="hr-HR" sz="2000" spc="-1" strike="noStrike">
                <a:solidFill>
                  <a:srgbClr val="000099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Nov 2001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Feasibility Study in 2002/3 </a:t>
            </a:r>
            <a:r>
              <a:rPr b="0" lang="hr-HR" sz="2200" spc="-1" strike="noStrike">
                <a:solidFill>
                  <a:srgbClr val="000099"/>
                </a:solidFill>
                <a:latin typeface="Tahoma"/>
              </a:rPr>
              <a:t>–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 need for a new regional legal instrument in a form of ICZM Protocol 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marL="268200" indent="-26820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ahoma"/>
              </a:rPr>
              <a:t>13</a:t>
            </a:r>
            <a:r>
              <a:rPr b="0" lang="en-GB" sz="2400" spc="-1" strike="noStrike" baseline="30000">
                <a:solidFill>
                  <a:srgbClr val="cc0000"/>
                </a:solidFill>
                <a:latin typeface="Tahoma"/>
              </a:rPr>
              <a:t>th</a:t>
            </a:r>
            <a:r>
              <a:rPr b="0" lang="en-GB" sz="2400" spc="-1" strike="noStrike">
                <a:solidFill>
                  <a:srgbClr val="cc0000"/>
                </a:solidFill>
                <a:latin typeface="Tahoma"/>
              </a:rPr>
              <a:t> Meeting of the C</a:t>
            </a:r>
            <a:r>
              <a:rPr b="0" lang="hr-HR" sz="2400" spc="-1" strike="noStrike">
                <a:solidFill>
                  <a:srgbClr val="cc0000"/>
                </a:solidFill>
                <a:latin typeface="Tahoma"/>
              </a:rPr>
              <a:t>Ps</a:t>
            </a:r>
            <a:r>
              <a:rPr b="0" lang="en-GB" sz="2400" spc="-1" strike="noStrike">
                <a:solidFill>
                  <a:srgbClr val="cc0000"/>
                </a:solidFill>
                <a:latin typeface="Tahoma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Catania, Nov 2003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12800" indent="-264960">
              <a:spcBef>
                <a:spcPts val="275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repare the draft Protocol</a:t>
            </a:r>
            <a:r>
              <a:rPr b="0" lang="hr-HR" sz="2200" spc="-1" strike="noStrike">
                <a:solidFill>
                  <a:srgbClr val="000099"/>
                </a:solidFill>
                <a:latin typeface="Tahoma"/>
              </a:rPr>
              <a:t>, </a:t>
            </a:r>
            <a:br>
              <a:rPr sz="2200"/>
            </a:br>
            <a:r>
              <a:rPr b="0" lang="en-GB" sz="2200" spc="-1" strike="noStrike">
                <a:solidFill>
                  <a:srgbClr val="000099"/>
                </a:solidFill>
                <a:latin typeface="Tahoma"/>
              </a:rPr>
              <a:t>broad consultation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marL="268200" indent="-26820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0" lang="en-GB" sz="2400" spc="-1" strike="noStrike">
                <a:solidFill>
                  <a:srgbClr val="cc0000"/>
                </a:solidFill>
                <a:latin typeface="Tahoma"/>
              </a:rPr>
              <a:t>egional Stakeholders Forum 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Cagliari, 2004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68200" indent="-26820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00"/>
                </a:solidFill>
                <a:latin typeface="Tahoma"/>
              </a:rPr>
              <a:t>Consultative workshop </a:t>
            </a: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hr-HR" sz="2000" spc="-1" strike="noStrike">
                <a:solidFill>
                  <a:srgbClr val="000099"/>
                </a:solidFill>
                <a:latin typeface="Tahoma"/>
              </a:rPr>
              <a:t>Oristano, 2005</a:t>
            </a:r>
            <a:r>
              <a:rPr b="0" lang="hr-HR" sz="2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26080" y="2919240"/>
            <a:ext cx="2503800" cy="3540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6194520"/>
            <a:ext cx="17701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5T06:36:42Z</dcterms:created>
  <dc:creator>Marko Prem</dc:creator>
  <dc:description/>
  <dc:language>en-US</dc:language>
  <cp:lastModifiedBy>raffaelli_k</cp:lastModifiedBy>
  <cp:lastPrinted>2004-06-24T12:38:40Z</cp:lastPrinted>
  <dcterms:modified xsi:type="dcterms:W3CDTF">2008-03-28T08:25:18Z</dcterms:modified>
  <cp:revision>325</cp:revision>
  <dc:subject/>
  <dc:title>No Slide Title</dc:title>
</cp:coreProperties>
</file>