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562d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562db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8BC2-46DC-4819-BF64-B055CFFE6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0487-488F-4B24-BFEA-A8C9AC3C1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562d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D808-B818-41AF-9797-5269FF4B3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562d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0CE6-3C89-49CD-8562-94E366F6E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562d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F9F6-C8B3-467C-A2E4-690D4269A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E119A-CB62-4D8A-B73C-F534E9E3A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562d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85254-E704-410C-831D-FE2997168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562d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DCB7E-042E-4EBA-AB76-8E521DC45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562d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BA5F8-CA03-4665-9C66-1FE72CD16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562d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16041-8656-44E8-9A40-50AA46FBD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2388B-54B9-4D8A-9B29-E404684BA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562d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F6C46-BDFA-428A-B5CB-96DA03BC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562d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6A00-A32B-4DB7-8D4C-71534A1C6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562d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3BA07-E6F5-449D-BD6A-21201B97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562db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B9E8C-AD30-473B-A11C-A3D2A6B4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562d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73B67-9807-410B-A8CD-A72701AE2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562d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0312C-ACDD-40D2-AB60-D83B5E275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562d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0F6CC-DB86-4124-81D4-E89B4EAC5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562d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8A15-00A4-4DD6-858D-F7A085E54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562d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11AE-CAB9-4E1B-ADAB-00A313E4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562d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FCD3-7473-48D1-8D85-3DC64A848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BB79-84CE-4CA1-BAD4-948DD79D9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562d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2177-8BD3-4730-8E39-CA4B3441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562d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89A8-84BF-410E-9250-AA70F782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2562d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2E24-D8FC-464B-87CC-8661F37E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C66E1-340C-4FC0-AC84-20A2DD35F28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562db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2562db"/>
              </a:solidFill>
              <a:latin typeface="Arial"/>
            </a:endParaRPr>
          </a:p>
        </p:txBody>
      </p:sp>
      <p:graphicFrame>
        <p:nvGraphicFramePr>
          <p:cNvPr id="11" name=""/>
          <p:cNvGraphicFramePr/>
          <p:nvPr/>
        </p:nvGraphicFramePr>
        <p:xfrm>
          <a:off x="179280" y="476280"/>
          <a:ext cx="1152720" cy="779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476280"/>
                    <a:ext cx="115272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51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3C835-9F7D-4391-9BC7-649339376DB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562d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562db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79280" y="260280"/>
          <a:ext cx="1152720" cy="779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260280"/>
                    <a:ext cx="115272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6666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66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Tidal power"/>
          <p:cNvPicPr/>
          <p:nvPr/>
        </p:nvPicPr>
        <p:blipFill>
          <a:blip r:embed="rId1"/>
          <a:stretch/>
        </p:blipFill>
        <p:spPr>
          <a:xfrm>
            <a:off x="0" y="3141720"/>
            <a:ext cx="9144000" cy="3716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4221000"/>
            <a:ext cx="9144000" cy="1303560"/>
          </a:xfrm>
          <a:prstGeom prst="rect">
            <a:avLst/>
          </a:prstGeom>
          <a:solidFill>
            <a:srgbClr val="f2f5d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700" spc="-1" strike="noStrike">
                <a:solidFill>
                  <a:srgbClr val="0000ff"/>
                </a:solidFill>
                <a:latin typeface="Arial"/>
              </a:rPr>
              <a:t>European Commission - </a:t>
            </a:r>
            <a:r>
              <a:rPr b="1" lang="en-GB" sz="1700" spc="-1" strike="noStrike">
                <a:solidFill>
                  <a:srgbClr val="0000ff"/>
                </a:solidFill>
                <a:latin typeface="Arial"/>
              </a:rPr>
              <a:t>DG Environment</a:t>
            </a:r>
            <a:r>
              <a:rPr b="1" lang="fr-BE" sz="17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9900"/>
                </a:solidFill>
                <a:latin typeface="Arial"/>
              </a:rPr>
              <a:t>Jon P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ff"/>
                </a:solidFill>
                <a:latin typeface="Arial"/>
              </a:rPr>
              <a:t>Unit D.3 Cohesion and environmental impact assessmen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170028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c0ff"/>
                </a:solidFill>
                <a:latin typeface="Arial"/>
              </a:rPr>
              <a:t>ICZM in Europe</a:t>
            </a:r>
            <a:endParaRPr b="0" lang="en-US" sz="4000" spc="-1" strike="noStrike">
              <a:solidFill>
                <a:srgbClr val="2562db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6360" y="1557360"/>
            <a:ext cx="9144000" cy="53006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05360" cy="69246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427640" y="1052640"/>
            <a:ext cx="453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c0ff"/>
                </a:solidFill>
                <a:latin typeface="Arial"/>
              </a:rPr>
              <a:t>2007 renewed focus on integration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59280" y="2349360"/>
            <a:ext cx="4284720" cy="45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U Maritime Policy « Blue Paper », October 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ffff"/>
                </a:solidFill>
                <a:latin typeface="Arial"/>
              </a:rPr>
              <a:t>holistic approach to policy</a:t>
            </a:r>
            <a:br>
              <a:rPr sz="2000"/>
            </a:br>
            <a:r>
              <a:rPr b="1" lang="en-GB" sz="2000" spc="-1" strike="noStrike">
                <a:solidFill>
                  <a:srgbClr val="00ffff"/>
                </a:solidFill>
                <a:latin typeface="Arial"/>
              </a:rPr>
              <a:t>  making and implemen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ffff"/>
                </a:solidFill>
                <a:latin typeface="Arial"/>
              </a:rPr>
              <a:t>good govern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ffff"/>
                </a:solidFill>
                <a:latin typeface="Arial"/>
              </a:rPr>
              <a:t>knowledge based approa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ffff"/>
                </a:solidFill>
                <a:latin typeface="Arial"/>
              </a:rPr>
              <a:t>integration across land-sea</a:t>
            </a:r>
            <a:br>
              <a:rPr sz="1800"/>
            </a:br>
            <a:r>
              <a:rPr b="1" lang="en-GB" sz="1800" spc="-1" strike="noStrike">
                <a:solidFill>
                  <a:srgbClr val="00ffff"/>
                </a:solidFill>
                <a:latin typeface="Arial"/>
              </a:rPr>
              <a:t>  boundary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ffff"/>
                </a:solidFill>
                <a:latin typeface="Arial"/>
              </a:rPr>
              <a:t>“</a:t>
            </a:r>
            <a:r>
              <a:rPr b="1" lang="en-GB" sz="2000" spc="-1" strike="noStrike">
                <a:solidFill>
                  <a:srgbClr val="00ffff"/>
                </a:solidFill>
                <a:latin typeface="Arial"/>
              </a:rPr>
              <a:t>Coasts” are integral part of</a:t>
            </a:r>
            <a:br>
              <a:rPr sz="2000"/>
            </a:br>
            <a:r>
              <a:rPr b="1" lang="en-GB" sz="2000" spc="-1" strike="noStrike">
                <a:solidFill>
                  <a:srgbClr val="00ffff"/>
                </a:solidFill>
                <a:latin typeface="Arial"/>
              </a:rPr>
              <a:t>  Maritime Poli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ffff"/>
                </a:solidFill>
                <a:latin typeface="Arial"/>
              </a:rPr>
              <a:t>Same rationale underlying EU </a:t>
            </a:r>
            <a:br>
              <a:rPr sz="2000"/>
            </a:br>
            <a:r>
              <a:rPr b="1" lang="en-GB" sz="2000" spc="-1" strike="noStrike">
                <a:solidFill>
                  <a:srgbClr val="00ffff"/>
                </a:solidFill>
                <a:latin typeface="Arial"/>
              </a:rPr>
              <a:t>  ICZM Recommendation of 200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9280" y="1676160"/>
            <a:ext cx="4489560" cy="4724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2960" indent="-372960"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Arial"/>
              </a:rPr>
              <a:t>Good outturn (14/20 Member States; 70% coastlin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Arial"/>
              </a:rPr>
              <a:t>Progress 2000-2005; but mature ICZM still rarely ob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Arial"/>
              </a:rPr>
              <a:t>Reports show varying scope and nature of 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c0ff"/>
                </a:solidFill>
                <a:latin typeface="Arial"/>
              </a:rPr>
              <a:t>Evaluation of the EU ICZM </a:t>
            </a:r>
            <a:br>
              <a:rPr sz="3200"/>
            </a:br>
            <a:r>
              <a:rPr b="1" lang="en-US" sz="3200" spc="-1" strike="noStrike">
                <a:solidFill>
                  <a:srgbClr val="63c0ff"/>
                </a:solidFill>
                <a:latin typeface="Arial"/>
              </a:rPr>
              <a:t>Recommendation</a:t>
            </a:r>
            <a:endParaRPr b="0" lang="en-US" sz="3200" spc="-1" strike="noStrike">
              <a:solidFill>
                <a:srgbClr val="2562db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05520" y="1676520"/>
            <a:ext cx="3733560" cy="4724280"/>
          </a:xfrm>
          <a:prstGeom prst="rect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72960" indent="-372960">
              <a:spcBef>
                <a:spcPts val="601"/>
              </a:spcBef>
              <a:buClr>
                <a:srgbClr val="66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rther support to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spcBef>
                <a:spcPts val="601"/>
              </a:spcBef>
              <a:buClr>
                <a:srgbClr val="66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spcBef>
                <a:spcPts val="601"/>
              </a:spcBef>
              <a:buClr>
                <a:srgbClr val="66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need for a new or different instru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spcBef>
                <a:spcPts val="601"/>
              </a:spcBef>
              <a:buClr>
                <a:srgbClr val="66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spcBef>
                <a:spcPts val="624"/>
              </a:spcBef>
              <a:buClr>
                <a:srgbClr val="66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roach and Principles of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EU ICZM Recommendation remain valid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9280" y="1676160"/>
            <a:ext cx="4489560" cy="4724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2960" indent="-372960"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Arial"/>
              </a:rPr>
              <a:t>Lack of common understanding of principles of ICZ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Arial"/>
              </a:rPr>
              <a:t>Knowledge basis – use and sharing of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Arial"/>
              </a:rPr>
              <a:t>Continued need for coherent EU policies/legis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c0ff"/>
                </a:solidFill>
                <a:latin typeface="Arial"/>
              </a:rPr>
              <a:t>Evaluation of the EU ICZM </a:t>
            </a:r>
            <a:br>
              <a:rPr sz="3200"/>
            </a:br>
            <a:r>
              <a:rPr b="1" lang="en-US" sz="3200" spc="-1" strike="noStrike">
                <a:solidFill>
                  <a:srgbClr val="63c0ff"/>
                </a:solidFill>
                <a:latin typeface="Arial"/>
              </a:rPr>
              <a:t>Recommendation</a:t>
            </a:r>
            <a:endParaRPr b="0" lang="en-US" sz="3200" spc="-1" strike="noStrike">
              <a:solidFill>
                <a:srgbClr val="2562db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105520" y="1676520"/>
            <a:ext cx="3733560" cy="4724280"/>
          </a:xfrm>
          <a:prstGeom prst="rect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72960" indent="-37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spcBef>
                <a:spcPts val="601"/>
              </a:spcBef>
              <a:buClr>
                <a:srgbClr val="66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systematic comparative analysis and experience ex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spcBef>
                <a:spcPts val="601"/>
              </a:spcBef>
              <a:buClr>
                <a:srgbClr val="66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engthening the knowledge basis and use of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spcBef>
                <a:spcPts val="601"/>
              </a:spcBef>
              <a:buClr>
                <a:srgbClr val="66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itime Policy offers platform for coherence of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04480" y="333360"/>
            <a:ext cx="66358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3c0ff"/>
                </a:solidFill>
                <a:latin typeface="Arial"/>
              </a:rPr>
              <a:t>Priority themes for EU ICZM</a:t>
            </a:r>
            <a:endParaRPr b="0" lang="en-US" sz="3000" spc="-1" strike="noStrike">
              <a:solidFill>
                <a:srgbClr val="2562db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Adaptation to coastal risks and the impacts of climate change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Keys: preventative, multi-risk approach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   long-term/cross-sector approach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   integration between prevention and response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Cooperation in regional seas context, including marine spatial plan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uild on new Marine Strategy Directive and ICZM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existing regional seas struct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04480" y="333360"/>
            <a:ext cx="66358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3c0ff"/>
                </a:solidFill>
                <a:latin typeface="Arial"/>
              </a:rPr>
              <a:t>Outlook for implementation</a:t>
            </a:r>
            <a:endParaRPr b="0" lang="en-US" sz="3000" spc="-1" strike="noStrike">
              <a:solidFill>
                <a:srgbClr val="2562db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nstreaming of ICZM and Maritime Poli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ue Paper” and action plan proposed by the Commission (October 200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75"/>
              </a:spcBef>
              <a:buClr>
                <a:srgbClr val="66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Guidance for national maritime polici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75"/>
              </a:spcBef>
              <a:buClr>
                <a:srgbClr val="66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llective learning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75"/>
              </a:spcBef>
              <a:buClr>
                <a:srgbClr val="66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takeholder consultation structures and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 networking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75"/>
              </a:spcBef>
              <a:buClr>
                <a:srgbClr val="66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esearch strateg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75"/>
              </a:spcBef>
              <a:buClr>
                <a:srgbClr val="66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! Data and information (EMODNET, Atlas of the seas ...)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04480" y="333360"/>
            <a:ext cx="66358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3c0ff"/>
                </a:solidFill>
                <a:latin typeface="Arial"/>
              </a:rPr>
              <a:t>Outlook for implementation</a:t>
            </a:r>
            <a:endParaRPr b="0" lang="en-US" sz="3000" spc="-1" strike="noStrike">
              <a:solidFill>
                <a:srgbClr val="2562db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9528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66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daptation to coastal risks and the impacts of climate change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White paper on Adaptation to Climate Change (autumn 2008)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Community Disaster Prevention Strategy (end 2008)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 - Study on adaptation and coastal defence costs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Coastal erosion : CONSC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buClr>
                <a:srgbClr val="66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operation in regional seas context, including marine spatial plan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rine Strategy Directive, EU ICZM Recommendation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Roadmap and preparatory study, exchange of best-practice</a:t>
            </a:r>
            <a:br>
              <a:rPr sz="20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Mediterranean: Protocol ICZ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Cohesion policy: trans-national cooperation programmes;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“Territorial Cohesion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c0ff"/>
                </a:solidFill>
                <a:latin typeface="Arial"/>
              </a:rPr>
              <a:t>Integrated Coastal Zone </a:t>
            </a:r>
            <a:br>
              <a:rPr sz="3200"/>
            </a:br>
            <a:r>
              <a:rPr b="1" lang="en-US" sz="3200" spc="-1" strike="noStrike">
                <a:solidFill>
                  <a:srgbClr val="63c0ff"/>
                </a:solidFill>
                <a:latin typeface="Arial"/>
              </a:rPr>
              <a:t>Management – Marine</a:t>
            </a:r>
            <a:br>
              <a:rPr sz="3200"/>
            </a:br>
            <a:r>
              <a:rPr b="1" lang="en-US" sz="3200" spc="-1" strike="noStrike">
                <a:solidFill>
                  <a:srgbClr val="63c0ff"/>
                </a:solidFill>
                <a:latin typeface="Arial"/>
              </a:rPr>
              <a:t>Spatial Planning</a:t>
            </a:r>
            <a:br>
              <a:rPr sz="2800"/>
            </a:br>
            <a:endParaRPr b="0" lang="en-US" sz="3200" spc="-1" strike="noStrike">
              <a:solidFill>
                <a:srgbClr val="2562db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424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Key Challenges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3880" indent="-353880">
              <a:lnSpc>
                <a:spcPct val="9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  <a:ea typeface="Arial"/>
              </a:rPr>
              <a:t>Strategic, objective l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235160" indent="-514440">
              <a:lnSpc>
                <a:spcPct val="90000"/>
              </a:lnSpc>
              <a:spcBef>
                <a:spcPts val="575"/>
              </a:spcBef>
              <a:buClr>
                <a:srgbClr val="6666ff"/>
              </a:buClr>
              <a:buSzPct val="7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ffff"/>
                </a:solidFill>
                <a:latin typeface="Arial"/>
                <a:ea typeface="Arial"/>
              </a:rPr>
              <a:t>Shared management of common sea-space (multi-use, instead of mere zoning approach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235160" indent="-514440">
              <a:lnSpc>
                <a:spcPct val="90000"/>
              </a:lnSpc>
              <a:spcBef>
                <a:spcPts val="575"/>
              </a:spcBef>
              <a:buClr>
                <a:srgbClr val="6666ff"/>
              </a:buClr>
              <a:buSzPct val="7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ffff"/>
                </a:solidFill>
                <a:latin typeface="Arial"/>
                <a:ea typeface="Arial"/>
              </a:rPr>
              <a:t>Innovation, research to promote more efficient use of space and to make uses mutually compatible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235160" indent="-514440">
              <a:lnSpc>
                <a:spcPct val="90000"/>
              </a:lnSpc>
              <a:spcBef>
                <a:spcPts val="575"/>
              </a:spcBef>
              <a:buClr>
                <a:srgbClr val="6666ff"/>
              </a:buClr>
              <a:buSzPct val="7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ffff"/>
                </a:solidFill>
                <a:latin typeface="Arial"/>
                <a:ea typeface="Arial"/>
              </a:rPr>
              <a:t>Efforts and costs of planning process need to be paid back in clear benefits to stakeholders (e.g. reduction of regulatory burden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53880" indent="-353880">
              <a:lnSpc>
                <a:spcPct val="9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  <a:ea typeface="Arial"/>
              </a:rPr>
              <a:t>Implementation : mix of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  <a:ea typeface="Arial"/>
              </a:rPr>
              <a:t>  “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  <a:ea typeface="Arial"/>
              </a:rPr>
              <a:t>a plan is only as good as its implementation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c0ff"/>
                </a:solidFill>
                <a:latin typeface="Arial"/>
              </a:rPr>
              <a:t>Integrated Coastal Zone </a:t>
            </a:r>
            <a:br>
              <a:rPr sz="3200"/>
            </a:br>
            <a:r>
              <a:rPr b="1" lang="en-US" sz="3200" spc="-1" strike="noStrike">
                <a:solidFill>
                  <a:srgbClr val="63c0ff"/>
                </a:solidFill>
                <a:latin typeface="Arial"/>
              </a:rPr>
              <a:t>Management – Marine</a:t>
            </a:r>
            <a:br>
              <a:rPr sz="3200"/>
            </a:br>
            <a:r>
              <a:rPr b="1" lang="en-US" sz="3200" spc="-1" strike="noStrike">
                <a:solidFill>
                  <a:srgbClr val="63c0ff"/>
                </a:solidFill>
                <a:latin typeface="Arial"/>
              </a:rPr>
              <a:t>Spatial Planning</a:t>
            </a:r>
            <a:br>
              <a:rPr sz="2800"/>
            </a:br>
            <a:endParaRPr b="0" lang="en-US" sz="3200" spc="-1" strike="noStrike">
              <a:solidFill>
                <a:srgbClr val="2562d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280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Key Challenges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3880" indent="-353880">
              <a:lnSpc>
                <a:spcPct val="9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  <a:ea typeface="Arial"/>
              </a:rPr>
              <a:t>Effective nesting of pla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3880" indent="-353880">
              <a:lnSpc>
                <a:spcPct val="9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  <a:ea typeface="Arial"/>
              </a:rPr>
              <a:t>Coherence between </a:t>
            </a:r>
            <a:br>
              <a:rPr sz="2800"/>
            </a:br>
            <a:r>
              <a:rPr b="1" lang="en-US" sz="2800" spc="-1" strike="noStrike">
                <a:solidFill>
                  <a:srgbClr val="00ffff"/>
                </a:solidFill>
                <a:latin typeface="Arial"/>
                <a:ea typeface="Arial"/>
              </a:rPr>
              <a:t>policies-plans/programmes- implementation (project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  <a:ea typeface="Arial"/>
              </a:rPr>
              <a:t>across different scales (regional sea&gt;loc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  <a:ea typeface="Arial"/>
              </a:rPr>
              <a:t>-  Achieve a common understanding (“principles”), to foster effective cross-border strate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0T09:15:41Z</dcterms:created>
  <dc:creator>diazdcr</dc:creator>
  <dc:description/>
  <dc:language>en-US</dc:language>
  <cp:lastModifiedBy>RER</cp:lastModifiedBy>
  <dcterms:modified xsi:type="dcterms:W3CDTF">2008-03-19T16:17:55Z</dcterms:modified>
  <cp:revision>220</cp:revision>
  <dc:subject/>
  <dc:title>EU Marine Strate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363618598</vt:r8>
  </property>
  <property fmtid="{D5CDD505-2E9C-101B-9397-08002B2CF9AE}" pid="3" name="_AuthorEmail">
    <vt:lpwstr>Birgit.Snoeren@ec.europa.eu</vt:lpwstr>
  </property>
  <property fmtid="{D5CDD505-2E9C-101B-9397-08002B2CF9AE}" pid="4" name="_AuthorEmailDisplayName">
    <vt:lpwstr>SNOEREN Birgitte (ENV)</vt:lpwstr>
  </property>
  <property fmtid="{D5CDD505-2E9C-101B-9397-08002B2CF9AE}" pid="5" name="_EmailSubject">
    <vt:lpwstr>International PlanCoast Conference</vt:lpwstr>
  </property>
  <property fmtid="{D5CDD505-2E9C-101B-9397-08002B2CF9AE}" pid="6" name="_NewReviewCycle">
    <vt:lpwstr/>
  </property>
  <property fmtid="{D5CDD505-2E9C-101B-9397-08002B2CF9AE}" pid="7" name="_PreviousAdHocReviewCycleID">
    <vt:r8>915826845</vt:r8>
  </property>
  <property fmtid="{D5CDD505-2E9C-101B-9397-08002B2CF9AE}" pid="8" name="_ReviewingToolsShownOnce">
    <vt:lpwstr/>
  </property>
</Properties>
</file>