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2d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AF37-295E-4274-9D01-5E7649DE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378-A5C0-4D78-BC75-B705F913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456-6F1C-461A-85BF-D761987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F83-1A1A-4696-9E2D-991F80F2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876-DB78-4DC3-9B43-A5F792E1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679-E1FA-4651-8A67-B7FAB82C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FE5-32C4-487A-8CAE-6DA23BB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5D07-EA81-49B5-849D-387C284E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ECD-EA3E-439D-BD9E-6B8CFF8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5A38-1FE6-4EEB-9051-BEEB447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4694-1C6A-46DF-B5BE-88541E9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742-8ECD-4AEB-8807-574EF4A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078-F52C-4747-8E1F-DC94059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0E5-3912-48F7-8CA6-B3DC5A24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875D-D16A-46EB-A99D-DFCCD69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4C88-1EE8-477E-A9DC-D59CCE94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87C-C947-48BE-B038-3D07B052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D35-48A8-4205-85CD-BD5DE560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312-6659-4074-B936-952C15C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770-350B-419E-9BFB-B103BB9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C69-B25F-40C9-9485-5F668C5A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4A9-6BE8-4F7F-9CE5-ABD9705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C32-D880-49EC-BA0F-F63D1E4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328-8DB3-4B5E-A62B-43FC6F1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F99-FDEF-43F5-9C86-D0829B7B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A65-C1E9-4631-9675-CE44EADCD0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562d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179280" y="476280"/>
          <a:ext cx="1152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1152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41B-FC34-4810-87AD-C59870B46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2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1152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1152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idal power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4221000"/>
            <a:ext cx="9144000" cy="1303560"/>
          </a:xfrm>
          <a:prstGeom prst="rect">
            <a:avLst/>
          </a:prstGeom>
          <a:solidFill>
            <a:srgbClr val="f2f5d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0000ff"/>
                </a:solidFill>
                <a:latin typeface="Arial"/>
              </a:rPr>
              <a:t>European Commission - </a:t>
            </a: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DG Environment</a:t>
            </a:r>
            <a:r>
              <a:rPr b="1" lang="fr-BE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Jon P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Unit D.3 Cohesion and environmental impact assess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c0ff"/>
                </a:solidFill>
                <a:latin typeface="Arial"/>
              </a:rPr>
              <a:t>ICZM in Europe</a:t>
            </a:r>
            <a:endParaRPr b="0" lang="en-US" sz="4000" spc="-1" strike="noStrike">
              <a:solidFill>
                <a:srgbClr val="2562d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6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5360" cy="6924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27640" y="1052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2007 renewed focus on integr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2349360"/>
            <a:ext cx="428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 Maritime Policy « Blue Paper », October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holistic approach to policy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making and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good gover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knowledge based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integration across land-sea</a:t>
            </a:r>
            <a:br>
              <a:rPr sz="1800"/>
            </a:b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  bounda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Coasts” are integral part of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Maritime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Same rationale underlying EU 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ICZM Recommendation of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676160"/>
            <a:ext cx="4489560" cy="472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Good outturn (14/20 Member States; 70% coast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Progress 2000-2005; but mature ICZM still rarely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eports show varying scope and nature of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Evaluation of the EU ICZM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676520"/>
            <a:ext cx="3733560" cy="4724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suppor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ed for a new or different instr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24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ach and Principles of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U ICZM Recommendation remain val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76160"/>
            <a:ext cx="4489560" cy="472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Lack of common understanding of principles of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Knowledge basis – use and sharing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Continued need for coherent EU policies/legis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Evaluation of the EU ICZM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676520"/>
            <a:ext cx="3733560" cy="4724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2960" indent="-37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ystematic comparative analysis and experience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ing the knowledge basis and use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Policy offers platform for coherence of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Priority themes for EU ICZM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Adaptation to coastal risks and the impacts of climate chang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s: preventative, multi-risk approach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long-term/cross-sector approach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integration between prevention and respons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ooperation in regional seas context, including marine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ild on new Marine Strategy Directive and ICZM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existing regional seas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Outlook for implementation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streaming of ICZM and Maritime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Paper” and action plan proposed by the Commission (October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uidance for national maritime poli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llective lea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keholder consultation structures and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networ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earch strateg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! Data and information (EMODNET, Atlas of the seas ...)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Outlook for implementation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aptation to coastal risks and the impacts of climate chang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White paper on Adaptation to Climate Change (autumn 2008)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mmunity Disaster Prevention Strategy (end 2008)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- Study on adaptation and coastal defence cost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astal erosion : CON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in regional seas context, including marine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ine Strategy Directive, EU ICZM Recommendatio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Roadmap and preparatory study, exchange of best-practice</a:t>
            </a:r>
            <a:br>
              <a:rPr sz="20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editerranean: Protocol ICZ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hesion policy: trans-national cooperation programmes;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“Territorial Cohes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Integrated Coastal Zone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Management – Marine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Spatial Planning</a:t>
            </a:r>
            <a:br>
              <a:rPr sz="2800"/>
            </a:b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Challenges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Strategic, objective l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Shared management of common sea-space (multi-use, instead of mere zoning approach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Innovation, research to promote more efficient use of space and to make uses mutually compati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Efforts and costs of planning process need to be paid back in clear benefits to stakeholders (e.g. reduction of regulatory burde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Implementation : mix of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 “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a plan is only as good as its implement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Integrated Coastal Zone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Management – Marine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Spatial Planning</a:t>
            </a:r>
            <a:br>
              <a:rPr sz="2800"/>
            </a:b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Challenges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Effective nesting of pl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Coherence between 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olicies-plans/programmes- implementation (project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across different scales (regional sea&gt;loc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-  Achieve a common understanding (“principles”), to foster effective cross-border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9:15:41Z</dcterms:created>
  <dc:creator>diazdcr</dc:creator>
  <dc:description/>
  <dc:language>en-US</dc:language>
  <cp:lastModifiedBy>RER</cp:lastModifiedBy>
  <dcterms:modified xsi:type="dcterms:W3CDTF">2008-03-19T16:17:55Z</dcterms:modified>
  <cp:revision>220</cp:revision>
  <dc:subject/>
  <dc:title>EU Marine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3618598</vt:r8>
  </property>
  <property fmtid="{D5CDD505-2E9C-101B-9397-08002B2CF9AE}" pid="3" name="_AuthorEmail">
    <vt:lpwstr>Birgit.Snoeren@ec.europa.eu</vt:lpwstr>
  </property>
  <property fmtid="{D5CDD505-2E9C-101B-9397-08002B2CF9AE}" pid="4" name="_AuthorEmailDisplayName">
    <vt:lpwstr>SNOEREN Birgitte (ENV)</vt:lpwstr>
  </property>
  <property fmtid="{D5CDD505-2E9C-101B-9397-08002B2CF9AE}" pid="5" name="_EmailSubject">
    <vt:lpwstr>International PlanCoast Conference</vt:lpwstr>
  </property>
  <property fmtid="{D5CDD505-2E9C-101B-9397-08002B2CF9AE}" pid="6" name="_NewReviewCycle">
    <vt:lpwstr/>
  </property>
  <property fmtid="{D5CDD505-2E9C-101B-9397-08002B2CF9AE}" pid="7" name="_PreviousAdHocReviewCycleID">
    <vt:r8>915826845</vt:r8>
  </property>
  <property fmtid="{D5CDD505-2E9C-101B-9397-08002B2CF9AE}" pid="8" name="_ReviewingToolsShownOnce">
    <vt:lpwstr/>
  </property>
</Properties>
</file>