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632-7BE5-41D9-816C-602B0FAF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84B-DA38-4481-90CC-B231F852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7D1-CFA1-4173-9415-F0EFA32D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3EA-EC28-42B2-B698-6D8EA876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D11-4DBF-408F-A4DE-5BB4F779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588-9D75-4ED4-9A72-6C6243BC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D56-B037-4395-944E-CAD2C28B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BDB-439E-4E1E-ACDE-A2E4B61A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8D8-6FED-484D-875D-EA4A5566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63B-07B8-4716-A7E9-8750EB10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B8E-C254-4A38-9EA9-951AC4F0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FDC-B73A-4832-A8EA-A024EE97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BFBB-7C0C-423B-8871-DEF6C538B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LE A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PONSIBILITIES OF THE NATIONAL COMMITTEE OF THE COASTAL ZON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D ITS PERMANENT TECHNICAL SECRETARIAT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ory and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bsidiary bodies of NCCZ consist of 6 Working Groups (WG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1: WG for delineation of the coastal zone, urbanism and spatial pl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2: WG for prevention of damages of the coastal zone due to coastal erosion, land slides and other accid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3: WG for preparing technical and legal documents for the coastal ar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4: WG for establishing policies, strategies and action plans needed for integrated management of the coastal z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5: WG for integrated environment monitoring and surveillance of activities in the coastal z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6: WG for information and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NCCZ Reg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vities of NCCZ are achieved in working meeting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etings are organized at least once a ye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tutory meeting needs the presence of 2/3 representatives of NCC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nue and agenda of the meeting should be notified 10 days before by P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should be adopted by simple majority of participa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utes of each meeting should be elaborated and transmitted to the NCCZ members within 30 days, by the 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CCZ in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ings now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every month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many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dure for which projects need advice is unclear: too many (small/irrelevant to ICZM) projects are discus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dure for timing of advice from NCCZ unclear: before or after carrying out EIA and/or approval from local author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fficult to gather 2/3 of representatives (46 persons/40 organisations). Therefore often delays of meetings, resulting in pressure from project ow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TS and WGs in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 budget for PTS / WGs: all work done on ‘voluntary’ basis by NIMRD and DAD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w only 2 WGs established. Procedures unclear: officially members of NCCZ are members of WG, while specific experts are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TS only administrative role, wishes a more technical supportive role as w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ventory of tasks of NCCZ: Existing law requires elaboration of &gt;40 tasks resulting in legal-technical documents by various govt. institutions. WGs and PTS to prepare draf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 arch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129528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143000" y="175248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2438280" y="220968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stions to ICPD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naging internal working process (from working plan to concrete 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pert Groups; who is in it, working methods, interaction with TS and other bodies, financial basis (meetings and activ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chnical Secretariat: administrative vs. technical tasks i.r.t. exper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flection on problems of NCCZ: do you have similar (past) experience and advice on priority ste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ZM leg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ency Ordinance No. 202/20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arding coastal zone management (under modify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Decision No.1015/20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rding the Regulations of the National Committee of the Coastal Z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Decision No.749/20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pulates the responsibilities, criteria and the delineation manner of the land stripe close to the coastal zone to preserve the environment, patrimonial and landscape values close to the sho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Decision No.5467/20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rding the approval of the methodology for delineation of public state domain in the coastal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ed Coastal Zone Management in 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ia is the only Black Sea country having special legal and institutional framework for ICZ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tion with the Black Sea Commission is provided through the ICZM Advisor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CZM process in Romania facilitates the implementation of the EC ICZM Recommendation, WFD and other water related Dir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for ensuring sustainable development in the Coastal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ICZM strategy (and other documents) are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70% of the Romanian coastline has a protected status (Danube delta biosphere reserve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ZM institution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Committee of the Coastal Zone (NCCZ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Technical Secretariat of the National Committee of the Coastal Zone (PT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atic Working Groups (WG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ordination of ICZM process and NCCZ is provided by Ministry of Environment and Sustainable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atives in the National Committee of the Coastal 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722600"/>
            <a:ext cx="883908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ogea – Littoral Basin Committe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Environment and Sustainable Development (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Transport, Buildings and Tourism (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Economy and Tr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Cul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Health (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Agriculture, Forests and Rural Development (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National Defense (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Internal Affairs (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ry of Education and Resear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za County Prefec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2120" y="533520"/>
            <a:ext cx="8952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 Tulcea County Prefectur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Constantza County Council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Tulcea County Council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Constantza Environment Protection Agenc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 Tulcea Environment Protection Agenc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National Institute for Marine Research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gore Antipa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 National Administration Romanian Waters - Dobrogea Litt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Director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 Romanian Academ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. Danube Delta Biosphere Reserve Administr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City Halls of localities located along the coastal z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GO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otal, there are 40 organizations represented in NCC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46 represent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responsibilities of NC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ing the plans regarding integrated coastal zone management and local and regional spatial plan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ing the studies regarding environment impact of activities having an important impact in the coastal zone as well as the environment audit for the existing o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ing the projects regarding establishing of natural parks and reser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CZ through PTS, is empowered to inform the competent organizations about critical situations in the coastal zone which need rehabilitation actions and initiating of specific pro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le of Ministry of Environment and Sustainable Developm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s the NCCZ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s the Permanent Technical Secretariat (PTS) of NCCZ through the National Institute for Marine Research and Development “Grigore Antipa” Constantza (NIMRD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echnical points of view on projects discussed by NCCZ through Dobrogea Littoral Water Directorate (DADL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esponsibilities of Permanent Technical Secretari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documentation for NCCZ / WG deba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e NCCZ meetings, public debates and other related activi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correspondence regarding NCCZ current activity, according to adopted decis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sues (responding to interested persons about any problem regarding NCCZ tasks, except the ones upon NCCZ has not adopted any decision ye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 reports/ minutes from NCCZ/WG meetings and public deba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ing the NCCZ yearly working program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tterwegT</cp:lastModifiedBy>
  <dcterms:modified xsi:type="dcterms:W3CDTF">2007-05-02T12:45:01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