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5B2-1B41-4419-9B0F-C8F4F43D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81A-323F-49C6-920B-AFAED5CD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CAC-883A-4E5C-8F0B-F175EE29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A88-A3C7-4DF2-B20E-A02FD1DC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F43-BCA1-4F71-9937-260F9991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7B5-8028-4001-B113-329FB5FD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31D-C55F-4AA0-A251-CDD1FB66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CA7-8A54-43B5-A63D-E1EC889D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710-E35D-4BD1-94C9-8DCFDE8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94A-CE79-465C-A1CE-C0A34BE4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C92-DF97-4E68-A965-4F4D2F6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A33-149F-4258-9B54-A1BC1E95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727B-1242-4815-91DE-ABAD2E546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LE A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PONSIBILITIES OF THE NATIONAL COMMITTEE OF THE COASTAL ZON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 ITS PERMANENT TECHNICAL SECRETARIAT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ory an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bsidiary bodies of NCCZ consist of 6 Working Groups (WG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1: WG for delineation of the coastal zone, urbanism and spatial 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2: WG for prevention of damages of the coastal zone due to coastal erosion, land slides and other accid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3: WG for preparing technical and legal documents for the coastal a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4: WG for establishing policies, strategies and action plans needed for integrated management of the coastal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5: WG for integrated environment monitoring and surveillance of activities in the coastal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6: WG for information and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NCCZ Reg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vities of NCCZ are achieved in working meeting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etings are organized at least once a y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utory meeting needs the presence of 2/3 representatives of NCC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nue and agenda of the meeting should be notified 10 days before by P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hould be adopted by simple majority of particip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utes of each meeting should be elaborated and transmitted to the NCCZ members within 30 days, by the 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CCZ in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ings now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every month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man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for which projects need advice is unclear: too many (small/irrelevant to ICZM) projects are discus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for timing of advice from NCCZ unclear: before or after carrying out EIA and/or approval from local author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ficult to gather 2/3 of representatives (46 persons/40 organisations). Therefore often delays of meetings, resulting in pressure from project ow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TS and WGs in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 budget for PTS / WGs: all work done on ‘voluntary’ basis by NIMRD and DAD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w only 2 WGs established. Procedures unclear: officially members of NCCZ are members of WG, while specific experts are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TS only administrative role, wishes a more technical supportive role as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ventory of tasks of NCCZ: Existing law requires elaboration of &gt;40 tasks resulting in legal-technical documents by various govt. institutions. WGs and PTS to prepare draf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129528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143000" y="175248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2438280" y="220968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stions to ICPD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naging internal working process (from working plan to concrete 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pert Groups; who is in it, working methods, interaction with TS and other bodies, financial basis (meetings and 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chnical Secretariat: administrative vs. technical tasks i.r.t. exper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flection on problems of NCCZ: do you have similar (past) experience and advice on priority ste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ZM leg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Ordinance No. 202/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arding coastal zone management (under modify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Decision No.1015/20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ing the Regulations of the National Committee of the Coastal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Decision No.749/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pulates the responsibilities, criteria and the delineation manner of the land stripe close to the coastal zone to preserve the environment, patrimonial and landscape values close to the sho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Decision No.5467/20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ing the approval of the methodology for delineation of public state domain in the coastal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ed Coastal Zone Management in 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ia is the only Black Sea country having special legal and institutional framework for ICZ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on with the Black Sea Commission is provided through the ICZM Advisor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CZM process in Romania facilitates the implementation of the EC ICZM Recommendation, WFD and other water related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for ensuring sustainable development in the Coastal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ICZM strategy (and other documents) are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70% of the Romanian coastline has a protected status (Danube delta biosphere reserv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ZM institu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Committee of the Coastal Zone (NCCZ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Technical Secretariat of the National Committee of the Coastal Zone (PT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atic Working Groups (W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ordination of ICZM process and NCCZ is provided by Ministry of Environment and Sustainable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ves in the National Committee of the Coastal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722600"/>
            <a:ext cx="883908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ogea – Littoral Basin Committe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Environment and Sustainable Development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Transport, Buildings and Tourism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Economy and Tr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Cul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Health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Agriculture, Forests and Rural Development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National Defense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Internal Affairs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Education and Resear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za County Prefec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120" y="533520"/>
            <a:ext cx="8952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Tulcea County Prefectur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Constantza County Council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Tulcea County Council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Constantza Environment Protection Agen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Tulcea Environment Protection Agen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National Institute for Marine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gore Antipa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National Administration Romanian Waters - Dobrogea Litt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Director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Romanian Academ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 Danube Delta Biosphere Reserve Administr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City Halls of localities located along the coastal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GO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otal, there are 40 organizations represented in NCC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46 represent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responsibilities of NC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ing the plans regarding integrated coastal zone management and local and regional spatial plan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ing the studies regarding environment impact of activities having an important impact in the coastal zone as well as the environment audit for the existing o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ing the projects regarding establishing of natural parks and reser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CZ through PTS, is empowered to inform the competent organizations about critical situations in the coastal zone which need rehabilitation actions and initiating of specific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le of Ministry of Environment and Sustainable Develop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 the NCC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s the Permanent Technical Secretariat (PTS) of NCCZ through the National Institute for Marine Research and Development “Grigore Antipa” Constantza (NIMR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echnical points of view on projects discussed by NCCZ through Dobrogea Littoral Water Directorate (DADL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esponsibilities of Permanent Technical Secretari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documentation for NCCZ / WG deba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e NCCZ meetings, public debates and other related activ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correspondence regarding NCCZ current activity, according to adopted decis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sues (responding to interested persons about any problem regarding NCCZ tasks, except the ones upon NCCZ has not adopted any decision ye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 reports/ minutes from NCCZ/WG meetings and public deba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ing the NCCZ yearly working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tterwegT</cp:lastModifiedBy>
  <dcterms:modified xsi:type="dcterms:W3CDTF">2007-05-02T12:45:0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