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A93F-91E4-4242-BFBE-E3ECB2AEE4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BF1D-94A2-4689-B6B4-67E2736987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4C73-7A91-465D-9A12-E9A0509F59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BA40-4779-4236-B413-4E48E8B897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EA90-B747-4AB7-9026-F91DCC3FE2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60FA-8572-43E9-8666-12A5A680F5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ACA2-BEEA-4BF6-8EB5-BE1DF9164C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1F5D-247B-4B14-BE3B-8B51CC27FE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725-BB92-45A0-9954-96E650C1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E4C-7608-4EA3-B041-8499419F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6DDF0-5437-46E0-877D-35E17F56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5576E-F705-4A3E-BA9D-6DDADA2B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7D3DC-03AC-49FD-8D8D-2638B3F6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E98CA-A449-44A6-BB61-630DBB6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708FF-F78A-4734-9D7B-B351856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F9A5B-B2CC-4E59-8560-6B100FD0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E3470-C0B2-44A0-920F-A3F5EA8C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8E597-B8F5-4720-8178-954460CF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0C0F8-C6DE-4159-B2F9-0291F969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D5FCB-9368-47F0-B115-FEF068CA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F91-E318-4BA1-B819-CFAA7DA4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FCB85-AF17-4821-8BA7-30F6507A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DD24E-7AB9-440B-B32A-AD86A874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35859-70E8-4249-9CF0-33D69A3D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868A0-C47B-4D4F-8FF8-71FA72B4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3DC8E-C672-4A87-B3BE-A7E6A2C9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7FC02-B1BA-4A37-921B-1EA44F5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38279-BA7A-435E-A53D-93B4A743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2F3EF-8F1C-4734-BA08-DACA94E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4E038-2538-4979-B1A5-05852A50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3D5ED-1C5F-4648-8F7B-DA51ED2D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15C-0870-4805-B79D-D604CA81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95B72-5137-4473-85D9-AB48747D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DEA7D-B65B-4B41-AE9E-AE358238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8F1A4-0631-49CA-AE06-D79A80C7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478B-DFE6-47AF-A946-FB1663B1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E0831-79BA-488C-887F-804739AC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20214-DD85-47E8-88F6-E2F4C558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14514-6806-4E6A-A44C-3E34FB3F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1E512-D245-4DD7-AFAD-5197DB8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A9A11-4C8B-4D93-B447-62BE1453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27023-0098-41E1-89DE-33124041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BD99-1F51-4AE2-A8CB-6BD072FC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32443-26D8-4E4E-A3DC-D9BA5DFB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A2FCA-43EF-4D9E-84CB-1345588A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6A3FD-8AE6-4EE3-9417-5F5B0C54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9A0A7-8F54-43AC-8C0D-C9DB370C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86E7C-9E08-496A-B4AD-1A7EFFCD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E5B59-3291-4AE1-AFDC-BD75CA99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49BEC-1F13-4189-A430-2A739C19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94445-F27F-4380-850F-D3714B0C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AED06-8792-4971-B667-BB36A7B4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A04FD-E509-4145-9B3D-E55A55AF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5F8A-362A-42CC-9657-8CF886A3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D2734-D7E4-4B84-B9A2-AC6AC1B1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FBA80-E1B5-444D-AABE-4C9D865E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18A17-D5CB-4284-B665-C4B08DEF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3DE63-4831-4932-B2AB-80EE4961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0E35A-6EB5-415F-BF82-A3D2C9A5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2568-A60C-4FB1-9CBE-087EFD48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B393-30CE-4240-830A-58B07A83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6754-EFA0-4E52-9612-0E202525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6614-4020-46E9-AF68-3F47FA15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5560-4333-4BC4-A10E-73D710CD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EA4-F6C0-49F3-8E10-A8379B10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41F0-E6F0-45C5-9BBE-353CC20F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6547-0C31-4745-B41B-CC9FA50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0913-13CB-4274-88D0-9208FBF9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B6DF-3CF1-4A47-AC83-039BEEF7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5638-88B7-418F-8512-7F60FA9A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6BDC-7CB7-4007-95E0-692295B9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9E02-A802-4E13-A4D5-92330009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B5DA5-BD3B-4B24-816E-9AFD563D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5219-F926-431E-9E05-E6A0C664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DD31-84AC-4FF9-BECF-5383E664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85E-991C-4D86-AB98-A88237B6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1F5D-1B56-45B0-B80C-E485B5D0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8B61-E97D-4E82-8AEE-FE624336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DEE2-2DA0-4D68-943D-A3AB5DF9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F6962-E404-4931-B9E5-84B979ED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DCF75-8E0D-43B3-AA1C-4AD11F5B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4EFD8-EBA3-424A-A633-67C95C19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2BC9-4A7E-4FBB-93A6-F3E85780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69A0-C64E-4838-A014-3D51D64C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F96B1-1A68-4086-9478-AABC15C1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E952-E983-4FFC-AA6C-533DEED2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B8B-F80C-4AD0-A626-02D3A50E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D2446-94B3-469B-BDFE-BB21458F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93B5B-B28B-46B4-98B4-61F1CB2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8611-3EE9-481B-B7B0-E67DC940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4EAE6-832B-4933-B72D-C5111B01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A44AA-F56F-4AD6-B59C-58DCCA66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F68AF-261D-46E8-9DC3-0477000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AAC7-7F3D-4B65-96C1-263E40ED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E398-B947-4B0D-B1C8-6B15EB90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6AB45-E31A-415C-B960-D9D8FA84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0320A-D7A6-4381-A778-6E91F0D3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FE1-230B-40C3-9F98-48605298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84397-BE44-4EFE-89D6-251504DC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7B65C-3373-4AA6-AB6E-E3254BFE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FFC96-2E06-4556-AE8C-7AD0A100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2A091-1128-4EB1-9C8F-9BCB6E62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2941F-E518-4919-9350-ED286197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82447-AE52-4DD2-BD40-30C75DF6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0693D-E226-4F07-8756-F3F0EBE1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06988-59BB-4695-B859-59D3CB2F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0FC1E-6B7E-4A8B-AD52-B5F5FD26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7F9C7-E3CD-4C61-B08E-B07138DE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9BD-6741-4028-8971-CF26622B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7E053-362E-43DC-98C6-D2B26298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13659-1AA1-4CFF-8FD2-553B0780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15CCB-2251-4A96-88AC-40095C13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91D18-9BC4-424F-A31A-A644661F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648BD-B663-4490-AAD0-0E9154E5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828E3-F866-44F9-ABF7-0E9C1BB8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8B69-DF93-4096-A590-75695254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E4893-3344-4697-A406-CA0654F1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60D36-95F5-4242-AD65-109EF363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510CB-5641-46E7-9741-8855E381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DEE-8C96-4A88-B9CF-923B21B0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DBD3F-B098-4C7D-88AA-056F3870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7C626-F0D1-40DE-8AC8-7F49D33C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B2B8-414D-4843-BDAA-C8A8F1A7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859E4-77FC-4F06-9654-BF3C1E5B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5E018-937F-49E6-B18D-C000BDB6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FACB1-73F8-4627-B970-955E2B26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327CF-E19C-4DCE-87E5-498F8736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CE586-EEFB-4A85-A6D3-E3990269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EF33B-2D16-43F9-9663-21147786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ECAA9-36FF-4F95-8A8D-F0931185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CF2-381D-47F3-BD0C-DDCD4277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5A48F-6086-42C0-A7EA-39A06252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48C9A-B62C-42DF-A8FD-1FDF3E0D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88432-637B-49F2-9E5C-48B80992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27D03-1B13-41EC-88FC-2B7112BC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567FF-2CC4-4063-8DB7-A489A20D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5751A-BEFE-4E46-8593-5269E2B9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BA17-2812-4584-88DB-1E100485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98269-15B3-4C8E-89EB-D464CF6A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73AEB-EF31-43F3-96FB-278633E7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CFF5D-099A-43D9-9336-1B4C8246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4E9-6395-4225-BCD6-86A5EADC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8BBC7-350E-42B3-B2B0-53C7037D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D0CE3-80DA-4E1D-8D66-74A2ED1F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C44E8-D21A-4F8F-A36C-7AFAC5A1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4F0F9-7CB4-45A3-AAA0-85AA1582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0110A-01C2-4681-BE7A-98E1EA4F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A2048-8A91-4553-8F3C-67F6A83B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371B9-C68C-4B3E-BDD7-6E539A5E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F7EF5-54B4-4E96-A0F4-99BAEA91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FB109-D9CB-4099-B991-2BF4EE56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BCFC2-1EC1-4C97-BC17-9EFB8E0F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DD89-B673-4DCC-8E9D-5268393FC5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E90D-D48B-4227-B509-21537A8FE4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E3ED-59CA-42C2-AE1C-1EAD0C80B3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C799-7AFF-4A2B-8BCB-95031C39B7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4C92-FED4-4B8E-BEB5-0A05F44A1D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E30B-D89D-420F-8DFD-1C642E2F06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DED5-E8D2-41F7-832E-F8319C0D9D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3FBE-9B0B-4A4E-A2C1-8BAF3FDC17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5A8F-1CBD-4145-8671-68DE65845E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E2DA-F3A3-4173-99A6-C740C610DC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FE79-5983-45EB-95D0-7DCB2DC0FE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DFF0-D9DE-4225-A89E-0F120283E4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12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8487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ff8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8000"/>
                </a:solidFill>
                <a:latin typeface="Arial"/>
              </a:rPr>
              <a:t>Lessons learned from the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8000"/>
                </a:solidFill>
                <a:latin typeface="Arial"/>
              </a:rPr>
              <a:t>CONSTANTA AREA </a:t>
            </a:r>
            <a:br>
              <a:rPr sz="3200"/>
            </a:br>
            <a:r>
              <a:rPr b="1" lang="de-DE" sz="3200" spc="-1" strike="noStrike">
                <a:solidFill>
                  <a:srgbClr val="ff8000"/>
                </a:solidFill>
                <a:latin typeface="Arial"/>
              </a:rPr>
              <a:t>Pilot Pro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5586480" y="3870360"/>
            <a:ext cx="27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6400800" y="304920"/>
            <a:ext cx="2438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8" descr="plancoast_rgb300_Logo"/>
          <p:cNvPicPr/>
          <p:nvPr/>
        </p:nvPicPr>
        <p:blipFill>
          <a:blip r:embed="rId2"/>
          <a:stretch/>
        </p:blipFill>
        <p:spPr>
          <a:xfrm>
            <a:off x="2268360" y="333360"/>
            <a:ext cx="4175280" cy="1565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logo nou.jpg"/>
          <p:cNvPicPr/>
          <p:nvPr/>
        </p:nvPicPr>
        <p:blipFill>
          <a:blip r:embed="rId3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8000"/>
                </a:solidFill>
                <a:latin typeface="Verdana"/>
              </a:rPr>
              <a:t>Lessons learned</a:t>
            </a: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429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ur Institute has the opportunity to develop a new planning tool for effective integrated approach in coastal and marine are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st practice examples within the PlanCoast project contributed significantly to a better underst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new tool has to be harmonized with the existing Romanian planning structure, but this is a political responsi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hardest part of the work was data col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hardest part of the work will be the necessary involvement of the stakeholders in the consultation proces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longest part of the work was data collection and data process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 are looking forward to path from this pilot project/exercise to an actual spatial plan for the Romanian coa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8000"/>
                </a:solidFill>
                <a:latin typeface="Verdana"/>
              </a:rPr>
              <a:t>Discussion points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680" y="1499760"/>
            <a:ext cx="777240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l 11 PlanCoast Handbook key messages are clear and releva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the Romanian’ case,  the list has to start with th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ssage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ed Maritime Spatial Planning is a political responsibility”, followed b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ssage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gal framework for Integrated Maritime Spatial Planning is needed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1723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8000"/>
                </a:solidFill>
                <a:latin typeface="Verdana"/>
              </a:rPr>
              <a:t>Basic Facts about the pilot project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520" y="1500120"/>
            <a:ext cx="8001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- CONSTANTA AREA – PILOT PROJECT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– SOUTHERN ROMANIAN BLACK SEA SHORE FROM CAPE MIDIA TO VAMA VECHE (ROMANIA – BULGARIA BORDER) – 130Km. LEN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Who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–   COORDINATION –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TIONAL RESEARCH INSTITUTE FOR URBAN AND TERRITORIAL PLANING URBANPROIECT Bucharest – with inputs from NATIONAL INSTITUTE FOR MARINE RESEARCH “GRIGORE ANTIPA”-Constan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Whe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– PROJECT STARTED – END OF APRIL 2007                                         DEADLINE – NOVEMBER 2008 (including 2 public consulta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8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" descr=""/>
          <p:cNvPicPr/>
          <p:nvPr/>
        </p:nvPicPr>
        <p:blipFill>
          <a:blip r:embed="rId1"/>
          <a:stretch/>
        </p:blipFill>
        <p:spPr>
          <a:xfrm>
            <a:off x="357120" y="1046160"/>
            <a:ext cx="8358120" cy="53118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285480" y="1000080"/>
            <a:ext cx="8643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1. –   ANALYSIS OF THE CURRENT STATUS OF FACTORS INFLUENCING THE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DEVELOPMENT AND THE TERRITORIAL ORGANIZATION OF THE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1. Spatial  structure (land &amp; sea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geographical location, administrative - territorial framework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- nature attribut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atural and built – up heritag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ettlements network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echnical infrastructu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patial zonin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2. Socio – demographic structu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- population evolution, demographic potential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- labor forc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- touristic pressu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3. Economic activities structure (land &amp; sea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4. Supra territorial context (land &amp; sea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2. –   IDENTIFICTION OF CONFLICTS, VULNERABILITIES, PROBLEMS AND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DISFUNCTIONS; POTENTIAL DIRECTIONS FOR DEVELOP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2.1. Identification of the incompatibilities between different uses/functions/processes existing on land and sea, and the vulnerable area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2.2. Identification of the future profile(s)  of the region, based on existing potential and compatible existing strategi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Verdana"/>
              </a:rPr>
              <a:t>PHASE 3. –    SPATIAL DEVELOPMENT STARTEG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b050"/>
                </a:solidFill>
                <a:latin typeface="Verdana"/>
              </a:rPr>
              <a:t>Development of the visio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en-US" sz="1100" spc="-1" strike="noStrike">
                <a:solidFill>
                  <a:srgbClr val="00b050"/>
                </a:solidFill>
                <a:latin typeface="Verdana"/>
              </a:rPr>
              <a:t>pecification of a general objective and of the secondary (sectorial)  objectiv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b050"/>
                </a:solidFill>
                <a:latin typeface="Verdana"/>
              </a:rPr>
              <a:t>Formulation of the measures program for short, medium and long term perspectiv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Verdana"/>
              </a:rPr>
              <a:t>FRAME CONTENT</a:t>
            </a:r>
            <a:br>
              <a:rPr sz="2400"/>
            </a:br>
            <a:r>
              <a:rPr b="1" lang="en-US" sz="2400" spc="-1" strike="noStrike">
                <a:solidFill>
                  <a:srgbClr val="ff8000"/>
                </a:solidFill>
                <a:latin typeface="Verdana"/>
              </a:rPr>
              <a:t>PILOT PROJECT – CONSTANŢA AREA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428760" y="6572160"/>
            <a:ext cx="8501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6" descr="transport.jpg"/>
          <p:cNvPicPr/>
          <p:nvPr/>
        </p:nvPicPr>
        <p:blipFill>
          <a:blip r:embed="rId1"/>
          <a:stretch/>
        </p:blipFill>
        <p:spPr>
          <a:xfrm>
            <a:off x="428760" y="1000080"/>
            <a:ext cx="8001000" cy="56293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64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8000"/>
                </a:solidFill>
                <a:latin typeface="Verdana"/>
              </a:rPr>
              <a:t>PHASE 1 – ANALYSIS OF THE CURRENT SITUTION; TRANSPORT INFRASTRUCTURE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pic>
        <p:nvPicPr>
          <p:cNvPr id="531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  <p:sp>
        <p:nvSpPr>
          <p:cNvPr id="532" name="Date Placeholder 3"/>
          <p:cNvSpPr/>
          <p:nvPr/>
        </p:nvSpPr>
        <p:spPr>
          <a:xfrm>
            <a:off x="428760" y="6572160"/>
            <a:ext cx="8501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1" descr="shoreline.jpg"/>
          <p:cNvPicPr/>
          <p:nvPr/>
        </p:nvPicPr>
        <p:blipFill>
          <a:blip r:embed="rId1"/>
          <a:stretch/>
        </p:blipFill>
        <p:spPr>
          <a:xfrm>
            <a:off x="500040" y="1066680"/>
            <a:ext cx="7929720" cy="55785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6786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8000"/>
                </a:solidFill>
                <a:latin typeface="Verdana"/>
              </a:rPr>
              <a:t>PHASE 1 – ANALYSIS OF THE CURRENT SITUTION; </a:t>
            </a:r>
            <a:r>
              <a:rPr b="1" lang="en-GB" sz="2000" spc="-1" strike="noStrike">
                <a:solidFill>
                  <a:srgbClr val="ff8000"/>
                </a:solidFill>
                <a:latin typeface="Verdana"/>
              </a:rPr>
              <a:t>SHORELINE CHANGES AND THE STATE OF THE EXISTING SHORE POTECTION FACILITIES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36" name="Date Placeholder 3"/>
          <p:cNvSpPr/>
          <p:nvPr/>
        </p:nvSpPr>
        <p:spPr>
          <a:xfrm>
            <a:off x="428760" y="6572160"/>
            <a:ext cx="8501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2050920" y="1138320"/>
            <a:ext cx="4592880" cy="5746680"/>
            <a:chOff x="2050920" y="1138320"/>
            <a:chExt cx="4592880" cy="5746680"/>
          </a:xfrm>
        </p:grpSpPr>
        <p:grpSp>
          <p:nvGrpSpPr>
            <p:cNvPr id="538" name="Group 37"/>
            <p:cNvGrpSpPr/>
            <p:nvPr/>
          </p:nvGrpSpPr>
          <p:grpSpPr>
            <a:xfrm>
              <a:off x="2822400" y="1138320"/>
              <a:ext cx="3178440" cy="5746680"/>
              <a:chOff x="2822400" y="1138320"/>
              <a:chExt cx="3178440" cy="5746680"/>
            </a:xfrm>
          </p:grpSpPr>
          <p:pic>
            <p:nvPicPr>
              <p:cNvPr id="539" name="Picture 22" descr="8-a4-conflicts.jpg"/>
              <p:cNvPicPr/>
              <p:nvPr/>
            </p:nvPicPr>
            <p:blipFill>
              <a:blip r:embed="rId1"/>
              <a:stretch/>
            </p:blipFill>
            <p:spPr>
              <a:xfrm>
                <a:off x="2822400" y="1138320"/>
                <a:ext cx="3178440" cy="574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0" name="Group 21"/>
              <p:cNvGrpSpPr/>
              <p:nvPr/>
            </p:nvGrpSpPr>
            <p:grpSpPr>
              <a:xfrm>
                <a:off x="3132000" y="1527120"/>
                <a:ext cx="2451240" cy="4805280"/>
                <a:chOff x="3132000" y="1527120"/>
                <a:chExt cx="2451240" cy="4805280"/>
              </a:xfrm>
            </p:grpSpPr>
            <p:sp>
              <p:nvSpPr>
                <p:cNvPr id="541" name="Line 14"/>
                <p:cNvSpPr/>
                <p:nvPr/>
              </p:nvSpPr>
              <p:spPr>
                <a:xfrm>
                  <a:off x="3132000" y="1527120"/>
                  <a:ext cx="2449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5"/>
                <p:cNvSpPr/>
                <p:nvPr/>
              </p:nvSpPr>
              <p:spPr>
                <a:xfrm>
                  <a:off x="3133800" y="206820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Line 16"/>
                <p:cNvSpPr/>
                <p:nvPr/>
              </p:nvSpPr>
              <p:spPr>
                <a:xfrm>
                  <a:off x="3133800" y="270324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Line 17"/>
                <p:cNvSpPr/>
                <p:nvPr/>
              </p:nvSpPr>
              <p:spPr>
                <a:xfrm>
                  <a:off x="3133800" y="366840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Line 18"/>
                <p:cNvSpPr/>
                <p:nvPr/>
              </p:nvSpPr>
              <p:spPr>
                <a:xfrm>
                  <a:off x="3133800" y="518148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Line 19"/>
                <p:cNvSpPr/>
                <p:nvPr/>
              </p:nvSpPr>
              <p:spPr>
                <a:xfrm>
                  <a:off x="3133800" y="583380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Line 20"/>
                <p:cNvSpPr/>
                <p:nvPr/>
              </p:nvSpPr>
              <p:spPr>
                <a:xfrm>
                  <a:off x="3133800" y="633240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Group 38"/>
            <p:cNvGrpSpPr/>
            <p:nvPr/>
          </p:nvGrpSpPr>
          <p:grpSpPr>
            <a:xfrm>
              <a:off x="2050920" y="1696320"/>
              <a:ext cx="4592880" cy="4469400"/>
              <a:chOff x="2050920" y="1696320"/>
              <a:chExt cx="4592880" cy="4469400"/>
            </a:xfrm>
          </p:grpSpPr>
          <p:sp>
            <p:nvSpPr>
              <p:cNvPr id="549" name="AutoShape 28"/>
              <p:cNvSpPr/>
              <p:nvPr/>
            </p:nvSpPr>
            <p:spPr>
              <a:xfrm>
                <a:off x="5508720" y="169992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AutoShape 31"/>
              <p:cNvSpPr/>
              <p:nvPr/>
            </p:nvSpPr>
            <p:spPr>
              <a:xfrm>
                <a:off x="5508720" y="306864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AutoShape 32"/>
              <p:cNvSpPr/>
              <p:nvPr/>
            </p:nvSpPr>
            <p:spPr>
              <a:xfrm>
                <a:off x="5508720" y="544500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AutoShape 33"/>
              <p:cNvSpPr/>
              <p:nvPr/>
            </p:nvSpPr>
            <p:spPr>
              <a:xfrm>
                <a:off x="2987640" y="595008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AutoShape 34"/>
              <p:cNvSpPr/>
              <p:nvPr/>
            </p:nvSpPr>
            <p:spPr>
              <a:xfrm>
                <a:off x="2987640" y="429264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AutoShape 35"/>
              <p:cNvSpPr/>
              <p:nvPr/>
            </p:nvSpPr>
            <p:spPr>
              <a:xfrm>
                <a:off x="2987640" y="227628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55" name="AutoShape 37"/>
              <p:cNvCxnSpPr/>
              <p:nvPr/>
            </p:nvCxnSpPr>
            <p:spPr>
              <a:xfrm flipV="1">
                <a:off x="5724360" y="3135960"/>
                <a:ext cx="919800" cy="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6" name="AutoShape 38"/>
              <p:cNvCxnSpPr/>
              <p:nvPr/>
            </p:nvCxnSpPr>
            <p:spPr>
              <a:xfrm flipV="1">
                <a:off x="5724360" y="5439600"/>
                <a:ext cx="919800" cy="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57" name="Line 39"/>
              <p:cNvSpPr/>
              <p:nvPr/>
            </p:nvSpPr>
            <p:spPr>
              <a:xfrm flipH="1" flipV="1">
                <a:off x="2050920" y="2133000"/>
                <a:ext cx="93672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40"/>
              <p:cNvSpPr/>
              <p:nvPr/>
            </p:nvSpPr>
            <p:spPr>
              <a:xfrm flipH="1" flipV="1">
                <a:off x="2050920" y="4149360"/>
                <a:ext cx="93672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Line 41"/>
              <p:cNvSpPr/>
              <p:nvPr/>
            </p:nvSpPr>
            <p:spPr>
              <a:xfrm flipH="1" flipV="1">
                <a:off x="2164680" y="5805000"/>
                <a:ext cx="79380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0" name="AutoShape 42"/>
              <p:cNvCxnSpPr/>
              <p:nvPr/>
            </p:nvCxnSpPr>
            <p:spPr>
              <a:xfrm flipV="1">
                <a:off x="5724360" y="1696320"/>
                <a:ext cx="919800" cy="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pic>
        <p:nvPicPr>
          <p:cNvPr id="561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64072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8000"/>
                </a:solidFill>
                <a:latin typeface="Verdana"/>
              </a:rPr>
              <a:t>PHASE 2 – IDENTIFICATION OF CONFLICTS, VULNERABILITIES,  PROBLEMS  AND DISFUNCTIONS POTENTIAL DIRECTIONS FOR DEVELOPMENT</a:t>
            </a:r>
            <a:endParaRPr b="0" lang="en-US" sz="1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63" name="Date Placeholder 3"/>
          <p:cNvSpPr/>
          <p:nvPr/>
        </p:nvSpPr>
        <p:spPr>
          <a:xfrm>
            <a:off x="428760" y="6572160"/>
            <a:ext cx="8501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285840" y="1571760"/>
            <a:ext cx="29574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48"/>
          <p:cNvGrpSpPr/>
          <p:nvPr/>
        </p:nvGrpSpPr>
        <p:grpSpPr>
          <a:xfrm>
            <a:off x="6643800" y="1095480"/>
            <a:ext cx="1857240" cy="5513400"/>
            <a:chOff x="6643800" y="1095480"/>
            <a:chExt cx="1857240" cy="5513400"/>
          </a:xfrm>
        </p:grpSpPr>
        <p:pic>
          <p:nvPicPr>
            <p:cNvPr id="566" name="Picture 13" descr=""/>
            <p:cNvPicPr/>
            <p:nvPr/>
          </p:nvPicPr>
          <p:blipFill>
            <a:blip r:embed="rId3"/>
            <a:stretch/>
          </p:blipFill>
          <p:spPr>
            <a:xfrm>
              <a:off x="6643800" y="1095480"/>
              <a:ext cx="1760400" cy="18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15" descr=""/>
            <p:cNvPicPr/>
            <p:nvPr/>
          </p:nvPicPr>
          <p:blipFill>
            <a:blip r:embed="rId4"/>
            <a:stretch/>
          </p:blipFill>
          <p:spPr>
            <a:xfrm>
              <a:off x="6643800" y="2960640"/>
              <a:ext cx="1857240" cy="18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17" descr=""/>
            <p:cNvPicPr/>
            <p:nvPr/>
          </p:nvPicPr>
          <p:blipFill>
            <a:blip r:embed="rId5"/>
            <a:stretch/>
          </p:blipFill>
          <p:spPr>
            <a:xfrm>
              <a:off x="6653160" y="4822920"/>
              <a:ext cx="1643040" cy="17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Group 24"/>
          <p:cNvGrpSpPr/>
          <p:nvPr/>
        </p:nvGrpSpPr>
        <p:grpSpPr>
          <a:xfrm>
            <a:off x="635040" y="1209600"/>
            <a:ext cx="1525680" cy="5286600"/>
            <a:chOff x="635040" y="1209600"/>
            <a:chExt cx="1525680" cy="5286600"/>
          </a:xfrm>
        </p:grpSpPr>
        <p:pic>
          <p:nvPicPr>
            <p:cNvPr id="570" name="Picture 14" descr=""/>
            <p:cNvPicPr/>
            <p:nvPr/>
          </p:nvPicPr>
          <p:blipFill>
            <a:blip r:embed="rId6"/>
            <a:stretch/>
          </p:blipFill>
          <p:spPr>
            <a:xfrm>
              <a:off x="635040" y="1209600"/>
              <a:ext cx="1436760" cy="15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16" descr=""/>
            <p:cNvPicPr/>
            <p:nvPr/>
          </p:nvPicPr>
          <p:blipFill>
            <a:blip r:embed="rId7"/>
            <a:stretch/>
          </p:blipFill>
          <p:spPr>
            <a:xfrm>
              <a:off x="636480" y="2986200"/>
              <a:ext cx="143532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18" descr=""/>
            <p:cNvPicPr/>
            <p:nvPr/>
          </p:nvPicPr>
          <p:blipFill>
            <a:blip r:embed="rId8"/>
            <a:stretch/>
          </p:blipFill>
          <p:spPr>
            <a:xfrm>
              <a:off x="652320" y="4826160"/>
              <a:ext cx="150840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000"/>
                </a:solidFill>
                <a:latin typeface="Verdana"/>
              </a:rPr>
              <a:t>Activities completed</a:t>
            </a: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aft document (text and maps) for Phase 1 – 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aft document (text and maps) for Phase 2 –    to be completed till the end of Apr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stionnaire for stakeholders - comple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appeal for cooperation for: data/information provision, comments on draft documents, design of their vision about coastal ar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t of participants for first public consultation – 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l above mentioned materials will be transmitted two weeks before the meeting d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609120" y="1213920"/>
            <a:ext cx="8177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st public consultation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with the major stakeholders at national and local leve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– end of April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ICZ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igh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evel Committe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eting - Constan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servations, additional data and information analyzed and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ndbook on Integrated Maritime Spatial Planning – delivered – Ju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Second round of consultation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with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the major stakeholders at national and local level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r Phase 3 -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July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resentation of the Pilot Project 1 and 2 reports to the interested   ministries,  including an outlook of the follow-up process - October  - Nov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000"/>
                </a:solidFill>
                <a:latin typeface="Verdana"/>
              </a:rPr>
              <a:t>Follow up Activities </a:t>
            </a: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8000"/>
                </a:solidFill>
                <a:latin typeface="Verdana"/>
              </a:rPr>
              <a:t>  </a:t>
            </a:r>
            <a:r>
              <a:rPr b="1" lang="de-DE" sz="3200" spc="-1" strike="noStrike">
                <a:solidFill>
                  <a:srgbClr val="ff8000"/>
                </a:solidFill>
                <a:latin typeface="Verdana"/>
              </a:rPr>
              <a:t>Implementation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64304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INISTRY OF DEVELOPMENT, PUBLIC WORKS AND  HOUSING  INCLUDES  ON  ITS  2008 REGULATIONS  PROGRAMME  THE  FOLOWING ISSU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 „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THODOLOGY  AND  FRAME  CONTENT  F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THE  ELABORATION  OF  THE  SPITAL  PLAN  FOR ROMANIAN  COASTAL  AREA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- MARINE  SPATIAL  PLANNING  IS  CONSIDERED NOT  AN  URGENT  TASK (so f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2:03:15Z</dcterms:created>
  <dc:creator>Angela Schultz-Zehden</dc:creator>
  <dc:description/>
  <dc:language>en-US</dc:language>
  <cp:lastModifiedBy>Monica Tache</cp:lastModifiedBy>
  <dcterms:modified xsi:type="dcterms:W3CDTF">2008-03-24T11:34:42Z</dcterms:modified>
  <cp:revision>85</cp:revision>
  <dc:subject/>
  <dc:title>INTERREG IIIB CADSES Project „PlanCoast“</dc:title>
</cp:coreProperties>
</file>