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D346-A340-4BAE-B6AB-3BCD8B7333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463F-1226-4582-A542-949F1E7C2D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2EB4-ED02-4465-85F9-6D21CACCFD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4B5A-C1EA-4638-ABB0-F1EA4D5520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709-C34E-4EF3-81AA-7556A824F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40A0-9FDD-42DD-81B8-9CB8B8ADD7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E425-67A5-4409-B476-D70F97AD9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AB4-324F-46B0-872A-E91EC76DFA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420-95F1-4A47-8D5B-4227EDC2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24F-4456-41C5-AE1E-B1541D50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F2AE-296F-46A5-ACCE-D431B15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201AE-418E-44A5-85B9-45335190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6D3CB-B914-4E79-AD41-23C5691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5CB5A-18A5-4622-BD0B-54DAEE0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FB731-9A9E-4005-A6DC-2FABA69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A7BBD-06F2-4BE6-B49D-211E626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39B1C-523F-4DC9-B804-AFE79F54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CAFA8-6F08-4FDF-AA33-E4015778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A411E-6B5E-45A5-B696-A8EF41DF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0B371-0CDC-43CB-BE2F-9107665E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634-FF3B-46DC-B749-A1945F59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10D78-8F86-4E32-9AFF-11067B02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9CCEE-F326-474C-A00A-8EC553DA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7F696-22EE-4384-AF51-A0EF49C6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3DC72-B38D-4BE5-AFBE-B91BFD59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D0533-9750-4050-8780-73C137C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3E451-0AF0-4F52-9AEC-6998EBF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9D927-2AE0-4503-975C-1C78F5D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E9119-051C-4392-AAF5-0E9ADA24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FF167-F093-4C68-84DF-677BE4F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1070B-AB82-4430-AD60-D7E5A2E2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987-4B6B-4544-BF27-82D25CAB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01BB6-445F-4519-8DB4-04359C40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C3760-8A7F-4970-A363-E7512EBD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062F4-8A52-42B0-A0EF-6CD9E2DB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54B53-A0D2-49E8-8B33-6AFD175A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FF03-80C8-4797-823B-D404F107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4ACA-671A-4C48-BC5F-6D65C306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830E-5065-4C97-9062-2624DFD5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05755-4C35-453D-8F6B-B75FF128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690F1-86A1-4B72-8061-CBBC1B7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13F11-A1B6-4B86-AB90-7B12E81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784A-36CD-4969-BB97-C1451173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89D98-54E3-442C-B754-08F075D6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9DCB-754E-4F19-8A07-75F61BDF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BDC48-A3BB-41B4-956D-26CA9B47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DF50C-3053-4933-9A04-9125BDFD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20172-8037-47F4-AC7B-285694F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55579-8A21-4BE8-A46C-AC43BD0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5FEC9-66AD-4F6E-BA87-AF89BA26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81E6C-ABC5-4D53-82C9-14FF29B4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05BBC-155D-436F-85CA-B5179CA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E2105-38DD-47FC-8859-20CF1B2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4CE1-1E7B-4CF1-9EF5-0F60EA67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C72B6-61DE-45E5-BDAB-D127487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4394D-9B48-48B7-BEE9-7736D438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17A8E-E2F5-4220-A8FB-B96C632B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0FE54-D764-4FB8-B894-C715BD66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409DB-8EEB-4C1A-8647-9FB555E9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693B-6CFD-45A8-98BE-C6EE9D9B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C8B1-75D8-47C8-AA43-E0DB6DB8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7E8A-B537-49B2-8F3C-B2EE310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BCAB-B1C0-4D4F-AE3B-6109543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D58A-D13E-4FD3-9866-3A01434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0F7-362C-46AB-8B56-3D5BEC9D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EEF-9D5B-47FC-8C83-5231989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81D-F889-4A4C-ACFD-C71AD1D9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AAD4-44ED-4479-8F47-0B9271FE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72BD-F0B4-4F56-978C-289C5020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1279-353A-4ECF-8F91-8E57E629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0C68-0DE9-4C6C-A1C7-E5AAB79A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897D-A8B3-46B7-942D-7F5E6740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C76B-AFD8-40E6-888E-01EEE50E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BCD3-EFF9-46B5-8C7C-41267746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09DF-5B61-48CB-95C9-C6E6E3D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549-544C-45A4-8352-A3A3E4A8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6E59-8630-44FD-AD09-B068E740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0D29-88FC-4505-B643-AC56327A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EEDE-9FB8-4506-AA33-A11AE83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A571-9FEA-47A9-89AD-DEB52D9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37BF-ED89-47C1-845B-800C41D3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8329-14CD-4833-9463-6E3337EA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E87F-8135-4F91-BCE7-F22B0324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BD04-DFD8-4465-AA7D-370B8A2D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9FDE-5B14-40DA-A027-7673D61A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538FB-FB83-46ED-98A4-D554F172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8B9-1B02-4583-B440-7C96D3E1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DDA1-BDB6-47C7-91DC-881B5B4D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F77B-2AA0-441E-BA09-FE8334E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A256-E868-49DA-8D84-2447825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155C-7250-4DDD-8EED-5ADC641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54A9-FFB0-42B7-BFF3-BD52774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4746-4272-4CE6-BA6C-6CCFC57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AF6C-D12E-41E5-A80C-74A8839B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6BD5-8AC2-40B0-AE41-68508D82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1A3E-EA38-4827-8325-195006A5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3C05-5D97-49C7-9D4A-A2ED2AA0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D30-3FD4-4FF4-A007-96C2C840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1C68F-0FD6-43C1-A175-D74A9BBB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3608-7672-4A75-AE4A-1D9BF1CF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4174E-C5A6-4AF2-A18E-3C5B1384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263AB-30E4-47A6-9A52-4CA0A557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F0144-CCF2-40E6-A6F7-208510EF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A4CE-0A60-4E7A-BB88-1A4AD693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7F78-6E23-4581-A0A3-13BFA30D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5F7FD-2B2D-466C-B314-04B4B85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3011-FE9C-40DE-98D3-1D6D3F7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15A8F-2500-48D1-B686-798C9DCE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0E9-A8FA-477A-A696-EE958CA8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B555-D2C2-4D50-9B76-27FB4FE8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17ED-08AF-4E72-801C-169DBF67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4C877-96C7-4829-B495-608A982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C698-39B3-4153-9C00-16B93DD5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A7CF-2FF8-4DD0-9A0B-8A6932E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BFA7-2B18-4C55-80DF-DBA92D34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E695-54AA-4A98-945F-4BD50090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AF09-B424-4C08-9FB7-620835C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AF99D-6D16-4F76-BC0D-7ED1F8B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CE32-B80E-429E-99C8-038FDA7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B03-E1AF-4174-9B44-0593111A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584B-CE73-42B6-B671-FD0666D0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AE86F-FD63-47D9-BD74-139313E1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1F87-8210-4D60-8BC5-3430F3F2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7E73-329A-4883-84DC-D5C03B19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ACDB0-A674-41CB-82EB-B9EB1FC8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621C-C3F3-45F3-8343-4730C929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5AD1F-569F-41EC-84A6-0FEE6A21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DEE1-A4D1-4195-A514-56814213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AD7DB-FDE3-49CE-BDD7-6C0BD055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78AFE-4AB5-409D-84D0-696FB0E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E2E-A0FC-46A4-B738-B958F239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FB2A-D125-49FF-B6D5-DCDC3B5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A4D7-9160-4AE3-85E3-CBC1C57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F43A-4D5A-474A-92A9-65AA451A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937B2-A9C4-41E9-8DF5-1F1D99C8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2F185-841B-4F7B-95FE-2E4F7EEB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1E55D-7169-401D-AB8F-F644934F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AF3DF-7DF7-460D-957A-66268AE5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B02E4-352F-4736-95FC-7CCE0B05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F98A-DF76-4BAD-8EAD-A663B9F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CA0E-1FAE-460E-89DE-01B855C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8D4-FEC1-4110-B411-060EEA07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6884-D806-4013-A225-8BBF3E79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3018A-968F-48A0-BFED-61F1D9C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47B3-73D6-4253-89E0-B180B299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2C1EC-092B-4E73-A059-119C93E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1A467-D415-4D55-806A-E8543B65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92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92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1209-4752-4FB6-8778-C558BDEE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65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65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F84F-BDDF-4DC7-928D-219237DA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A93E-8936-4365-8246-3AFF42C6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B9415-ECC0-4986-B033-7E415A0D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D8F7C-D7FB-45C0-B4E5-1985D8F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2587-50C2-4AA4-80DE-46321DC7CC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F0F-D836-4A30-9165-B426533746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648-7193-4DAF-8A7B-9453CC80B8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7A4F-A263-462D-83C4-88AC588430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28CF-1F7E-4305-A3B9-229C12A9D5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A8D3-EEF5-4431-A7B0-A23B87394F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0B2A-30E1-4EE2-8098-2D14A5F9DB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0471-D338-43F2-93C8-3249F072B7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10C7-49DB-4210-A486-755CB8B8BF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BBC4-4F9C-44AF-847B-24121DCE86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555B-1DF6-4EF5-9CA8-67586781E2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9" descr="plancoast_rgb300_Logo"/>
          <p:cNvPicPr/>
          <p:nvPr/>
        </p:nvPicPr>
        <p:blipFill>
          <a:blip r:embed="rId2"/>
          <a:stretch/>
        </p:blipFill>
        <p:spPr>
          <a:xfrm>
            <a:off x="6659640" y="260280"/>
            <a:ext cx="2195280" cy="8222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5AB-856E-4E3C-99B2-C9C55136C9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12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8487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Lessons learned from the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CONSTANTA AREA </a:t>
            </a:r>
            <a:br>
              <a:rPr sz="3200"/>
            </a:br>
            <a:r>
              <a:rPr b="1" lang="de-DE" sz="3200" spc="-1" strike="noStrike">
                <a:solidFill>
                  <a:srgbClr val="ff8000"/>
                </a:solidFill>
                <a:latin typeface="Arial"/>
              </a:rPr>
              <a:t>Pilot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5586480" y="3870360"/>
            <a:ext cx="27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6400800" y="304920"/>
            <a:ext cx="2438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8" descr="plancoast_rgb300_Logo"/>
          <p:cNvPicPr/>
          <p:nvPr/>
        </p:nvPicPr>
        <p:blipFill>
          <a:blip r:embed="rId2"/>
          <a:stretch/>
        </p:blipFill>
        <p:spPr>
          <a:xfrm>
            <a:off x="2268360" y="333360"/>
            <a:ext cx="4175280" cy="1565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logo nou.jpg"/>
          <p:cNvPicPr/>
          <p:nvPr/>
        </p:nvPicPr>
        <p:blipFill>
          <a:blip r:embed="rId3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8000"/>
                </a:solidFill>
                <a:latin typeface="Verdana"/>
              </a:rPr>
              <a:t>Lessons learned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8429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ur Institute has the opportunity to develop a new planning tool for effective integrated approach in coastal and marine are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st practice examples within the PlanCoast project contributed significantly to a better underst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new tool has to be harmonized with the existing Romanian planning structure, but this is a political respons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hardest part of the work was data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hardest part of the work will be the necessary involvement of the stakeholders in the consultation proces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longest part of the work was data collection and data process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are looking forward to path from this pilot project/exercise to an actual spatial plan for the Romanian co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Verdana"/>
              </a:rPr>
              <a:t>Discussion points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71680" y="1499760"/>
            <a:ext cx="777240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11 PlanCoast Handbook key messages are clear and releva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the Romanian’ case,  the list has to start with t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ssage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Maritime Spatial Planning is a political responsibility”, follow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ssage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al framework for Integrated Maritime Spatial Planning is needed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1723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8000"/>
                </a:solidFill>
                <a:latin typeface="Verdana"/>
              </a:rPr>
              <a:t>Basic Facts about the pilot project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500120"/>
            <a:ext cx="8001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- CONSTANTA AREA – PILOT PROJECT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– SOUTHERN ROMANIAN BLACK SEA SHORE FROM CAPE MIDIA TO VAMA VECHE (ROMANIA – BULGARIA BORDER) – 130Km. LEN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ho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–   COORDINATION –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TIONAL RESEARCH INSTITUTE FOR URBAN AND TERRITORIAL PLANING URBANPROIECT Bucharest – with inputs from NATIONAL INSTITUTE FOR MARINE RESEARCH “GRIGORE ANTIPA”-Constan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Whe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– PROJECT STARTED – END OF APRIL 2007                                         DEADLINE – NOVEMBER 2008 (including 2 public consult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8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"/>
          <p:cNvPicPr/>
          <p:nvPr/>
        </p:nvPicPr>
        <p:blipFill>
          <a:blip r:embed="rId1"/>
          <a:stretch/>
        </p:blipFill>
        <p:spPr>
          <a:xfrm>
            <a:off x="357120" y="1046160"/>
            <a:ext cx="8358120" cy="53118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85480" y="1000080"/>
            <a:ext cx="8643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1. –   ANALYSIS OF THE CURRENT STATUS OF FACTORS INFLUENCING THE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DEVELOPMENT AND THE TERRITORIAL ORGANIZATION OF THE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1. Spatial  structure (land &amp; se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geographical location, administrative - territorial framewor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nature attribu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atural and built – up heritag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ettlements networ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echnical infrastruct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patial zonin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 Socio – demographic struct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population evolution, demographic potential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labor forc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- touristic press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3. Economic activities structure (land &amp; se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4. Supra territorial context (land &amp; se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2. –   IDENTIFICTION OF CONFLICTS, VULNERABILITIES, PROBLEMS AND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DISFUNCTIONS; POTENTIAL DIRECTIONS FOR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1. Identification of the incompatibilities between different uses/functions/processes existing on land and sea, and the vulnerable area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2. Identification of the future profile(s)  of the region, based on existing potential and compatible existing strategi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PHASE 3. –    SPATIAL DEVELOPMENT STARTEG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Verdana"/>
              </a:rPr>
              <a:t>Development of the vis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en-US" sz="1100" spc="-1" strike="noStrike">
                <a:solidFill>
                  <a:srgbClr val="00b050"/>
                </a:solidFill>
                <a:latin typeface="Verdana"/>
              </a:rPr>
              <a:t>pecification of a general objective and of the secondary (sectorial)  objectiv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050"/>
                </a:solidFill>
                <a:latin typeface="Verdana"/>
              </a:rPr>
              <a:t>Formulation of the measures program for short, medium and long term perspectiv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Verdana"/>
              </a:rPr>
              <a:t>FRAME CONTENT</a:t>
            </a:r>
            <a:br>
              <a:rPr sz="2400"/>
            </a:br>
            <a:r>
              <a:rPr b="1" lang="en-US" sz="2400" spc="-1" strike="noStrike">
                <a:solidFill>
                  <a:srgbClr val="ff8000"/>
                </a:solidFill>
                <a:latin typeface="Verdana"/>
              </a:rPr>
              <a:t>PILOT PROJECT – CONSTANŢA AREA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6" descr="transport.jpg"/>
          <p:cNvPicPr/>
          <p:nvPr/>
        </p:nvPicPr>
        <p:blipFill>
          <a:blip r:embed="rId1"/>
          <a:stretch/>
        </p:blipFill>
        <p:spPr>
          <a:xfrm>
            <a:off x="428760" y="1000080"/>
            <a:ext cx="8001000" cy="56293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64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8000"/>
                </a:solidFill>
                <a:latin typeface="Verdana"/>
              </a:rPr>
              <a:t>PHASE 1 – ANALYSIS OF THE CURRENT SITUTION; TRANSPORT INFRASTRUCTURE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pic>
        <p:nvPicPr>
          <p:cNvPr id="531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  <p:sp>
        <p:nvSpPr>
          <p:cNvPr id="532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1" descr="shoreline.jpg"/>
          <p:cNvPicPr/>
          <p:nvPr/>
        </p:nvPicPr>
        <p:blipFill>
          <a:blip r:embed="rId1"/>
          <a:stretch/>
        </p:blipFill>
        <p:spPr>
          <a:xfrm>
            <a:off x="500040" y="1066680"/>
            <a:ext cx="7929720" cy="5578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678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8000"/>
                </a:solidFill>
                <a:latin typeface="Verdana"/>
              </a:rPr>
              <a:t>PHASE 1 – ANALYSIS OF THE CURRENT SITUTION; </a:t>
            </a:r>
            <a:r>
              <a:rPr b="1" lang="en-GB" sz="2000" spc="-1" strike="noStrike">
                <a:solidFill>
                  <a:srgbClr val="ff8000"/>
                </a:solidFill>
                <a:latin typeface="Verdana"/>
              </a:rPr>
              <a:t>SHORELINE CHANGES AND THE STATE OF THE EXISTING SHORE POTECTION FACILITIES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36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2050920" y="1138320"/>
            <a:ext cx="4592880" cy="5746680"/>
            <a:chOff x="2050920" y="1138320"/>
            <a:chExt cx="4592880" cy="5746680"/>
          </a:xfrm>
        </p:grpSpPr>
        <p:grpSp>
          <p:nvGrpSpPr>
            <p:cNvPr id="538" name="Group 37"/>
            <p:cNvGrpSpPr/>
            <p:nvPr/>
          </p:nvGrpSpPr>
          <p:grpSpPr>
            <a:xfrm>
              <a:off x="2822400" y="1138320"/>
              <a:ext cx="3178440" cy="5746680"/>
              <a:chOff x="2822400" y="1138320"/>
              <a:chExt cx="3178440" cy="5746680"/>
            </a:xfrm>
          </p:grpSpPr>
          <p:pic>
            <p:nvPicPr>
              <p:cNvPr id="539" name="Picture 22" descr="8-a4-conflicts.jpg"/>
              <p:cNvPicPr/>
              <p:nvPr/>
            </p:nvPicPr>
            <p:blipFill>
              <a:blip r:embed="rId1"/>
              <a:stretch/>
            </p:blipFill>
            <p:spPr>
              <a:xfrm>
                <a:off x="2822400" y="1138320"/>
                <a:ext cx="3178440" cy="574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0" name="Group 21"/>
              <p:cNvGrpSpPr/>
              <p:nvPr/>
            </p:nvGrpSpPr>
            <p:grpSpPr>
              <a:xfrm>
                <a:off x="3132000" y="1527120"/>
                <a:ext cx="2451240" cy="4805280"/>
                <a:chOff x="3132000" y="1527120"/>
                <a:chExt cx="2451240" cy="4805280"/>
              </a:xfrm>
            </p:grpSpPr>
            <p:sp>
              <p:nvSpPr>
                <p:cNvPr id="541" name="Line 14"/>
                <p:cNvSpPr/>
                <p:nvPr/>
              </p:nvSpPr>
              <p:spPr>
                <a:xfrm>
                  <a:off x="3132000" y="1527120"/>
                  <a:ext cx="2449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5"/>
                <p:cNvSpPr/>
                <p:nvPr/>
              </p:nvSpPr>
              <p:spPr>
                <a:xfrm>
                  <a:off x="3133800" y="20682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16"/>
                <p:cNvSpPr/>
                <p:nvPr/>
              </p:nvSpPr>
              <p:spPr>
                <a:xfrm>
                  <a:off x="3133800" y="270324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Line 17"/>
                <p:cNvSpPr/>
                <p:nvPr/>
              </p:nvSpPr>
              <p:spPr>
                <a:xfrm>
                  <a:off x="3133800" y="36684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Line 18"/>
                <p:cNvSpPr/>
                <p:nvPr/>
              </p:nvSpPr>
              <p:spPr>
                <a:xfrm>
                  <a:off x="3133800" y="518148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Line 19"/>
                <p:cNvSpPr/>
                <p:nvPr/>
              </p:nvSpPr>
              <p:spPr>
                <a:xfrm>
                  <a:off x="3133800" y="58338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Line 20"/>
                <p:cNvSpPr/>
                <p:nvPr/>
              </p:nvSpPr>
              <p:spPr>
                <a:xfrm>
                  <a:off x="3133800" y="6332400"/>
                  <a:ext cx="244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Group 38"/>
            <p:cNvGrpSpPr/>
            <p:nvPr/>
          </p:nvGrpSpPr>
          <p:grpSpPr>
            <a:xfrm>
              <a:off x="2050920" y="1696320"/>
              <a:ext cx="4592880" cy="4469400"/>
              <a:chOff x="2050920" y="1696320"/>
              <a:chExt cx="4592880" cy="4469400"/>
            </a:xfrm>
          </p:grpSpPr>
          <p:sp>
            <p:nvSpPr>
              <p:cNvPr id="549" name="AutoShape 28"/>
              <p:cNvSpPr/>
              <p:nvPr/>
            </p:nvSpPr>
            <p:spPr>
              <a:xfrm>
                <a:off x="5508720" y="169992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AutoShape 31"/>
              <p:cNvSpPr/>
              <p:nvPr/>
            </p:nvSpPr>
            <p:spPr>
              <a:xfrm>
                <a:off x="5508720" y="306864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AutoShape 32"/>
              <p:cNvSpPr/>
              <p:nvPr/>
            </p:nvSpPr>
            <p:spPr>
              <a:xfrm>
                <a:off x="5508720" y="544500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AutoShape 33"/>
              <p:cNvSpPr/>
              <p:nvPr/>
            </p:nvSpPr>
            <p:spPr>
              <a:xfrm>
                <a:off x="2987640" y="595008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AutoShape 34"/>
              <p:cNvSpPr/>
              <p:nvPr/>
            </p:nvSpPr>
            <p:spPr>
              <a:xfrm>
                <a:off x="2987640" y="429264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AutoShape 35"/>
              <p:cNvSpPr/>
              <p:nvPr/>
            </p:nvSpPr>
            <p:spPr>
              <a:xfrm>
                <a:off x="2987640" y="2276280"/>
                <a:ext cx="215640" cy="21564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55" name="AutoShape 37"/>
              <p:cNvCxnSpPr/>
              <p:nvPr/>
            </p:nvCxnSpPr>
            <p:spPr>
              <a:xfrm flipV="1">
                <a:off x="5724360" y="3135960"/>
                <a:ext cx="9198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6" name="AutoShape 38"/>
              <p:cNvCxnSpPr/>
              <p:nvPr/>
            </p:nvCxnSpPr>
            <p:spPr>
              <a:xfrm flipV="1">
                <a:off x="5724360" y="5439600"/>
                <a:ext cx="9198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57" name="Line 39"/>
              <p:cNvSpPr/>
              <p:nvPr/>
            </p:nvSpPr>
            <p:spPr>
              <a:xfrm flipH="1" flipV="1">
                <a:off x="2050920" y="2133000"/>
                <a:ext cx="93672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40"/>
              <p:cNvSpPr/>
              <p:nvPr/>
            </p:nvSpPr>
            <p:spPr>
              <a:xfrm flipH="1" flipV="1">
                <a:off x="2050920" y="4149360"/>
                <a:ext cx="93672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41"/>
              <p:cNvSpPr/>
              <p:nvPr/>
            </p:nvSpPr>
            <p:spPr>
              <a:xfrm flipH="1" flipV="1">
                <a:off x="2164680" y="5805000"/>
                <a:ext cx="79380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0" name="AutoShape 42"/>
              <p:cNvCxnSpPr/>
              <p:nvPr/>
            </p:nvCxnSpPr>
            <p:spPr>
              <a:xfrm flipV="1">
                <a:off x="5724360" y="1696320"/>
                <a:ext cx="919800" cy="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pic>
        <p:nvPicPr>
          <p:cNvPr id="561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64072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8000"/>
                </a:solidFill>
                <a:latin typeface="Verdana"/>
              </a:rPr>
              <a:t>PHASE 2 – IDENTIFICATION OF CONFLICTS, VULNERABILITIES,  PROBLEMS  AND DISFUNCTIONS POTENTIAL DIRECTIONS FOR DEVELOPMENT</a:t>
            </a:r>
            <a:endParaRPr b="0" lang="en-US" sz="1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63" name="Date Placeholder 3"/>
          <p:cNvSpPr/>
          <p:nvPr/>
        </p:nvSpPr>
        <p:spPr>
          <a:xfrm>
            <a:off x="428760" y="6572160"/>
            <a:ext cx="8501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285840" y="1571760"/>
            <a:ext cx="2957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48"/>
          <p:cNvGrpSpPr/>
          <p:nvPr/>
        </p:nvGrpSpPr>
        <p:grpSpPr>
          <a:xfrm>
            <a:off x="6643800" y="1095480"/>
            <a:ext cx="1857240" cy="5513400"/>
            <a:chOff x="6643800" y="1095480"/>
            <a:chExt cx="1857240" cy="5513400"/>
          </a:xfrm>
        </p:grpSpPr>
        <p:pic>
          <p:nvPicPr>
            <p:cNvPr id="566" name="Picture 13" descr=""/>
            <p:cNvPicPr/>
            <p:nvPr/>
          </p:nvPicPr>
          <p:blipFill>
            <a:blip r:embed="rId3"/>
            <a:stretch/>
          </p:blipFill>
          <p:spPr>
            <a:xfrm>
              <a:off x="6643800" y="1095480"/>
              <a:ext cx="176040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5" descr=""/>
            <p:cNvPicPr/>
            <p:nvPr/>
          </p:nvPicPr>
          <p:blipFill>
            <a:blip r:embed="rId4"/>
            <a:stretch/>
          </p:blipFill>
          <p:spPr>
            <a:xfrm>
              <a:off x="6643800" y="2960640"/>
              <a:ext cx="1857240" cy="18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7" descr=""/>
            <p:cNvPicPr/>
            <p:nvPr/>
          </p:nvPicPr>
          <p:blipFill>
            <a:blip r:embed="rId5"/>
            <a:stretch/>
          </p:blipFill>
          <p:spPr>
            <a:xfrm>
              <a:off x="6653160" y="4822920"/>
              <a:ext cx="1643040" cy="17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 24"/>
          <p:cNvGrpSpPr/>
          <p:nvPr/>
        </p:nvGrpSpPr>
        <p:grpSpPr>
          <a:xfrm>
            <a:off x="635040" y="1209600"/>
            <a:ext cx="1525680" cy="5286600"/>
            <a:chOff x="635040" y="1209600"/>
            <a:chExt cx="1525680" cy="5286600"/>
          </a:xfrm>
        </p:grpSpPr>
        <p:pic>
          <p:nvPicPr>
            <p:cNvPr id="570" name="Picture 14" descr=""/>
            <p:cNvPicPr/>
            <p:nvPr/>
          </p:nvPicPr>
          <p:blipFill>
            <a:blip r:embed="rId6"/>
            <a:stretch/>
          </p:blipFill>
          <p:spPr>
            <a:xfrm>
              <a:off x="635040" y="1209600"/>
              <a:ext cx="1436760" cy="15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16" descr=""/>
            <p:cNvPicPr/>
            <p:nvPr/>
          </p:nvPicPr>
          <p:blipFill>
            <a:blip r:embed="rId7"/>
            <a:stretch/>
          </p:blipFill>
          <p:spPr>
            <a:xfrm>
              <a:off x="636480" y="2986200"/>
              <a:ext cx="143532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8" descr=""/>
            <p:cNvPicPr/>
            <p:nvPr/>
          </p:nvPicPr>
          <p:blipFill>
            <a:blip r:embed="rId8"/>
            <a:stretch/>
          </p:blipFill>
          <p:spPr>
            <a:xfrm>
              <a:off x="652320" y="4826160"/>
              <a:ext cx="150840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Verdana"/>
              </a:rPr>
              <a:t>Activities completed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aft document (text and maps) for Phase 1 –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aft document (text and maps) for Phase 2 –    to be completed till the end of Apr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naire for stakeholders - comple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appeal for cooperation for: data/information provision, comments on draft documents, design of their vision about coastal ar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t of participants for first public consultation –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l above mentioned materials will be transmitted two weeks before the meeting 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609120" y="1213920"/>
            <a:ext cx="8177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st public consultation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with the major stakeholders at national and local leve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– end of April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ICZ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igh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evel Committe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eting - Constan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servations, additional data and information analyzed and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ndbook on Integrated Maritime Spatial Planning – delivered –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Second round of consultation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with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the major stakeholders at national and local level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 Phase 3 - 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July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resentation of the Pilot Project 1 and 2 reports to the interested   ministries,  including an outlook of the follow-up process - October  - Nov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000"/>
                </a:solidFill>
                <a:latin typeface="Verdana"/>
              </a:rPr>
              <a:t>Follow up Activities </a:t>
            </a:r>
            <a:endParaRPr b="0" lang="en-US" sz="28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7" descr=""/>
          <p:cNvPicPr/>
          <p:nvPr/>
        </p:nvPicPr>
        <p:blipFill>
          <a:blip r:embed="rId1"/>
          <a:stretch/>
        </p:blipFill>
        <p:spPr>
          <a:xfrm>
            <a:off x="466560" y="1046160"/>
            <a:ext cx="8248680" cy="53118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8000"/>
                </a:solidFill>
                <a:latin typeface="Verdana"/>
              </a:rPr>
              <a:t>  </a:t>
            </a:r>
            <a:r>
              <a:rPr b="1" lang="de-DE" sz="3200" spc="-1" strike="noStrike">
                <a:solidFill>
                  <a:srgbClr val="ff8000"/>
                </a:solidFill>
                <a:latin typeface="Verdana"/>
              </a:rPr>
              <a:t>Implementation</a:t>
            </a:r>
            <a:endParaRPr b="0" lang="en-US" sz="32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64304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INISTRY OF DEVELOPMENT, PUBLIC WORKS AND  HOUSING  INCLUDES  ON  ITS  2008 REGULATIONS  PROGRAMME  THE  FOLOWING ISSU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„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THODOLOGY  AND  FRAME  CONTENT  F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HE  ELABORATION  OF  THE  SPITAL  PLAN  FOR ROMANIAN  COASTAL  AREA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- MARINE  SPATIAL  PLANNING  IS  CONSIDERED NOT  AN  URGENT  TASK (so f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Date Placeholder 3"/>
          <p:cNvSpPr/>
          <p:nvPr/>
        </p:nvSpPr>
        <p:spPr>
          <a:xfrm>
            <a:off x="428760" y="6248520"/>
            <a:ext cx="850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inal Meeting Meeting Ravenna 27.03.08 – Valentina Dumitru - URBANPROI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6" descr="logo nou.jpg"/>
          <p:cNvPicPr/>
          <p:nvPr/>
        </p:nvPicPr>
        <p:blipFill>
          <a:blip r:embed="rId2"/>
          <a:stretch/>
        </p:blipFill>
        <p:spPr>
          <a:xfrm>
            <a:off x="8572680" y="6283440"/>
            <a:ext cx="5713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2:03:15Z</dcterms:created>
  <dc:creator>Angela Schultz-Zehden</dc:creator>
  <dc:description/>
  <dc:language>en-US</dc:language>
  <cp:lastModifiedBy>Monica Tache</cp:lastModifiedBy>
  <dcterms:modified xsi:type="dcterms:W3CDTF">2008-03-24T11:34:42Z</dcterms:modified>
  <cp:revision>85</cp:revision>
  <dc:subject/>
  <dc:title>INTERREG IIIB CADSES Project „PlanCoast“</dc:title>
</cp:coreProperties>
</file>