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D70-A267-48C6-A8D4-E39F28EC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DB2-5E6A-4EE8-991A-BF0B2B6D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F6E-E0AE-400A-A75E-55ACD999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2FB-D45F-44D8-A513-121A982C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B0B5-9D46-4FD2-AE7E-DA541CFF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A6C7-6D95-470F-A4AD-636892BB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74BE-7CA9-486C-808E-BFCE6E05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00E6-E7CD-42DB-AE2A-90E64949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00B6-CF1B-4F5F-BA71-B2398522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DDE4-AAC8-483C-9E93-B5F06860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B4F5-824B-4754-B29C-722943B9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CE9-E33F-4DF6-B9BC-9F7267B1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0630-69A5-4999-831C-C1823101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60AC-16E3-4230-A86B-E8256EF5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2455-DFA7-425F-9C7C-B9685BD0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5B0A-04D9-42FC-8021-4D545F9B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E92A-2F37-4911-87F0-9C1BA443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BFB-E0AE-4663-85FF-9A7A1E3E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BFE-A44B-4D88-A0DE-F46EC9FC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B23-9F71-488A-89DF-220F5CAA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989-4F16-429D-AB4D-7820F5EE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5C9-BD9C-414D-A40F-C56A3C50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E1B-1A9E-4A50-9566-67E70C04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24B-08ED-41EE-A2C3-FFBB4DC3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263A-F22A-40C7-9BAD-92E748236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41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5948280" y="0"/>
          <a:ext cx="3195720" cy="62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8280" y="0"/>
                    <a:ext cx="3195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051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ACED-55D9-48EB-BBAB-19490294E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41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948280" y="0"/>
          <a:ext cx="3195720" cy="62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8280" y="0"/>
                    <a:ext cx="3195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6246720"/>
            <a:ext cx="9144000" cy="60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4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Emilia-Romagna Region (PP6)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roject 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Katia Raffaelli, Luisa Perin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ria Romani, Maurizio S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PlanCoast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stanta, 31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May -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Jun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536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WP4 Pilot Project</a:t>
            </a:r>
            <a:br>
              <a:rPr sz="36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lisation and evaluation of the ICZM Strateg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ate of the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4495680"/>
            <a:ext cx="8142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mplementation of the ICZM GuideLines into the local scale in order to valuate the impacts of planning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tate of the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ing the cognitive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essment of interactions between thematic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matic maps/pape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 we’re applying a model to support decis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447920"/>
            <a:ext cx="87631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cona, Kick-off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8E8-49F3-4E01-B45F-88A828E2CE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th Ju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s from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xim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citation of future d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cisions, including doing no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heck of past deci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environmental and social indicators, but n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netisatio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 relative weight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for non-economical 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ns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man and environmental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namic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 the maximal demographic or industrial pressure can be calc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certainty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rough the sensitivity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portunity of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purating project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pecifying best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presented in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s from 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tial maxim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epend on initial and sustanabil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repeated several times, they identify the steady state condi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tal value of projects i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doge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cona, Kick-off confere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E99-7B08-4A7F-9C5A-1C6D2B4E9E5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th Ju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600200"/>
            <a:ext cx="7772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1 (A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m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agriculture vs.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2 (A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m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agriculture vs. urb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m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activity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. activity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’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.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ible to any number of sites (i = i,…,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ible to any number of activities (j=1,…,J), so also to several types of urb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dentification of sites, as well as of the alternative possible activities for each site, depend on the assumed time horizon (long vs. short-run) and on the observed spatial characteristics (resource availability, distance to roads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The structur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cona, Kick-off confere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AC8-9A70-4550-96C4-8CF75EF9612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th Ju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on and organ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hesistence of more than one activity in the sam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ome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cona, Kick-off confere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A1F-8F04-46CF-BB04-C73C85DB35D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th Ju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91780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ks for your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cona, Kick-off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785-82A9-456F-BB95-3E661D2400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th Ju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ologico</cp:lastModifiedBy>
  <cp:lastPrinted>2006-07-12T15:35:47Z</cp:lastPrinted>
  <dcterms:modified xsi:type="dcterms:W3CDTF">2007-06-01T06:36:44Z</dcterms:modified>
  <cp:revision>144</cp:revision>
  <dc:subject/>
  <dc:title>WP 4 Spatial Planning in ICZM in Action</dc:title>
</cp:coreProperties>
</file>