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0F69-15AD-402B-8D64-D68E79B58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38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8E06-DCD7-4BA1-A12C-E5FA42C0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38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43D3-7C9C-4165-AD23-EC25ACAB2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38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DF2E-1CF5-42A5-9387-2F6E7AE06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E49C-1073-487D-9B39-61BD8D1B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38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D827-9089-418A-837D-8E0F4774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38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0ACF-04C5-4CF7-BAD5-DEA1FB6B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38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6AB7-EF1A-47E6-A06E-0DAB2AC5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38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DA9F-5247-4DC6-AC42-DF299DF9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0A6C-3D11-44E2-B445-8DCAB833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38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BEF1-3968-4BA4-825A-589080F8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38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491E-F86F-477F-B441-0E3C60AA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38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D262-5CEB-4B56-B27D-7932B97C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38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A49B-EEC1-4216-B9D4-4F6D90AF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38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1531-3F2A-48D5-981F-66E952C4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38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1702-73FE-436C-B18F-776261EE4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38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282C9-0B2A-40C0-98B0-A1917028A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38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2E63-8881-4CA6-B452-1AAE9086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38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0B88-A224-41E9-B356-A24AD8F6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38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70F9-0B93-4BF1-9C3A-E391A379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18D4-C92F-4415-959C-E4D1D0B8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38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87F4-0884-43DE-9993-1D66930D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38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2F74-3F91-4150-94D0-ED8B2B08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38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D7AB-2FFE-4240-8013-3009971D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8C97-C6DD-494E-AF09-DACA0E690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41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5948280" y="0"/>
          <a:ext cx="3195720" cy="620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8280" y="0"/>
                    <a:ext cx="31957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90512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0661-C555-412B-A5CC-959A69BE1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41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948280" y="0"/>
          <a:ext cx="3195720" cy="620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8280" y="0"/>
                    <a:ext cx="31957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0" y="6246720"/>
            <a:ext cx="9144000" cy="609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905120" cy="714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4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Emilia-Romagna Region (PP6)</a:t>
            </a:r>
            <a:br>
              <a:rPr sz="3600"/>
            </a:b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Project Pro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Katia Raffaelli, Luisa Perini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aria Romani, Maurizio Sa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PlanCoast Co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ostanta, 31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May - 2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June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421000"/>
            <a:ext cx="8229600" cy="15364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WP4 Pilot Project</a:t>
            </a:r>
            <a:br>
              <a:rPr sz="36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alisation and evaluation of the ICZM Strategy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ate of the 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4495680"/>
            <a:ext cx="8142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mplementation of the ICZM GuideLines into the local scale in order to valuate the impacts of planning strate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tate of the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riting the cognitive pi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sessment of interactions between thematic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matic maps/pape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 we’re applying a model to support decision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447920"/>
            <a:ext cx="87631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cona, Kick-off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BE98-7CFF-4641-9B1F-E6D8485901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th Jul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1371600"/>
            <a:ext cx="8534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s from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xim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citation of future d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cisions, including doing not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heck of past deci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environmental and social indicators, but no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monetisatio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 relative weight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for non-economical indic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ons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uman and environmental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ynamic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o the maximal demographic or industrial pressure can be calcu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certainty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rough the sensitivity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pportunity of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purating project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pecifying best lo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presented in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s from a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artial maxim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depend on initial and sustanability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repeated several times, they identify the steady state condi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otal value of projects is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dogen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685800"/>
            <a:ext cx="7772400" cy="6094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cona, Kick-off conferen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B4D5-5244-40FD-871E-1C4084C13CF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th Jul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1600200"/>
            <a:ext cx="7772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 1 (A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m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agriculture vs.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 2 (A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m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agriculture vs. urban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m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activity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s. activity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’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s.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andible to any number of sites (i = i,…,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andible to any number of activities (j=1,…,J), so also to several types of urban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dentification of sites, as well as of the alternative possible activities for each site, depend on the assumed time horizon (long vs. short-run) and on the observed spatial characteristics (resource availability, distance to roads, 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685800"/>
            <a:ext cx="7772400" cy="6094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The structur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cona, Kick-off conferen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B4FF-F17E-4E4D-BA70-C25F0D4AE27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th Jul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160020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ion and organ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cohesistence of more than one activity in the sam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685800"/>
            <a:ext cx="7772400" cy="6094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Some 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cona, Kick-off conferen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E967-B63A-47B8-BFB8-7DE48060D70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th Jul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917800"/>
            <a:ext cx="77724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ks for your at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cona, Kick-off confere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3D8B-EECC-4B56-86FC-934699AF800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th Jul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ologico</cp:lastModifiedBy>
  <cp:lastPrinted>2006-07-12T15:35:47Z</cp:lastPrinted>
  <dcterms:modified xsi:type="dcterms:W3CDTF">2007-06-01T06:36:44Z</dcterms:modified>
  <cp:revision>144</cp:revision>
  <dc:subject/>
  <dc:title>WP 4 Spatial Planning in ICZM in Action</dc:title>
</cp:coreProperties>
</file>