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44280" y="609480"/>
            <a:ext cx="571356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2160" y="1739880"/>
            <a:ext cx="79218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>
              <a:spcBef>
                <a:spcPts val="601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8584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60488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2940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nd PlanCoast Conference, Constanta, Romania, 31 May - 2 June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4000" y="3968640"/>
            <a:ext cx="6480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0708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gional meeting of PlanCoast partners from Adriatic Sea region, Kotor, Montenegro, 26-27 March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0" y="6594480"/>
              <a:ext cx="914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nd PlanCoast Conference, Constanta, Romania, 30 May - 2 June 20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ap@gradst.hr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952880" y="304920"/>
          <a:ext cx="2590920" cy="97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04920"/>
                    <a:ext cx="25909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600200" y="266652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lanCoast National Reports in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riatic Regio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8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ko PREM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5675400"/>
          <a:ext cx="4495680" cy="87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5400"/>
                    <a:ext cx="449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-684720"/>
            <a:ext cx="457200" cy="48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78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 of PAP/RAC activiti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78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2" marL="1138320" indent="-219240">
              <a:spcBef>
                <a:spcPts val="451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ational Repor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current policy, procedures, legal basis, practice of marine spatial planning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patial planning system,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marine spatial planning,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ecommenda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8320" indent="-219240"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ynthesis Repor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spatial planning in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riatic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ommendation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ration of MSP in ICZM (Link to Transnational study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8320" indent="-219240">
              <a:spcBef>
                <a:spcPts val="451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Report on marine spatial plann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theoretica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nsight +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experienc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+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ommendation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Link to Transnational study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8320" indent="-219240"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onference on Marine Spatial Plann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3rd PlanCoast Meeting; Split, 20-21 September 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76920" y="380880"/>
          <a:ext cx="236196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880"/>
                    <a:ext cx="2361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0" y="5675400"/>
          <a:ext cx="4495680" cy="87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5400"/>
                    <a:ext cx="449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456760" y="-1058040"/>
            <a:ext cx="77760" cy="76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National Reports in the Adriatic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  Executive summary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B   General description of the spatial planning system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in the country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   Specificities of spatial planning in coastal zone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   ICZM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E   Marine Spatial Planning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   Linkages to International Policy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   Annexe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-285840" algn="just">
              <a:spcBef>
                <a:spcPts val="224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5   Recommendations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76680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-ordination with partners and consultant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ents/suggestions on draft/final reports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876920" y="380880"/>
          <a:ext cx="236196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880"/>
                    <a:ext cx="2361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5675400"/>
          <a:ext cx="4495680" cy="87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5400"/>
                    <a:ext cx="449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880" y="-2451240"/>
            <a:ext cx="76320" cy="76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rogress on National Report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876920" y="380880"/>
          <a:ext cx="236196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880"/>
                    <a:ext cx="2361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5675400"/>
          <a:ext cx="4495680" cy="87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5400"/>
                    <a:ext cx="449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lanCoast%20progress" descr=""/>
          <p:cNvPicPr/>
          <p:nvPr/>
        </p:nvPicPr>
        <p:blipFill>
          <a:blip r:embed="rId5"/>
          <a:stretch/>
        </p:blipFill>
        <p:spPr>
          <a:xfrm>
            <a:off x="4267080" y="2438280"/>
            <a:ext cx="4876920" cy="3284640"/>
          </a:xfrm>
          <a:prstGeom prst="rect">
            <a:avLst/>
          </a:prstGeom>
          <a:ln w="0">
            <a:noFill/>
          </a:ln>
        </p:spPr>
      </p:pic>
      <p:pic>
        <p:nvPicPr>
          <p:cNvPr id="145" name="Kotor%20CG%20%20021" descr=""/>
          <p:cNvPicPr/>
          <p:nvPr/>
        </p:nvPicPr>
        <p:blipFill>
          <a:blip r:embed="rId6"/>
          <a:stretch/>
        </p:blipFill>
        <p:spPr>
          <a:xfrm>
            <a:off x="0" y="2438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6" name="Kotor1" descr=""/>
          <p:cNvPicPr/>
          <p:nvPr/>
        </p:nvPicPr>
        <p:blipFill>
          <a:blip r:embed="rId7"/>
          <a:stretch/>
        </p:blipFill>
        <p:spPr>
          <a:xfrm>
            <a:off x="0" y="2457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7" name="Kotor%202" descr=""/>
          <p:cNvPicPr/>
          <p:nvPr/>
        </p:nvPicPr>
        <p:blipFill>
          <a:blip r:embed="rId8"/>
          <a:stretch/>
        </p:blipFill>
        <p:spPr>
          <a:xfrm>
            <a:off x="0" y="24192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48" name="Kotor%203" descr=""/>
          <p:cNvPicPr/>
          <p:nvPr/>
        </p:nvPicPr>
        <p:blipFill>
          <a:blip r:embed="rId9"/>
          <a:stretch/>
        </p:blipFill>
        <p:spPr>
          <a:xfrm>
            <a:off x="0" y="240048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49" name="Kotor%204" descr=""/>
          <p:cNvPicPr/>
          <p:nvPr/>
        </p:nvPicPr>
        <p:blipFill>
          <a:blip r:embed="rId10"/>
          <a:stretch/>
        </p:blipFill>
        <p:spPr>
          <a:xfrm>
            <a:off x="0" y="240048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50" name="Pik" descr=""/>
          <p:cNvPicPr/>
          <p:nvPr/>
        </p:nvPicPr>
        <p:blipFill>
          <a:blip r:embed="rId11"/>
          <a:stretch/>
        </p:blipFill>
        <p:spPr>
          <a:xfrm>
            <a:off x="7162920" y="4800600"/>
            <a:ext cx="3618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880" y="-2451240"/>
            <a:ext cx="76320" cy="76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inalisation of National Reports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!!!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Deadlin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reparation of a Synthesis Report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Editing and publishing of National Reports/Synthesi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Report on marine spatial planning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-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theoretica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insight +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experiences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, +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recommendations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Link to Transnational study)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290520" indent="-290520"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Organisation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of the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3rd PlanCoast Conference;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290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plit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20-21 September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2007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!!!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76920" y="380880"/>
          <a:ext cx="236196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880"/>
                    <a:ext cx="2361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5675400"/>
          <a:ext cx="4495680" cy="87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5400"/>
                    <a:ext cx="449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Split%20-low" descr=""/>
          <p:cNvPicPr/>
          <p:nvPr/>
        </p:nvPicPr>
        <p:blipFill>
          <a:blip r:embed="rId5"/>
          <a:stretch/>
        </p:blipFill>
        <p:spPr>
          <a:xfrm>
            <a:off x="1447920" y="5029200"/>
            <a:ext cx="754380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28560" y="3096720"/>
            <a:ext cx="8515440" cy="32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EP Mediterranean Action Pla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iority Actions Program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egional Activity Centre (PAP/RA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Kraj Sv. Ivana 1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1000 Split, Croat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el: + (385) (21) 340 47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-mail: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ap@gradst.h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www.pap-thecoastcentre.or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06:36:42Z</dcterms:created>
  <dc:creator>Marko Prem</dc:creator>
  <dc:description/>
  <dc:language>en-US</dc:language>
  <cp:lastModifiedBy>Marko Prem</cp:lastModifiedBy>
  <cp:lastPrinted>2007-02-22T08:38:38Z</cp:lastPrinted>
  <dcterms:modified xsi:type="dcterms:W3CDTF">2007-05-31T13:52:00Z</dcterms:modified>
  <cp:revision>405</cp:revision>
  <dc:subject/>
  <dc:title>No Slide Title</dc:title>
</cp:coreProperties>
</file>