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6624720"/>
            <a:ext cx="360" cy="146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56F3-F86B-4293-8487-F3AD1B5B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5C4-40DF-429F-B225-8CDCACED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483-2A07-4260-A929-C3B387CE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F85-0658-451B-9E4A-402E4DEF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89C-ED0B-4FDE-A69C-4219C8DB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652-39D8-4A92-B516-C2D4C428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699-15FB-432C-9E19-D22D0A82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5AE-C99E-4A93-90B6-77A46120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7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6FE-DA06-4091-BFE2-28887397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E70-8490-4B33-85AB-3AEB5557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0C9-43B0-455C-92F7-BC8B565B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10A-1D64-4759-A5F0-9BF4B190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15AB3-D761-42EC-87A0-6FB8D8BEC5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7920" y="2558880"/>
            <a:ext cx="640080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ROJ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INTERREG III B CADS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„PLANCOA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2438280"/>
            <a:ext cx="60958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3581280"/>
            <a:ext cx="60958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9680" y="5624640"/>
            <a:ext cx="293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onstanta 31.05 - 02.06.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8880" y="5214960"/>
            <a:ext cx="846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Marcin Grzybiński – Voivodeship Office for Spatial Panning in Slu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54040" y="163512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Analysis of recorded spatial conflicts and  various proposals submited by local administr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Analysis of possibility to make draft of spatial plan (formal conditions, possessed and possible to the obtain planners materials (maps, ecology elaboration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Essential conditionings: the environment analysis, the cultural heritage, investings, local limitation, needs of the environmental and nature protection, economic potenti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litical conditionings: public and commune interest, possibilities of cooperation and continuation of begun works;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4160" y="1255680"/>
            <a:ext cx="50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Tasks and Proble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0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8640" y="2355840"/>
            <a:ext cx="8458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The elimination of inexpedient or impossible proposals in present time and conditioning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The preparation „of the ranking” of analysed proposa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The preparation of general ideas of chosen conflicts solution basing on spatial pla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The preparation of the worksho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Debate and the final selection areas for which spatial plans will be ma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0880" y="1776240"/>
            <a:ext cx="50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Tasks and Proble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1680" y="2170080"/>
            <a:ext cx="8458200" cy="32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8000"/>
              </a:buClr>
              <a:buSzPct val="200000"/>
              <a:buFont typeface="Trebuchet MS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Co-operation with communes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8000"/>
              </a:buClr>
              <a:buSzPct val="200000"/>
              <a:buFont typeface="Trebuchet MS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Conference and workshops attendan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1001"/>
              </a:spcBef>
              <a:buClr>
                <a:srgbClr val="008000"/>
              </a:buClr>
              <a:buSzPct val="200000"/>
              <a:buFont typeface="Trebuchet MS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pots for drafts of spatial plan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1960" y="16732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Main problems</a:t>
            </a: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9440" y="2332080"/>
            <a:ext cx="845820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SzPct val="200000"/>
              <a:buFont typeface="Trebuchet MS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raft of spatial plan – Ustka commune - Dębin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SzPct val="200000"/>
              <a:buFont typeface="Trebuchet MS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raft of spatial plan – Ustka commune – Modła L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73000" y="1795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Choosen pilot projects spo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20257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Websi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6360" y="3254400"/>
            <a:ext cx="81532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rebuchet MS"/>
              </a:rPr>
              <a:t>WWW.PLANCOAST.P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0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20720" y="1079640"/>
            <a:ext cx="755964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40000" y="300024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rebuchet MS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92280" y="2879640"/>
            <a:ext cx="60958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92280" y="3641760"/>
            <a:ext cx="609588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6200" y="55990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MARCIN GRZYBINSKI - PO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0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renta</cp:lastModifiedBy>
  <dcterms:modified xsi:type="dcterms:W3CDTF">2007-06-01T15:35:59Z</dcterms:modified>
  <cp:revision>1</cp:revision>
  <dc:subject/>
  <dc:title>Slide 1</dc:title>
</cp:coreProperties>
</file>