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6624720"/>
            <a:ext cx="360" cy="146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35B-F984-4D80-9245-0076F94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4ED-E52C-4498-95A6-C6E98FF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8B6-C13F-4EAC-9D29-5B656CED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D8A-CB90-4867-A15B-8FDC4412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70A-6B6B-4A56-BDE1-2D4AC5E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38C-A18D-4060-97FD-DF00FE9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001-049C-4712-92A4-3CD3957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230-C8C9-41EB-87EE-08B5218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33B-700A-43B5-8586-E1A92777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AFA-ECAA-43EC-A496-16611E2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AB0-4D8D-4B33-962B-D3EB625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C3C-41B0-4FCD-B595-E3C8D1A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05C3-FAED-44FF-AD5A-CD42F17E6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558880"/>
            <a:ext cx="6400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INTERREG III B CADS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„PLANCOA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43828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58128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9680" y="5624640"/>
            <a:ext cx="293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onstanta 31.05 - 02.06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8880" y="5214960"/>
            <a:ext cx="846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Marcin Grzybiński – Voivodeship Office for Spatial Panning in Slu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4040" y="16351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nalysis of recorded spatial conflicts and  various proposals submited by local administr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nalysis of possibility to make draft of spatial plan (formal conditions, possessed and possible to the obtain planners materials (maps, ecology elaboration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Essential conditionings: the environment analysis, the cultural heritage, investings, local limitation, needs of the environmental and nature protection, economic poten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litical conditionings: public and commune interest, possibilities of cooperation and continuation of begun works;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4160" y="1255680"/>
            <a:ext cx="50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Tasks and Probl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235584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elimination of inexpedient or impossible proposals in present time and conditionin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„of the ranking” of analysed propos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of general ideas of chosen conflicts solution basing on spatial pla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of the worksho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Debate and the final selection areas for which spatial plans will be ma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0880" y="1776240"/>
            <a:ext cx="50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Tasks and Probl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680" y="2170080"/>
            <a:ext cx="8458200" cy="32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-operation with communes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nference and workshops attend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ots for drafts of spatial plan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1960" y="16732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Main problems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9440" y="2332080"/>
            <a:ext cx="845820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aft of spatial plan – Ustka commune - Dębin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aft of spatial plan – Ustka commune – Modła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3000" y="1795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Choosen pilot projects spo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2025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Webs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360" y="3254400"/>
            <a:ext cx="81532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rebuchet MS"/>
              </a:rPr>
              <a:t>WWW.PLANCOAST.P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755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0000" y="30002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rebuchet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2280" y="287964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2280" y="3641760"/>
            <a:ext cx="60958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6200" y="5599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MARCIN GRZYBINSKI - PO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enta</cp:lastModifiedBy>
  <dcterms:modified xsi:type="dcterms:W3CDTF">2007-06-01T15:35:59Z</dcterms:modified>
  <cp:revision>1</cp:revision>
  <dc:subject/>
  <dc:title>Slide 1</dc:title>
</cp:coreProperties>
</file>