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48B-2759-4EC8-A7EE-C94D9FB6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1CD-DC10-49FE-8783-A9A2A72E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B7A-5CAF-4594-8507-37505E9F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2E9-FE66-4900-81FF-4804FBBD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A0D-8BE3-40D4-B8FC-7C9835C4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D3C-BF82-4999-859F-ACEB7159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D17-DD86-491E-9238-AD8374E8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9AB-DBA1-4574-AF54-67CBFE30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772-D463-42B3-B87D-1C721DA6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797-4143-47EA-8C75-92045AB4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B0D-2840-475F-8B55-95F79690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90D-413E-440F-B6A9-83DE2F97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7756-9B43-4F12-85DC-F900001CE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4640"/>
            <a:ext cx="125892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VZEICHE" descr=""/>
          <p:cNvPicPr/>
          <p:nvPr/>
        </p:nvPicPr>
        <p:blipFill>
          <a:blip r:embed="rId1"/>
          <a:srcRect l="1390" t="3497" r="4864" b="3497"/>
          <a:stretch/>
        </p:blipFill>
        <p:spPr>
          <a:xfrm>
            <a:off x="1403280" y="40464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84360" y="426960"/>
            <a:ext cx="665964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00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3760" y="295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05160" y="106056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German Association for Housing, Urban and Spat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40976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5589720"/>
            <a:ext cx="410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Kerstin Gr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lanCoast Conference in Constanta 31.05.-02.06.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79600" y="5978520"/>
            <a:ext cx="1800000" cy="595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5889600"/>
            <a:ext cx="13320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04640"/>
            <a:ext cx="125892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DVZEICHE" descr=""/>
          <p:cNvPicPr/>
          <p:nvPr/>
        </p:nvPicPr>
        <p:blipFill>
          <a:blip r:embed="rId1"/>
          <a:srcRect l="1390" t="3497" r="4864" b="3497"/>
          <a:stretch/>
        </p:blipFill>
        <p:spPr>
          <a:xfrm>
            <a:off x="1403280" y="40464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84360" y="426960"/>
            <a:ext cx="665964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400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23760" y="295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05160" y="106056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German Association for Housing, Urban and Spat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2060640"/>
            <a:ext cx="5292720" cy="315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2133720"/>
            <a:ext cx="2664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ing as the association as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deral programme for transnational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blic relation (Flyer, Newsletter, Brochure, event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litical lobb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404640"/>
            <a:ext cx="125892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DVZEICHE" descr=""/>
          <p:cNvPicPr/>
          <p:nvPr/>
        </p:nvPicPr>
        <p:blipFill>
          <a:blip r:embed="rId1"/>
          <a:srcRect l="1390" t="3497" r="4864" b="3497"/>
          <a:stretch/>
        </p:blipFill>
        <p:spPr>
          <a:xfrm>
            <a:off x="1403280" y="40464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484360" y="426960"/>
            <a:ext cx="665964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400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3760" y="295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05160" y="106056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German Association for Housing, Urban and Spat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03280" y="1557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deral programme for transnational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2349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2349360"/>
            <a:ext cx="42480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nning from 2003 –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gether 24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more than 30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programm areas (BSR, CADSES, Alpine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lume 4, 425 Mio. 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ional focus on Eastern part of Germany and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404640"/>
            <a:ext cx="125892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DVZEICHE" descr=""/>
          <p:cNvPicPr/>
          <p:nvPr/>
        </p:nvPicPr>
        <p:blipFill>
          <a:blip r:embed="rId1"/>
          <a:srcRect l="1390" t="3497" r="4864" b="3497"/>
          <a:stretch/>
        </p:blipFill>
        <p:spPr>
          <a:xfrm>
            <a:off x="1403280" y="40464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84360" y="426960"/>
            <a:ext cx="665964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00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23760" y="295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05160" y="106056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German Association for Housing, Urban and Spat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1557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nd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2492280"/>
            <a:ext cx="719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national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rganisation of the conference in 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rther development of the PlanCoast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404640"/>
            <a:ext cx="125892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DVZEICHE" descr=""/>
          <p:cNvPicPr/>
          <p:nvPr/>
        </p:nvPicPr>
        <p:blipFill>
          <a:blip r:embed="rId1"/>
          <a:srcRect l="1390" t="3497" r="4864" b="3497"/>
          <a:stretch/>
        </p:blipFill>
        <p:spPr>
          <a:xfrm>
            <a:off x="1403280" y="40464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484360" y="426960"/>
            <a:ext cx="665964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400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23760" y="295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05160" y="106056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German Association for Housing, Urban and Spat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1844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national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2276640"/>
            <a:ext cx="518472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le of spati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ategies, chances, challenges, weakness and best practices of ICZM in the Baltic, Adriatic and Black Sea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ing the already existing regional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cription of the different spatial planning systems in the participating countries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cribing the problems of spatial development in coastal zones (ICZ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04640"/>
            <a:ext cx="125892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VZEICHE" descr=""/>
          <p:cNvPicPr/>
          <p:nvPr/>
        </p:nvPicPr>
        <p:blipFill>
          <a:blip r:embed="rId1"/>
          <a:srcRect l="1390" t="3497" r="4864" b="3497"/>
          <a:stretch/>
        </p:blipFill>
        <p:spPr>
          <a:xfrm>
            <a:off x="1403280" y="40464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484360" y="426960"/>
            <a:ext cx="6659640" cy="863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00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23760" y="295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05160" y="1060560"/>
            <a:ext cx="64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German Association for Housing, Urban and Spat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3125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03280" y="5589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hank you for your attentio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7:17:31Z</dcterms:created>
  <dc:creator> </dc:creator>
  <dc:description/>
  <dc:language>en-US</dc:language>
  <cp:lastModifiedBy> </cp:lastModifiedBy>
  <dcterms:modified xsi:type="dcterms:W3CDTF">2007-06-01T10:30:15Z</dcterms:modified>
  <cp:revision>8</cp:revision>
  <dc:subject/>
  <dc:title>Folie 1</dc:title>
</cp:coreProperties>
</file>