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EC6-B23C-4724-A13C-772826E9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EE4-CD54-4B3D-BA3A-91E69A1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3F4-25DA-4004-B803-FB7554E0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CA0-0122-4482-A8F0-6981E4EB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172-1355-48B9-B733-31399E95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C52-00F2-4A6B-A58B-828831A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2D9-C278-428D-B205-C14DC961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362-5FE1-4C88-8245-1334875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6FC-99EA-488C-8862-562078AD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784-733A-4B27-8E6F-C47E315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565-E1CF-476F-A0A7-C69DA070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2BC-7E95-44E4-A6EB-A2B0EF6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43C-4C6D-4792-9BA1-45D5B47D7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40976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5589720"/>
            <a:ext cx="41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erstin Gr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lanCoast Conference in Constanta 31.05.-02.06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9600" y="5978520"/>
            <a:ext cx="1800000" cy="595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5889600"/>
            <a:ext cx="13320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5292720" cy="315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2133720"/>
            <a:ext cx="2664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as the association as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deral programme for transnational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blic relation (Flyer, Newsletter, Brochure, ev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itical lobb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1557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deral programme for transnational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349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2349360"/>
            <a:ext cx="4248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ning from 2003 –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gether 24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more than 30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programm areas (BSR, CADSES, Alpine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ume 4, 425 Mio.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ional focus on Eastern part of Germany and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nd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2492280"/>
            <a:ext cx="719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n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ation of the conference in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rther development of the PlanCoas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844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n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276640"/>
            <a:ext cx="5184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e of spati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tegies, chances, challenges, weakness and best practices of ICZM in the Baltic, Adriatic and Black Sea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the already existing regional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cription of the different spatial planning systems in the participating countries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cribing the problems of spatial development in coastal zones (ICZ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312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3280" y="5589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for your attent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7:17:31Z</dcterms:created>
  <dc:creator> </dc:creator>
  <dc:description/>
  <dc:language>en-US</dc:language>
  <cp:lastModifiedBy> </cp:lastModifiedBy>
  <dcterms:modified xsi:type="dcterms:W3CDTF">2007-06-01T10:30:15Z</dcterms:modified>
  <cp:revision>8</cp:revision>
  <dc:subject/>
  <dc:title>Folie 1</dc:title>
</cp:coreProperties>
</file>