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0ED-C18B-48B8-8DF2-50B8FBF6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912-E178-458B-8215-0B12FF44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995-97EA-4570-92C4-DCBD7D94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BB8-0B54-42AD-BE6E-F187F61D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06A-F5EA-4F4A-B5AE-B6425182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E4E-D5D6-4D60-89DA-47AD2F8C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411-3345-4B55-8448-E8652909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B1D-5254-4D45-B863-0FD68748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70A-E896-43FB-BA8A-9F57B673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30D-8EB3-46FB-9924-38B7110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21B-7DAA-4B0F-9696-B6DD352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F79-7A25-49BF-BED5-4EC38745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5105-E2C1-4A17-A093-1EBE2418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nsi.bg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nsi.bg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conference of the project</a:t>
            </a:r>
            <a:br>
              <a:rPr sz="2400"/>
            </a:br>
            <a:r>
              <a:rPr b="1" lang="ro-RO" sz="3200" spc="-1" strike="noStrike">
                <a:solidFill>
                  <a:srgbClr val="cc0000"/>
                </a:solidFill>
                <a:latin typeface="Arial"/>
              </a:rPr>
              <a:t>PlanCoast – Spatial planning in Coastal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a Hotel - Eforie Nord,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May – 2 Jun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1197000"/>
            <a:ext cx="2447640" cy="11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5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incomes of th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Hotels and Restauran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ector from the seaside represente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7,3%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from the incomes of this sector in Romania (Source: INCDT study, March 200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ver 42% of the existing accommodation capacity (at 31 July) is located in seaside resort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weight of tourist flows in the seaside reported to Romania is much lower (13% for arrivals and 21% for overnight sta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 have a decrease of tourist flows in the seaside in the last years both in terms of arrivals (-9.1%) and overnight stays (-13.6%) – 2006 referring on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Romania vs. Bulgaria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lysis of coastal tourism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1700280"/>
          <a:ext cx="4679640" cy="3997080"/>
        </p:xfrm>
        <a:graphic>
          <a:graphicData uri="http://schemas.openxmlformats.org/drawingml/2006/table">
            <a:tbl>
              <a:tblPr/>
              <a:tblGrid>
                <a:gridCol w="2376360"/>
                <a:gridCol w="1114560"/>
                <a:gridCol w="1188720"/>
              </a:tblGrid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ÂNI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GARI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mmodation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establish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bed - pl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2.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.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vailable bed - nigh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479.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434.8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number of  open day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ss calculation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urist fl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ivals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6.8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65.0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65.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night stay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15.9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56.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7.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97.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332640" y="1413000"/>
            <a:ext cx="34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astal tourism in figures in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700280"/>
            <a:ext cx="385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lgarian coast has an accommodation capacity with 30% higher than the Romanian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number of open days of accommodation establishments is only 85 in Romania compared with 160 in 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tourists are modestly represented in Romania (10,3%) compared with Bulgari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70,6%) – Bulgar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more foreign tourists on the coastal resorts than Romani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ume of overnight stays is alm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times less than in Bulgarian seaside res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66100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ce: for Rom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âni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Institute of Statistic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Frecventarea structurilor de primire turistică cu functiuni de cazare în anul 200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gari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ational Statistical Institute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si.bg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cessed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6237360"/>
            <a:ext cx="28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ata for Consta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ţ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u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**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for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Varn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Burg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6237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Romania vs. Bulgaria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lysis of coastal tourism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2384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427640" y="2349360"/>
          <a:ext cx="4537080" cy="3130560"/>
        </p:xfrm>
        <a:graphic>
          <a:graphicData uri="http://schemas.openxmlformats.org/drawingml/2006/table">
            <a:tbl>
              <a:tblPr/>
              <a:tblGrid>
                <a:gridCol w="2200320"/>
                <a:gridCol w="1133280"/>
                <a:gridCol w="1203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ÂNIA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GARIA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mmodation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establish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bed - pl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vailable bed - nigh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urist fl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ivals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night stay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6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415040" y="2060640"/>
            <a:ext cx="436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weight of coastal tourism in Romania in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773360"/>
            <a:ext cx="424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centration of the accommodation capacity on the coastal area is much stronger in Bulgaria than it is in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e about tourists f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manian coastal area “collect” only 13% of the arrivals of tourists and over 20% of the overnight stays in Romania, while Bulgaria registers figures three times hig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foreign tourists have a low weight in total foreign tourists of Romani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6%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with 57% for 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544500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ce: for Rom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âni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Institute of Statistics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Frecventarea structurilor de primire turistică cu functiuni de cazare în anul 200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gari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ational Statistical Institute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si.bg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cessed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5950080"/>
            <a:ext cx="28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ata for Consta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ţ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u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**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for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Varn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Burg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595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amaia vs. Alb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924360" y="2924280"/>
          <a:ext cx="5040360" cy="3138480"/>
        </p:xfrm>
        <a:graphic>
          <a:graphicData uri="http://schemas.openxmlformats.org/drawingml/2006/table">
            <a:tbl>
              <a:tblPr/>
              <a:tblGrid>
                <a:gridCol w="2559240"/>
                <a:gridCol w="118584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MA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mmodation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establish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bed - pl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urist fl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ivals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.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8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.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foreign tourists arriv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night stay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tot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14.8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.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.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6.4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eign tourists overnight st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851280" y="6021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rce: for Roma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nia, Constanţ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ounty Statistical Division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Bulgaria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 provided upon our request 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om Bulgarian National Statistical Institut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process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9700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parison is given by a sort of similar accommodation capacities, but also by an excessive media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maia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gest seaside resort in Romani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-place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ena – the third seaside resort of Bulgaria in terms of accommodation capacity afte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lancev Briag – Sunny Beach (47.39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-place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Zlatni Piasatsi - Golden Sands (38.38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-place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213000"/>
            <a:ext cx="2879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doxically, Mamaia has tourist flows superior to Alb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theless, Mamaia has three times less foreign tourists than Albena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maia is focused on domestic tourism while Albena is a foreign tourists oriented re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ania could have an advantage comparing to Bulgaria taking into account that it has not a “concentrated tourism” in the coastal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aside product has to b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the one of competing countries by combining the component of cultural tourism with the one of tourism in Danube 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suggest that Romania should have a sustainable development of coastal tourism, according with the principles of integrated management of coastal are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believe the coastal tourism will continue to be one of the major tourism products of 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Thank you</a:t>
            </a:r>
            <a:r>
              <a:rPr b="1" lang="ro-RO" sz="32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19280" y="3789360"/>
          <a:ext cx="596880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89360"/>
                    <a:ext cx="59688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87280" y="2349000"/>
            <a:ext cx="6553440" cy="1150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al tourism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component of Romanian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720" y="5229360"/>
            <a:ext cx="188316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Janos TALPA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91240" y="5229360"/>
            <a:ext cx="21589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risti FRENŢ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rism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411280" y="5084640"/>
          <a:ext cx="4038840" cy="96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5084640"/>
                    <a:ext cx="40388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issues in the development of coastal tourism in Ro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stal area is a major tourist destination for Romani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strategic position from the geopolitical point of view (betwee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ur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A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able natural conditions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wate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che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ne bio-climat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radition in tourism: alongside the old resorts such a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Mamaia, Mang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forie S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w decades ago there have been developed new resorts, most of them having names drawn upon ancient mythology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Oli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Neptun, Jupiter, Venus, Sa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stal tourism is one of the main products with market opportunities (according with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 plan for tourism development in Roman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raft version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2007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coastal tourism?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still a foreign tourism market for this type of product (Scandinavia, Germany, Russia – the research commissioned by National Tourism Authority from Romania in March 2006 proved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tradition of Romanians to go to the se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crease of week-end tou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ac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charest – Constanţa motorway (the existing functional part Bucharest – Cernavodă 150 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anţa Airport : starting with this year the new stipulated air flights: Iaşi – Constanţa, Timişoara – Constanţa, Cluj – Constanţ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lway Bucharest – Constanţa – Mang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coastal tourism?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ility to combine the coastal tourism with cultural and religious tourism from Dobroge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ximity of Danube Delta (possibility to have cruises in Danube Del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ntration of accommodation facilities on the coastal zone (over 42% of existing bed places in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ches certified by Blue-Flag program (Mamaia, Eforie Nord, Neptun, Venus, Satur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investment (e.g. Mamaia) and private (up-grading and construction of accommodation facilities) in the last few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crease of demand for residential buildings in the coastal area (residential tour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mpetition from Bulgaria, Greece, Turkey and even Croat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 season (2-3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low access by sea (the lack of some connections with ferryboats on the 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leisure facilities excepting sun-bath (the lack of a real entertainment centres in tourism res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ng term, the process of coastal 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gration of labour force abroad and low quality of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ck of cooperation between different stakeholders on tourism at resor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creasing demand of Romanians for holidays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erspe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on of Tourist Information Offices in all res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leisure facilities to provide the extension of tourist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on of Public-Private Partnerships at resor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urist promotion (marketing) of coastal areas integrated with Dobrogea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sion of the tourism policies within the framework of the integrate management of coast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stics on costal tou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Institute of Research Development in Touris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9:27:40Z</dcterms:created>
  <dc:creator>ADMIN</dc:creator>
  <dc:description/>
  <dc:language>en-US</dc:language>
  <cp:lastModifiedBy>laurenta</cp:lastModifiedBy>
  <dcterms:modified xsi:type="dcterms:W3CDTF">2007-05-31T15:17:48Z</dcterms:modified>
  <cp:revision>26</cp:revision>
  <dc:subject/>
  <dc:title>Conferinţa proiectului PlanCoast – Spatial planning in Coastal Zones</dc:title>
</cp:coreProperties>
</file>