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C1D-D9A3-4F14-9089-56CC2A21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494-6A6C-45DD-A3D7-B3E8BCB7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C9F-D210-4005-BF1A-411345E3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3CD-1C05-4862-8EB1-380B8F83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12D-5515-4088-9894-8D43AFFC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D62A-054B-4E9C-AFD5-7EADBCE3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41FC-F3C3-40C3-9720-8144F57A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44E-1A3A-488F-B796-E103CFD0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652-341D-44AD-AA2B-1EE84A18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E15-826F-41F2-AD0C-BF642621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23B-DEC7-405E-BFB9-E72A59EF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8032-E4F9-49E6-A67D-4BBF9A3B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40FE-ED37-4268-9640-54053B2CB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nsi.bg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nsi.bg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e conference of the project</a:t>
            </a:r>
            <a:br>
              <a:rPr sz="2400"/>
            </a:br>
            <a:r>
              <a:rPr b="1" lang="ro-RO" sz="3200" spc="-1" strike="noStrike">
                <a:solidFill>
                  <a:srgbClr val="cc0000"/>
                </a:solidFill>
                <a:latin typeface="Arial"/>
              </a:rPr>
              <a:t>PlanCoast – Spatial planning in Coastal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a Hotel - Eforie Nord, Ro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May – 2 June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72360" y="1197000"/>
            <a:ext cx="2447640" cy="111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227640" y="333360"/>
            <a:ext cx="25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liminary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incomes of the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Hotels and Restauran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sector from the seaside represented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7,3%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from the incomes of this sector in Romania (Source: INCDT study, March 200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ver 42% of the existing accommodation capacity (at 31 July) is located in seaside resort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weight of tourist flows in the seaside reported to Romania is much lower (13% for arrivals and 21% for overnight stay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e have a decrease of tourist flows in the seaside in the last years both in terms of arrivals (-9.1%) and overnight stays (-13.6%) – 2006 referring on 20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Romania vs. Bulgaria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nalysis of coastal tourism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1700280"/>
          <a:ext cx="4679640" cy="3997080"/>
        </p:xfrm>
        <a:graphic>
          <a:graphicData uri="http://schemas.openxmlformats.org/drawingml/2006/table">
            <a:tbl>
              <a:tblPr/>
              <a:tblGrid>
                <a:gridCol w="2376360"/>
                <a:gridCol w="1114560"/>
                <a:gridCol w="1188720"/>
              </a:tblGrid>
              <a:tr h="32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MÂNIA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GARIA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mmodation capa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establish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bed - pla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2.6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.7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available bed - nigh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479.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434.8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number of  open day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ss calculation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urist flo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ivals (tot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6.8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65.0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ign tourists arriv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7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65.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 foreign tourists arriv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night stay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tot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15.9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056.3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ign tourists overnight st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7.7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97.5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ign tourists overnight st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332640" y="1413000"/>
            <a:ext cx="342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astal tourism in figures in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2720" y="1700280"/>
            <a:ext cx="3851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ulgarian coast has an accommodation capacity with 30% higher than the Romanian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verage number of open days of accommodation establishments is only 85 in Romania compared with 160 in Bul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eign tourists are modestly represented in Romania (10,3%) compared with Bulgaria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70,6%) – Bulgar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1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 more foreign tourists on the coastal resorts than Romania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olume of overnight stays is almos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times less than in Bulgarian seaside res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661000"/>
            <a:ext cx="453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ce: for Rom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ânia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ional Institute of Statistics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Frecventarea structurilor de primire turistică cu functiuni de cazare în anul 200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Bulgari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ational Statistical Institute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o-RO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si.bg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rocessed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6237360"/>
            <a:ext cx="28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ata for Constan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ţ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un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**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for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Varn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Burg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distri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6237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Romania vs. Bulgaria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nalysis of coastal tourism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2384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427640" y="2349360"/>
          <a:ext cx="4537080" cy="3130560"/>
        </p:xfrm>
        <a:graphic>
          <a:graphicData uri="http://schemas.openxmlformats.org/drawingml/2006/table">
            <a:tbl>
              <a:tblPr/>
              <a:tblGrid>
                <a:gridCol w="2200320"/>
                <a:gridCol w="1133280"/>
                <a:gridCol w="12034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MÂNIA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GARIA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mmodation capa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establish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bed - pla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2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available bed - nigh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urist flo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ivals (tot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ign tourists arriv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night stay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tot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3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ign tourists overnight st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6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4415040" y="2060640"/>
            <a:ext cx="436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weight of coastal tourism in Romania in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773360"/>
            <a:ext cx="424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ncentration of the accommodation capacity on the coastal area is much stronger in Bulgaria than it is in Ro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ame about tourists f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manian coastal area “collect” only 13% of the arrivals of tourists and over 20% of the overnight stays in Romania, while Bulgaria registers figures three times hig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foreign tourists have a low weight in total foreign tourists of Romani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(6%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d with 57% for Bul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5445000"/>
            <a:ext cx="453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ce: for Rom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ânia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ional Institute of Statistics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Frecventarea structurilor de primire turistică cu functiuni de cazare în anul 200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Bulgari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ational Statistical Institute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o-RO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si.bg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rocessed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7640" y="5950080"/>
            <a:ext cx="28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ata for Constan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ţ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un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**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for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Varn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Burg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distri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59500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Mamaia vs. Alb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924360" y="2924280"/>
          <a:ext cx="5040360" cy="3138480"/>
        </p:xfrm>
        <a:graphic>
          <a:graphicData uri="http://schemas.openxmlformats.org/drawingml/2006/table">
            <a:tbl>
              <a:tblPr/>
              <a:tblGrid>
                <a:gridCol w="2559240"/>
                <a:gridCol w="1185840"/>
                <a:gridCol w="129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MA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mmodation capa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establish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bed - pla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.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urist flo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ivals (tot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.7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.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ign tourists arriv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8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.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 foreign tourists arriv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night stay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tot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14.8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3.8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ign tourists overnight st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.6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6.4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ign tourists overnight st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3851280" y="602136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rce: for Roma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nia, Constanţ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County Statistical Division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Bulgaria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e provided upon our request 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om Bulgarian National Statistical Institute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processed 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97000"/>
            <a:ext cx="86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mparison is given by a sort of similar accommodation capacities, but also by an excessive media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amaia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ggest seaside resort in Romani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2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d-place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ena – the third seaside resort of Bulgaria in terms of accommodation capacity afte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lancev Briag – Sunny Beach (47.39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d-place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Zlatni Piasatsi - Golden Sands (38.38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d-place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3213000"/>
            <a:ext cx="2879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doxically, Mamaia has tourist flows superior to Alb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theless, Mamaia has three times less foreign tourists than Albena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maia is focused on domestic tourism while Albena is a foreign tourists oriented re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mania could have an advantage comparing to Bulgaria taking into account that it has not a “concentrated tourism” in the coastal 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easide product has to b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rom the one of competing countries by combining the component of cultural tourism with the one of tourism in Danube D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suggest that Romania should have a sustainable development of coastal tourism, according with the principles of integrated management of coastal area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believe the coastal tourism will continue to be one of the major tourism products of Ro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Thank you</a:t>
            </a:r>
            <a:r>
              <a:rPr b="1" lang="ro-RO" sz="3200" spc="-1" strike="noStrike">
                <a:solidFill>
                  <a:srgbClr val="000000"/>
                </a:solidFill>
                <a:latin typeface="Arial Rounded MT Bol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19280" y="3789360"/>
          <a:ext cx="596880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89360"/>
                    <a:ext cx="59688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187280" y="2349000"/>
            <a:ext cx="6553440" cy="1150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stal tourism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component of Romanian tou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720" y="5229360"/>
            <a:ext cx="188316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Janos TALPA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91240" y="5229360"/>
            <a:ext cx="215892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risti FRENŢ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rism resear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411280" y="5084640"/>
          <a:ext cx="4038840" cy="96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5084640"/>
                    <a:ext cx="403884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c issues in the development of coastal tourism in Rom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astal area is a major tourist destination for Romani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strategic position from the geopolitical point of view (betwee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ur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As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able natural conditions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 wate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che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ne bio-climat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tradition in tourism: alongside the old resorts such a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Mamaia, Mangal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forie Su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ew decades ago there have been developed new resorts, most of them having names drawn upon ancient mythology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– Olim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Neptun, Jupiter, Venus, Sa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stal tourism is one of the main products with market opportunities (according with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ter plan for tourism development in Roman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raft version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 2007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coastal tourism?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still a foreign tourism market for this type of product (Scandinavia, Germany, Russia – the research commissioned by National Tourism Authority from Romania in March 2006 proved th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a tradition of Romanians to go to the se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crease of week-end tou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y ac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charest – Constanţa motorway (the existing functional part Bucharest – Cernavodă 150 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anţa Airport : starting with this year the new stipulated air flights: Iaşi – Constanţa, Timişoara – Constanţa, Cluj – Constanţ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lway Bucharest – Constanţa – Mang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coastal tourism?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ility to combine the coastal tourism with cultural and religious tourism from Dobrogea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ximity of Danube Delta (possibility to have cruises in Danube Del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ntration of accommodation facilities on the coastal zone (over 42% of existing bed places in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aches certified by Blue-Flag program (Mamaia, Eforie Nord, Neptun, Venus, Satur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investment (e.g. Mamaia) and private (up-grading and construction of accommodation facilities) in the last few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crease of demand for residential buildings in the coastal area (residential tour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ong competition from Bulgaria, Greece, Turkey and even Croat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 season (2-3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low access by sea (the lack of some connections with ferryboats on the s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w leisure facilities excepting sun-bath (the lack of a real entertainment centres in tourism reso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ng term, the process of coastal ero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gration of labour force abroad and low quality of 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ck of cooperation between different stakeholders on tourism at resor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creasing demand of Romanians for holidays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Perspecti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ion of Tourist Information Offices in all res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ment of leisure facilities to provide the extension of tourist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ion of Public-Private Partnerships at resor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urist promotion (marketing) of coastal areas integrated with Dobrogea re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sion of the tourism policies within the framework of the integrate management of coast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stics on costal tou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09:27:40Z</dcterms:created>
  <dc:creator>ADMIN</dc:creator>
  <dc:description/>
  <dc:language>en-US</dc:language>
  <cp:lastModifiedBy>laurenta</cp:lastModifiedBy>
  <dcterms:modified xsi:type="dcterms:W3CDTF">2007-05-31T15:17:48Z</dcterms:modified>
  <cp:revision>26</cp:revision>
  <dc:subject/>
  <dc:title>Conferinţa proiectului PlanCoast – Spatial planning in Coastal Zones</dc:title>
</cp:coreProperties>
</file>