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42560" y="403920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104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24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356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4256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24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356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60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9104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03920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9104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824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53560" y="155736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824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53560" y="4039200"/>
            <a:ext cx="2481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640" y="260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1040" y="403920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1040" y="1557360"/>
            <a:ext cx="37602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2560" y="4039200"/>
            <a:ext cx="770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99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42920" y="6524640"/>
            <a:ext cx="7274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PlanCoast Meeting Constanta, 31 May – 2 June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1187280" y="6381360"/>
            <a:ext cx="777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ICZM in Mediterranean Tourist Regions, Calvia, Janu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9966"/>
                </a:solidFill>
                <a:latin typeface="Verdana"/>
              </a:rPr>
              <a:t>ICZM experience in the EU with special reference to the role of spatial planning</a:t>
            </a:r>
            <a:endParaRPr b="1" lang="en-US" sz="3200" spc="-1" strike="noStrike">
              <a:solidFill>
                <a:srgbClr val="3399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99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Verdana"/>
              </a:rPr>
              <a:t>by Irene Lucius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Verdana"/>
              </a:rPr>
              <a:t>EUCC - The Coastal Union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General achieve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New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awarenes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+ higher level of preparedness regarding long-term coastal challeng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Reconcilation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of economic, social, environmental interests promoted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Higher pressure to increase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participative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elements in decision making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First step towards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linking terrestrial and marine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legislation/management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ICZM improves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livelihood 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of coastal citizen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Improve regional cooperation within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regional sea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strengthen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exchange of expertise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and information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improve stakeholder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participation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Extend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monitoring 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of implementation through common methodology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Long-term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funding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perspective needed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86400" y="4186080"/>
            <a:ext cx="312408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uccess facto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Utilising and strengthening existing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territorial planning/institution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for ICZM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Relatively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small coast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Proper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allocation of competencie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between central and lower levels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Political will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by national level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Working with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regional sea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initativ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ICZM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project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demonstrate benefit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Reliable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funding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(medium/long-term)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Qualified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staff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Strong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civil society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organisations in field of environment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Spatial planning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not seen as entire solution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Thank you!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60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 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Thank you very much for your attention!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260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260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	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	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Irene Lucius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260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	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	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i.lucius@eucc.net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33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77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419720" y="4495680"/>
            <a:ext cx="9070920" cy="2985840"/>
            <a:chOff x="4419720" y="4495680"/>
            <a:chExt cx="9070920" cy="2985840"/>
          </a:xfrm>
        </p:grpSpPr>
        <p:sp>
          <p:nvSpPr>
            <p:cNvPr id="138" name=""/>
            <p:cNvSpPr/>
            <p:nvPr/>
          </p:nvSpPr>
          <p:spPr>
            <a:xfrm>
              <a:off x="4419720" y="449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4537080"/>
              <a:ext cx="9070920" cy="29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0" lang="nl-NL" sz="195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62560" y="2465280"/>
            <a:ext cx="24242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Other ICZM networks &amp; institutions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UROCOAST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-16272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www.eurocoast.org</a:t>
            </a:r>
            <a:r>
              <a:rPr b="0" lang="en-GB" sz="2000" spc="-1" strike="noStrike">
                <a:solidFill>
                  <a:srgbClr val="339966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-16272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Partner of EUCC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-16272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Joint organisation of Littoral (biannual conference)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2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45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3855960"/>
            <a:ext cx="37623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Other ICZM networks &amp; institutions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60280" indent="-26028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Mission of MEDCOAST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enhancing scientific and professional collaboration among individuals and institut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conducting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conference</a:t>
            </a:r>
            <a:r>
              <a:rPr b="1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s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&amp; scientific </a:t>
            </a:r>
            <a:r>
              <a:rPr b="1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workshop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h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uman resource development (</a:t>
            </a:r>
            <a:r>
              <a:rPr b="1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training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programs, networking)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53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276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Other ICZM networks &amp; institutions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60280" indent="-26028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xamples of NGOs dealing partly with ICZM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WWF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Eurosite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National organisation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61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27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Other ICZM networks &amp; institutions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Intergovernmental: HELCOM Habitat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3399"/>
                </a:solidFill>
                <a:latin typeface="Arial"/>
                <a:ea typeface="Arial"/>
              </a:rPr>
              <a:t>EUCC is member of group and p</a:t>
            </a:r>
            <a:r>
              <a:rPr b="0" lang="da-DK" sz="2000" spc="-1" strike="noStrike">
                <a:solidFill>
                  <a:srgbClr val="003399"/>
                </a:solidFill>
                <a:latin typeface="Arial"/>
                <a:ea typeface="Arial"/>
              </a:rPr>
              <a:t>repares policy paper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69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77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mmercottage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2413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ICZM information sources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60280" indent="-26028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UCC information sources for the public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Coastal Guide to Europe,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 www.coastalguide.to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www.k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ustgids.nl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 (in Dutch)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-260280">
              <a:lnSpc>
                <a:spcPct val="15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Friends of the Coast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, www.friendsofthecoast.nl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5209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78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7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077320" y="5349960"/>
            <a:ext cx="9070920" cy="1507680"/>
            <a:chOff x="8077320" y="5349960"/>
            <a:chExt cx="9070920" cy="1507680"/>
          </a:xfrm>
        </p:grpSpPr>
        <p:sp>
          <p:nvSpPr>
            <p:cNvPr id="183" name=""/>
            <p:cNvSpPr/>
            <p:nvPr/>
          </p:nvSpPr>
          <p:spPr>
            <a:xfrm>
              <a:off x="807732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77320" y="5390280"/>
              <a:ext cx="9070920" cy="14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nl-NL" sz="97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r>
                <a:rPr b="1" lang="nl-NL" sz="1000" spc="-1" strike="noStrike">
                  <a:solidFill>
                    <a:srgbClr val="003366"/>
                  </a:solidFill>
                  <a:latin typeface="Verdana"/>
                </a:rPr>
                <a:t>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343400" y="3886200"/>
          <a:ext cx="396252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3962520" cy="2424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Role of NGO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Initi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82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reacting to the needs for an integrated approach in certain areas and situations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 and acting as driving force; local experience can be used for strategy formulation; 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awareness 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raising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" y="3048120"/>
            <a:ext cx="9070920" cy="1233000"/>
            <a:chOff x="228600" y="3048120"/>
            <a:chExt cx="9070920" cy="1233000"/>
          </a:xfrm>
        </p:grpSpPr>
        <p:sp>
          <p:nvSpPr>
            <p:cNvPr id="191" name=""/>
            <p:cNvSpPr/>
            <p:nvPr/>
          </p:nvSpPr>
          <p:spPr>
            <a:xfrm>
              <a:off x="228600" y="3048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3088080"/>
              <a:ext cx="907092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0" lang="nl-NL" sz="80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989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Short introduction to EUCC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ICZM in Europe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Role of spatial planning in ICZM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Status of ICZM policy implementation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ICZM challenges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Success factors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124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Role of NGO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Planning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604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NGOs take part as coastal stakeholders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; act as 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advisers and assist in the definition of policy tools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; conduct training;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Times New Roman"/>
              </a:rPr>
              <a:t> facilitate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 communication between different sectors and stake holder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4604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6360" y="2746440"/>
            <a:ext cx="9070920" cy="1233000"/>
            <a:chOff x="36360" y="2746440"/>
            <a:chExt cx="9070920" cy="1233000"/>
          </a:xfrm>
        </p:grpSpPr>
        <p:sp>
          <p:nvSpPr>
            <p:cNvPr id="199" name=""/>
            <p:cNvSpPr/>
            <p:nvPr/>
          </p:nvSpPr>
          <p:spPr>
            <a:xfrm>
              <a:off x="36360" y="2746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360" y="2786400"/>
              <a:ext cx="907092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0" lang="nl-NL" sz="80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581280"/>
            <a:ext cx="56386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95560" y="1600200"/>
            <a:ext cx="79484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360" y="2647800"/>
            <a:ext cx="9070920" cy="1552320"/>
            <a:chOff x="36360" y="2647800"/>
            <a:chExt cx="9070920" cy="1552320"/>
          </a:xfrm>
        </p:grpSpPr>
        <p:sp>
          <p:nvSpPr>
            <p:cNvPr id="205" name=""/>
            <p:cNvSpPr/>
            <p:nvPr/>
          </p:nvSpPr>
          <p:spPr>
            <a:xfrm>
              <a:off x="36360" y="2647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60" y="2688120"/>
              <a:ext cx="9070920" cy="15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0" lang="nl-NL" sz="92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3366"/>
                  </a:solidFill>
                  <a:latin typeface="Verdana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Role of NGO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Implementation 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C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ommunicat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ion, site management, adice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Monitoring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99"/>
                </a:solidFill>
                <a:latin typeface="Verdana"/>
                <a:ea typeface="Arial"/>
              </a:rPr>
              <a:t>	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Assessing 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effects of the ICZM program 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or projects, defining indicators, recommendations on 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plan </a:t>
            </a:r>
            <a:r>
              <a:rPr b="0" lang="da-DK" sz="2000" spc="-1" strike="noStrike">
                <a:solidFill>
                  <a:srgbClr val="003399"/>
                </a:solidFill>
                <a:latin typeface="Verdana"/>
                <a:ea typeface="Arial"/>
              </a:rPr>
              <a:t>revision </a:t>
            </a:r>
            <a:r>
              <a:rPr b="0" lang="en-GB" sz="2000" spc="-1" strike="noStrike">
                <a:solidFill>
                  <a:srgbClr val="003399"/>
                </a:solidFill>
                <a:latin typeface="Verdana"/>
                <a:ea typeface="Arial"/>
              </a:rPr>
              <a:t>(cycle)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  <a:p>
            <a:pPr marL="925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212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24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hort introduction to EUCC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What is EUCC?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37600" indent="-914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www.eucc.net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37600" indent="-914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association with 2700 members and member organisations in 40 countri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37600" indent="-914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f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ounded in 1989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37600" indent="-914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largest network of coastal practitioners and experts in Europe, 14 National Branches</a:t>
            </a: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,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 working area</a:t>
            </a: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Europe and neighbouring regions (especially Black Sea, Caspian</a:t>
            </a: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, 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 Med</a:t>
            </a: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.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)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10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  <a:p>
            <a:pPr marL="109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88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hort introduction to EUCC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UCC Offices, in particular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15280" indent="-828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International Secretariat in Leiden/NL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15280" indent="-828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Mediterranean Centre in Barcelona/Spain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15280" indent="-828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Baltic Office in Klaipeda/Lithuania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15280" indent="-828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EUCC Germany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15280" indent="-828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EUCC Poland</a:t>
            </a:r>
            <a:r>
              <a:rPr b="0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993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  <a:p>
            <a:pPr marL="993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95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5000" y="3795840"/>
            <a:ext cx="2895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hort introduction to EUCC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UCC´s mission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52360" indent="-96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to 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promote coastal management that integrates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 biodiversity conservation with those forms of development that sustain integrity of landscapes, cultural heritage and social fabric of coasts taking into account effects of climate change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252360" indent="-96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66"/>
                </a:solidFill>
                <a:latin typeface="Verdana"/>
                <a:ea typeface="Arial"/>
              </a:rPr>
              <a:t>to 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advocate best practice</a:t>
            </a:r>
            <a:r>
              <a:rPr b="0" lang="en-GB" sz="2000" spc="-1" strike="noStrike">
                <a:solidFill>
                  <a:srgbClr val="003366"/>
                </a:solidFill>
                <a:latin typeface="Verdana"/>
                <a:ea typeface="Arial"/>
              </a:rPr>
              <a:t> by developing coastal and marine policies, mobilising experts and stakeholders, providing advice and information, and implementing demonstration projects.</a:t>
            </a:r>
            <a:r>
              <a:rPr b="0" lang="en-GB" sz="2000" spc="-1" strike="noStrike">
                <a:solidFill>
                  <a:srgbClr val="339966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1166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  <a:p>
            <a:pPr marL="1166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1" lang="en-US" sz="18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90720" y="5181480"/>
            <a:ext cx="8153280" cy="1233360"/>
            <a:chOff x="990720" y="5181480"/>
            <a:chExt cx="8153280" cy="1233360"/>
          </a:xfrm>
        </p:grpSpPr>
        <p:sp>
          <p:nvSpPr>
            <p:cNvPr id="103" name=""/>
            <p:cNvSpPr/>
            <p:nvPr/>
          </p:nvSpPr>
          <p:spPr>
            <a:xfrm>
              <a:off x="990720" y="5181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52214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hort introduction to EUC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67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150000"/>
              </a:lnSpc>
              <a:spcBef>
                <a:spcPts val="499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9966"/>
                </a:solidFill>
                <a:latin typeface="Verdana"/>
                <a:ea typeface="Arial"/>
              </a:rPr>
              <a:t>Examples of EUCC ICZM activities</a:t>
            </a: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349200" indent="-13428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State of the Art report on ICZM 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in the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Baltic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 Sea region, report prepared for HELCOM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349200" indent="-13428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S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up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p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ort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 to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 the Secretariat of the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Black Sea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  <a:ea typeface="Arial"/>
              </a:rPr>
              <a:t> Commission, especially with regard to an ICZM Black Sea Strategy and the transfer of know-how to ICZM Centre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 Krasnodar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349200" indent="-13428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COPRANET 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  <a:ea typeface="Arial"/>
              </a:rPr>
              <a:t>– Coastal Practice Network, contribution to the establishment of a European Coastal Practitioners Network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676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4724280"/>
            <a:ext cx="8153280" cy="1233360"/>
            <a:chOff x="0" y="4724280"/>
            <a:chExt cx="8153280" cy="1233360"/>
          </a:xfrm>
        </p:grpSpPr>
        <p:sp>
          <p:nvSpPr>
            <p:cNvPr id="110" name=""/>
            <p:cNvSpPr/>
            <p:nvPr/>
          </p:nvSpPr>
          <p:spPr>
            <a:xfrm>
              <a:off x="0" y="4724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64240"/>
              <a:ext cx="815328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Verdana"/>
                </a:rPr>
                <a:t>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382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ICZM in the EU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Took off in EU with ICZM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Demonstration Programme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in late 1990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ICZM Recommendation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of EP and Council in 2002: stocktake + strategi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Results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analysed in 2006 (by Rupprecht Consult)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81480" y="4211640"/>
          <a:ext cx="3429000" cy="20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211640"/>
                    <a:ext cx="3429000" cy="209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patial planning in ICZ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Change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Spatial planning should facilitate constructive managemant of change, weigh risks and opportunities of different use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Ecological boundaries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Not within administrative boundaries but within ecological units, e.g. Sub-regional seas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9966"/>
                </a:solidFill>
                <a:latin typeface="Verdana"/>
              </a:rPr>
              <a:t>Coastal complexity</a:t>
            </a:r>
            <a:endParaRPr b="1" lang="en-US" sz="24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Needs to adapt to coastal complexity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Verdana"/>
              </a:rPr>
              <a:t>Status of implem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No country has implemented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strategy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Most coastal EU countries (incl. Romania) have developed </a:t>
            </a:r>
            <a:r>
              <a:rPr b="1" lang="da-DK" sz="2000" spc="-1" strike="noStrike">
                <a:solidFill>
                  <a:srgbClr val="000066"/>
                </a:solidFill>
                <a:latin typeface="Verdana"/>
              </a:rPr>
              <a:t>ICZM strategy</a:t>
            </a:r>
            <a:r>
              <a:rPr b="0" lang="da-DK" sz="2000" spc="-1" strike="noStrike">
                <a:solidFill>
                  <a:srgbClr val="000066"/>
                </a:solidFill>
                <a:latin typeface="Verdana"/>
              </a:rPr>
              <a:t> or coastal zone management strategies have become or are planned to become an integrated part of spatial planning processes </a:t>
            </a:r>
            <a:endParaRPr b="0" lang="en-US" sz="2000" spc="-1" strike="noStrike">
              <a:solidFill>
                <a:srgbClr val="3399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0:13:29Z</dcterms:created>
  <dc:creator> eucc47</dc:creator>
  <dc:description/>
  <dc:language>en-US</dc:language>
  <cp:lastModifiedBy>laurenta</cp:lastModifiedBy>
  <dcterms:modified xsi:type="dcterms:W3CDTF">2007-05-31T14:01:13Z</dcterms:modified>
  <cp:revision>71</cp:revision>
  <dc:subject/>
  <dc:title>PowerPoint-presentatie</dc:title>
</cp:coreProperties>
</file>