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8252-E5C0-4695-84D7-3881853E40D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 +G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colleagu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icipants  a  with Plancoas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 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 once again a short over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protection    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farms             black      rest of 12 sm prohib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extraction       br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idor linear infrastructure     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ilo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a-Use-Planning in A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eparation of Sea-Use-Plans for 12 sm zone in Mecklenburg-Vorpommern (Germany), Gdansk region (Poland), Trieste Bay (Slovenia), Varna (Bulgaria), Constanta (Romania), Boka Kotorska Bay (Montenegro), Odessa (Ukrai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-Use-Planning training programme for spatial planners from all participating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patial Planning in ICZM in A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eparation of new coastal plans according to ICZM principles for Palombina Beach (Italy), Pommerania (Poland), Piran (Slovenia), Albania, Varna (Bulgaria), Constanta (Romania) and the Tulcea/Danube Delta Biological Reservation (Roman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lo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aly: Palombina B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land: Pomorsk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ovenia: P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lgaria: Va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banian 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mania: Constanta + Tulcea/Danube De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lo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aly: Palombina B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land: Pomorsk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ovenia: P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lgaria: Va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banian 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mania: Constanta + Tulcea/Danube De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Partner Institution</a:t>
            </a: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Ministry of Labour, Building and Regional Development M-V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216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Federal Ministry of Transport, Building and Housing Germany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5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Maritime Office in Gdynia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0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Self-Government of the Pomorskie Voivodeshi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4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Regional Development Center Koper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20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Emilia Romagna Region, DG Environment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06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Municipality of Ancona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0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ECAT Tirana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66.32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Ministry of Physical Planning of Herzegovina-Neretva Canton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27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District Administration Centre Varna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BG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98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Black Sea NGO Network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BG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47.6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riority Action Programme / Regional Activity Centre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HR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0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National Institute for Marine Research and Development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4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National Institute for Research and Development Urbanproject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60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ublic Enterprise for Coastal Zone Management of Enterprise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SCG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94.1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Ukrainian Scientific Center of Ecology of Sea (UkrSCES)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UA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134.000,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CARDS Balkan Croatien, Bos.-Herzegovina, Montenegro, Albanie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PHARE Rumänien, Bulgarie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TACIS Ukrain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s are obvi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p shows a first transnat. atempt to visualise information on uses + restrictions in Baltic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astal zones of the Adriatic, Baltic and Black Sea face sever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sure from developmen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ple sea and coast-based activiti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ch as tourism, transport, fishery / aquaculture, shipping and energy generation are grow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ined with the requirements fo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ure prote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the effects of glob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imate chan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se uses implicate numerou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tual and potential conflic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conflicts ar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 limited to the landside area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but wil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ffect offshore area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ven more strong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hallenge is to make the most of the economic potential of the seas in a sustainable manner by avoiding conflicts and creating maximum synergies between the various interest group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from former project  BALT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asic F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oject Region: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astal and Maritime Zones (esp. 12 sm zone) of the Baltic Sea, Adriatic Sea and Black S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ad Partner: 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nistry of Traffic, Building and Regional Development – Mecklenburg-Vorpommern, spatial planning department (German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oject Partners: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5 Spatial Planning Departments or Regional Authorities responsible for the spatial planning for coastal and maritime areas in their partner coun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national   Adriatic  Marco Prem         overall  BMVBS         Black Sea: Claudia + Black Sea Comm.        Baltic Sea: Poland + M-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us quo: </a:t>
            </a:r>
            <a:r>
              <a:rPr b="0" lang="en-GB" sz="1200" spc="-1" strike="noStrike">
                <a:solidFill>
                  <a:srgbClr val="00ccff"/>
                </a:solidFill>
                <a:latin typeface="Arial"/>
              </a:rPr>
              <a:t>Transnational, comparative study: tender procedure started mid of May, closure 5th June, afterwards immediately award of contract, more information will be given by Mrs Greiling on 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Group: Leadship Albania Marietta M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 until now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ief information concerning the state of the art of G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 each partner state as result of the kick-off conference in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wards no more activities mainly caused by delay of contracting procedure non-EU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nt: Sea-use-Planning trainee in Germany End of June/beginning of July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lot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rmany: M-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land: Puck B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ovenia: Trieste B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lgaria: Va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mania: Const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ontenegro: Baka Kotorska B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kraine: Ode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A2C-D4D9-423E-9398-6EFD7F7F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825-8076-4C4D-B1B1-DAF5ECF9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557-C412-40CC-8F9E-917D138B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33D-CBF7-457A-AEEC-AE4F0191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78C3-3D99-4C04-ACE2-792F0008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459F7-0CB6-4E11-9FD2-C13C9062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9218E-983C-40DF-A06E-78DCFEE5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577A7-373F-4C79-AB87-51FBE69F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BAB96-6F64-4BBC-8A49-78672E5C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EB337-A2C8-42E7-9957-62C604CB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BC9DB-8D83-42AA-AF9E-50FD7C07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A37-6E0A-4C15-B1FD-BC23DB14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5283D-C198-4DB0-85DC-B94538DD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317EF-F363-403C-A592-64E17F19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29E49-61B5-4594-8AFF-B98754FA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C4679-3411-4CC7-8F28-E962022E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07FE1-B4F3-4203-88DA-57AFB046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149-C473-4195-A18E-2DBDC4BC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4DF-ACFC-455A-828F-FB28E7D5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E1E-8423-444C-9DEF-0A724D4E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4C3-8CF7-4429-859B-05D1CFD7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ADB-5ABB-4FC4-8AED-72F90F17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933-8511-48F3-9BE4-8643F8F7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998-2DD5-42A9-856A-A5FFA0BF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31BE-38A0-4BBA-89F1-B5D0271618B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65E0-BF00-42B2-B91E-91FE85DBCE7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3164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300" spc="-1" strike="noStrike">
                <a:solidFill>
                  <a:srgbClr val="e3e3ff"/>
                </a:solidFill>
                <a:latin typeface="Arial"/>
              </a:rPr>
              <a:t>INTERREG IIIB CADSES </a:t>
            </a:r>
            <a:br>
              <a:rPr sz="4300"/>
            </a:br>
            <a:r>
              <a:rPr b="1" lang="de-DE" sz="4300" spc="-1" strike="noStrike">
                <a:solidFill>
                  <a:srgbClr val="e3e3ff"/>
                </a:solidFill>
                <a:latin typeface="Arial"/>
              </a:rPr>
              <a:t>„PlanCoast“</a:t>
            </a:r>
            <a:br>
              <a:rPr sz="4000"/>
            </a:br>
            <a:br>
              <a:rPr sz="3600"/>
            </a:br>
            <a:r>
              <a:rPr b="0" lang="de-DE" sz="4000" spc="-1" strike="noStrike">
                <a:solidFill>
                  <a:srgbClr val="e3e3ff"/>
                </a:solidFill>
                <a:latin typeface="Arial"/>
              </a:rPr>
              <a:t>Objectives and expected results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ernhard Heinric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nistry for Transport, Building and Regional Development M-V, 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nCoast Lead Part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96360" y="6093000"/>
            <a:ext cx="129528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692280"/>
            <a:ext cx="9144000" cy="6165720"/>
            <a:chOff x="0" y="692280"/>
            <a:chExt cx="9144000" cy="616572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162000" y="692280"/>
              <a:ext cx="8820000" cy="61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692280"/>
              <a:ext cx="250920" cy="61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93080" y="692280"/>
              <a:ext cx="250920" cy="61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24000" y="1159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3e3ff"/>
                </a:solidFill>
                <a:latin typeface="Tahoma"/>
              </a:rPr>
              <a:t>Sea Use Planning of the German Baltic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P 4 „ICZM in Action“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Preparation or update of several spatial plans according to ICZM prin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3e3ff"/>
                </a:solidFill>
                <a:latin typeface="Arial"/>
              </a:rPr>
              <a:t>WP 5 „Transnational Dissemination“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Exchange of ICZM Best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Information and lobbying for ICZ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3ff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EFRE 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    595.000 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CARDS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    493.678 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PHARE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    334.200 E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TACIS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33cccc"/>
                </a:solidFill>
                <a:latin typeface="AvantGardeITCbyBT-Book"/>
              </a:rPr>
              <a:t>        120.600 E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1" lang="de-DE" sz="2800" spc="-1" strike="noStrike">
                <a:solidFill>
                  <a:srgbClr val="33cccc"/>
                </a:solidFill>
                <a:latin typeface="AvantGardeITCbyBT-Book"/>
              </a:rPr>
              <a:t>EU Financing  </a:t>
            </a:r>
            <a:r>
              <a:rPr b="1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1" lang="de-DE" sz="2800" spc="-1" strike="noStrike">
                <a:solidFill>
                  <a:srgbClr val="33cccc"/>
                </a:solidFill>
                <a:latin typeface="AvantGardeITCbyBT-Book"/>
              </a:rPr>
              <a:t>	</a:t>
            </a:r>
            <a:r>
              <a:rPr b="1" lang="de-DE" sz="2800" spc="-1" strike="noStrike">
                <a:solidFill>
                  <a:srgbClr val="33cccc"/>
                </a:solidFill>
                <a:latin typeface="AvantGardeITCbyBT-Book"/>
              </a:rPr>
              <a:t>     1.488.478 EUR</a:t>
            </a:r>
            <a:r>
              <a:rPr b="1" lang="de-DE" sz="2800" spc="-1" strike="noStrike">
                <a:solidFill>
                  <a:srgbClr val="ffffff"/>
                </a:solidFill>
                <a:latin typeface="AvantGardeITCbyBT-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EU Co-Financing </a:t>
            </a: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     + 317.000 E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Non EU Co-Financing </a:t>
            </a: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vantGardeITCbyBT-Book"/>
              </a:rPr>
              <a:t>     + 173.542 E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vantGardeITCbyB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vantGardeITCbyBT-Book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Total  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    1.979.020 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3e3ff"/>
                </a:solidFill>
                <a:latin typeface="Arial"/>
              </a:rPr>
              <a:t>5. Conclusions so fa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Spatial Planning cannot substitute  the ICZM-process  - but forms an essential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Spatial planning of the sea should become an integral part of ICZ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3ff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The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Overall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PlanCoast Project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PlanCoast Structure and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Conclusion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31320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e3ff"/>
                </a:solidFill>
                <a:latin typeface="Arial"/>
              </a:rPr>
              <a:t>1. The challenges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26748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wing conflicts among seaside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rgent need for spatial co-ordination of offshore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987640" y="476280"/>
          <a:ext cx="6156360" cy="60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476280"/>
                    <a:ext cx="6156360" cy="60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3e3ff"/>
                </a:solidFill>
                <a:latin typeface="Arial"/>
              </a:rPr>
              <a:t>2. Overall Objective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Strengthen ICZM through spati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Integrate land- and sea-side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Exchange experience between Adriatic Sea, Baltic Sea, Black S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Support EU maritime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56000" y="836280"/>
            <a:ext cx="29876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e3e3ff"/>
                </a:solidFill>
                <a:latin typeface="Arial"/>
              </a:rPr>
              <a:t>3. PlanCoast </a:t>
            </a:r>
            <a:br>
              <a:rPr sz="3600"/>
            </a:br>
            <a:r>
              <a:rPr b="0" lang="de-DE" sz="3600" spc="-1" strike="noStrike">
                <a:solidFill>
                  <a:srgbClr val="e3e3ff"/>
                </a:solidFill>
                <a:latin typeface="Arial"/>
              </a:rPr>
              <a:t>Project Area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61672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32655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788000" y="3645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003640" y="38606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58920" y="620640"/>
            <a:ext cx="7200720" cy="588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219640" y="4079880"/>
            <a:ext cx="36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3e3ff"/>
                </a:solidFill>
                <a:latin typeface="Arial"/>
              </a:rPr>
              <a:t>WP 1 „Strengthening the role of Spatial planning in ICZM“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Assessment of status Q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National reports on current ICZM/Sea Use Planning pre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Transnational, comparative study on the role of Spatial Planning in ICZM in the Adriatic, Baltic and Black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3e3ff"/>
                </a:solidFill>
                <a:latin typeface="Arial"/>
              </a:rPr>
              <a:t>WP 2 „Geographical information systems“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Agreement on common technical basics and set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Creation of update of GIS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3e3ff"/>
                </a:solidFill>
                <a:latin typeface="Arial"/>
              </a:rPr>
              <a:t>WP 3 „Sea-Use-Planning in Action“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Preparation of Sea-Use-Plans for several 12 –sm-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Sea-Use-Planning training programme for spatial planners from participating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7:37:53Z</dcterms:created>
  <dc:creator>VIII430-1</dc:creator>
  <dc:description/>
  <dc:language>en-US</dc:language>
  <cp:lastModifiedBy>laurenta</cp:lastModifiedBy>
  <dcterms:modified xsi:type="dcterms:W3CDTF">2007-05-31T15:24:18Z</dcterms:modified>
  <cp:revision>125</cp:revision>
  <dc:subject/>
  <dc:title>INTERREG III B BSR Projekt BaltCoast</dc:title>
</cp:coreProperties>
</file>