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6.png" ContentType="image/png"/>
  <Override PartName="/ppt/media/image7.wmf" ContentType="image/x-wmf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7716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7"/>
          </p:nvPr>
        </p:nvSpPr>
        <p:spPr>
          <a:xfrm>
            <a:off x="3835080" y="0"/>
            <a:ext cx="293508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77880" y="4703760"/>
            <a:ext cx="54165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8"/>
          </p:nvPr>
        </p:nvSpPr>
        <p:spPr>
          <a:xfrm>
            <a:off x="0" y="9405720"/>
            <a:ext cx="2935440" cy="49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9"/>
          </p:nvPr>
        </p:nvSpPr>
        <p:spPr>
          <a:xfrm>
            <a:off x="3835080" y="9405720"/>
            <a:ext cx="2935080" cy="49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95549-E5A6-4F8C-8826-2CD3B606970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7880" y="4703760"/>
            <a:ext cx="54165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 +G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r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colleagu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articipants  a  with Plancoast exper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  with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o once again a short overvie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7880" y="4703760"/>
            <a:ext cx="54165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e protection     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 farms             black      rest of 12 sm prohib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 extraction       br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idor linear infrastructure      vio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ilot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ea-Use-Planning in A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reparation of Sea-Use-Plans for 12 sm zone in Mecklenburg-Vorpommern (Germany), Gdansk region (Poland), Trieste Bay (Slovenia), Varna (Bulgaria), Constanta (Romania), Boka Kotorska Bay (Montenegro), Odessa (Ukrain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a-Use-Planning training programme for spatial planners from all participating count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patial Planning in ICZM in A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reparation of new coastal plans according to ICZM principles for Palombina Beach (Italy), Pommerania (Poland), Piran (Slovenia), Albania, Varna (Bulgaria), Constanta (Romania) and the Tulcea/Danube Delta Biological Reservation (Romani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7880" y="4703760"/>
            <a:ext cx="54165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ilot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taly: Palombina Be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oland: Pomorsk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lovenia: Pi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ulgaria: Va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lbanian Co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omania: Constanta + Tulcea/Danube Del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77880" y="4703760"/>
            <a:ext cx="54165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ilot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taly: Palombina Be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oland: Pomorsk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lovenia: Pi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ulgaria: Va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lbanian Co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omania: Constanta + Tulcea/Danube Del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03240" y="4703760"/>
            <a:ext cx="496584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>
                <a:solidFill>
                  <a:srgbClr val="000000"/>
                </a:solidFill>
                <a:latin typeface="Arial"/>
              </a:rPr>
              <a:t>Partner Institution</a:t>
            </a:r>
            <a:r>
              <a:rPr b="1" lang="de-DE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600" spc="-1" strike="noStrike">
                <a:solidFill>
                  <a:srgbClr val="000000"/>
                </a:solidFill>
                <a:latin typeface="Arial"/>
              </a:rPr>
              <a:t>EU</a:t>
            </a:r>
            <a:r>
              <a:rPr b="1" lang="de-DE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600" spc="-1" strike="noStrike">
                <a:solidFill>
                  <a:srgbClr val="000000"/>
                </a:solidFill>
                <a:latin typeface="Arial"/>
              </a:rPr>
              <a:t>Country</a:t>
            </a:r>
            <a:r>
              <a:rPr b="1" lang="de-DE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6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Ministry of Labour, Building and Regional Development M-V</a:t>
            </a: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216.000,00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Federal Ministry of Transport, Building and Housing Germany</a:t>
            </a: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150.000,00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Maritime Office in Gdynia</a:t>
            </a: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PL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100.000,00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Self-Government of the Pomorskie Voivodeship</a:t>
            </a: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PL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40.000,00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Regional Development Center Koper</a:t>
            </a: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200.000,00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Emilia Romagna Region, DG Environment</a:t>
            </a: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106.000,00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Municipality of Ancona</a:t>
            </a: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100.000,00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ECAT Tirana</a:t>
            </a: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166.320,00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Ministry of Physical Planning of Herzegovina-Neretva Canton</a:t>
            </a: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127.000,00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District Administration Centre Varna</a:t>
            </a: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BG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198.000,00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Black Sea NGO Network</a:t>
            </a: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BG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47.600,00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Priority Action Programme / Regional Activity Centre</a:t>
            </a: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HR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100.000,00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National Institute for Marine Research and Development</a:t>
            </a: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140.000,00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National Institute for Research and Development Urbanproject</a:t>
            </a: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60.000,00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Public Enterprise for Coastal Zone Management of Enterprise</a:t>
            </a: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SCG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94.100,00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Ukrainian Scientific Center of Ecology of Sea (UkrSCES)</a:t>
            </a: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UA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134.000,00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CARDS Balkan Croatien, Bos.-Herzegovina, Montenegro, Albanie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PHARE Rumänien, Bulgarie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TACIS Ukrain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7880" y="4703760"/>
            <a:ext cx="54165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llenges are obvio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p shows a first transnat. atempt to visualise information on uses + restrictions in Baltic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coastal zones of the Adriatic, Baltic and Black Sea face severe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essure from development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ultiple sea and coast-based activitie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such as tourism, transport, fishery / aquaculture, shipping and energy generation are grow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ined with the requirements for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ature protec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and the effects of glob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limate chang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these uses implicate numerou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ctual and potential conflict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conflicts are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t limited to the landside area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but wil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ffect offshore area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ven more strongl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hallenge is to make the most of the economic potential of the seas in a sustainable manner by avoiding conflicts and creating maximum synergies between the various interest group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ture from former project  BALTCo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880" y="4703760"/>
            <a:ext cx="54165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Basic Fa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Project Region: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astal and Maritime Zones (esp. 12 sm zone) of the Baltic Sea, Adriatic Sea and Black Se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Lead Partner: 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inistry of Traffic, Building and Regional Development – Mecklenburg-Vorpommern, spatial planning department (Germany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Project Partners: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15 Spatial Planning Departments or Regional Authorities responsible for the spatial planning for coastal and maritime areas in their partner countr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7880" y="4703760"/>
            <a:ext cx="54165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national   Adriatic  Marco Prem         overall  BMVBS         Black Sea: Claudia + Black Sea Comm.        Baltic Sea: Poland + M-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tus quo: </a:t>
            </a:r>
            <a:r>
              <a:rPr b="0" lang="en-GB" sz="1200" spc="-1" strike="noStrike">
                <a:solidFill>
                  <a:srgbClr val="00ccff"/>
                </a:solidFill>
                <a:latin typeface="Arial"/>
              </a:rPr>
              <a:t>Transnational, comparative study: tender procedure started mid of May, closure 5th June, afterwards immediately award of contract, more information will be given by Mrs Greiling on Fri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7880" y="4703760"/>
            <a:ext cx="54165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king Group: Leadship Albania Marietta M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vities until now: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rief information concerning the state of the art of GI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n each partner state as result of the kick-off conference in Anc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fterwards no more activities mainly caused by delay of contracting procedure non-EU 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nt: Sea-use-Planning trainee in Germany End of June/beginning of July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77880" y="4703760"/>
            <a:ext cx="54165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ilot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ermany: M-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oland: Puck B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lovenia: Trieste B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ulgaria: Va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omania: Consta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ontenegro: Baka Kotorska B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kraine: Ode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86B7-5EC7-42E1-B450-56417FFC5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70F5-FAA1-4138-B1E7-20B60025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6150-3378-455A-9BCA-F4C7D9261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4126-CF71-4521-9818-E7E9F894B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E4F947-536B-4F86-9045-2C601FB67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E42BE4-4886-4D8B-9172-444DCC50C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485E92-9C61-44AF-ADE8-B7AD44C1C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B7EE1B-D13D-4A5D-950A-32251886C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621CBA-3713-483A-B111-CBA0C8C9D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B86701-5670-4AA2-8592-FD43830C1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F842BD-7873-406B-BF56-6AFF5129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8BEF-E37F-4000-BC6D-2D746372A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32A3A1-A7B8-4735-8219-4AFF5416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715229-EA55-4B78-B2B8-C6A1CD6D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5D12D3-E420-4DB5-BBE4-6537845DF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D392B5-B7E1-43FB-AF83-33BFDB1EC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00C13A-23C5-4ED6-9992-8E5E4D423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AD25-E9A0-4006-91BA-CB351F4D8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7AFE-7895-4031-ACCE-C06F89EE3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5945-1536-4D73-96DD-832D051B0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208B-E7C9-44D6-9FA6-7E501EB00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B2C9-90A1-4FCD-8D53-78190575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C750-6432-4E80-9EDA-C6831492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BC30-B7C5-4101-BFE6-2B8362AF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97F08-2F37-40F5-B6C3-8A86D626EB0A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1A96F-51D0-4D6F-97BA-5B5B5A5512E1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-3048120" y="-2286000"/>
            <a:ext cx="15240240" cy="11430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431640"/>
            <a:ext cx="9144000" cy="29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de-DE" sz="4300" spc="-1" strike="noStrike">
                <a:solidFill>
                  <a:srgbClr val="e3e3ff"/>
                </a:solidFill>
                <a:latin typeface="Arial"/>
              </a:rPr>
              <a:t>INTERREG IIIB CADSES </a:t>
            </a:r>
            <a:br>
              <a:rPr sz="4300"/>
            </a:br>
            <a:r>
              <a:rPr b="1" lang="de-DE" sz="4300" spc="-1" strike="noStrike">
                <a:solidFill>
                  <a:srgbClr val="e3e3ff"/>
                </a:solidFill>
                <a:latin typeface="Arial"/>
              </a:rPr>
              <a:t>„PlanCoast“</a:t>
            </a:r>
            <a:br>
              <a:rPr sz="4000"/>
            </a:br>
            <a:br>
              <a:rPr sz="3600"/>
            </a:br>
            <a:r>
              <a:rPr b="0" lang="de-DE" sz="4000" spc="-1" strike="noStrike">
                <a:solidFill>
                  <a:srgbClr val="e3e3ff"/>
                </a:solidFill>
                <a:latin typeface="Arial"/>
              </a:rPr>
              <a:t>Objectives and expected results 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3200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Bernhard Heinrich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nistry for Transport, Building and Regional Development M-V, Germa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lanCoast Lead Part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596360" y="6093000"/>
            <a:ext cx="1295280" cy="48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0" y="692280"/>
            <a:ext cx="9144000" cy="6165720"/>
            <a:chOff x="0" y="692280"/>
            <a:chExt cx="9144000" cy="6165720"/>
          </a:xfrm>
        </p:grpSpPr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>
              <a:off x="162000" y="692280"/>
              <a:ext cx="8820000" cy="616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0" y="692280"/>
              <a:ext cx="250920" cy="6165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893080" y="692280"/>
              <a:ext cx="250920" cy="6165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324000" y="115920"/>
            <a:ext cx="88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e3e3ff"/>
                </a:solidFill>
                <a:latin typeface="Tahoma"/>
              </a:rPr>
              <a:t>Sea Use Planning of the German Baltic S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P 4 „ICZM in Action“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ff"/>
                </a:solidFill>
                <a:latin typeface="Arial"/>
              </a:rPr>
              <a:t>Preparation or update of several spatial plans according to ICZM princi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e3e3ff"/>
                </a:solidFill>
                <a:latin typeface="Arial"/>
              </a:rPr>
              <a:t>WP 5 „Transnational Dissemination“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ff"/>
                </a:solidFill>
                <a:latin typeface="Arial"/>
              </a:rPr>
              <a:t>Exchange of ICZM Best Pract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ff"/>
                </a:solidFill>
                <a:latin typeface="Arial"/>
              </a:rPr>
              <a:t>Information and lobbying for ICZ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e3e3ff"/>
                </a:solidFill>
                <a:latin typeface="Arial"/>
              </a:rPr>
              <a:t>Financ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vantGardeITCbyB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cccc"/>
                </a:solidFill>
                <a:latin typeface="AvantGardeITCbyBT-Book"/>
              </a:rPr>
              <a:t>	</a:t>
            </a:r>
            <a:r>
              <a:rPr b="0" lang="de-DE" sz="2800" spc="-1" strike="noStrike">
                <a:solidFill>
                  <a:srgbClr val="33cccc"/>
                </a:solidFill>
                <a:latin typeface="AvantGardeITCbyBT-Book"/>
              </a:rPr>
              <a:t>EFRE  </a:t>
            </a:r>
            <a:r>
              <a:rPr b="0" lang="de-DE" sz="2800" spc="-1" strike="noStrike">
                <a:solidFill>
                  <a:srgbClr val="33cccc"/>
                </a:solidFill>
                <a:latin typeface="AvantGardeITCbyBT-Book"/>
              </a:rPr>
              <a:t>	</a:t>
            </a:r>
            <a:r>
              <a:rPr b="0" lang="de-DE" sz="2800" spc="-1" strike="noStrike">
                <a:solidFill>
                  <a:srgbClr val="33cccc"/>
                </a:solidFill>
                <a:latin typeface="AvantGardeITCbyBT-Book"/>
              </a:rPr>
              <a:t>    </a:t>
            </a:r>
            <a:r>
              <a:rPr b="0" lang="de-DE" sz="2800" spc="-1" strike="noStrike">
                <a:solidFill>
                  <a:srgbClr val="33cccc"/>
                </a:solidFill>
                <a:latin typeface="AvantGardeITCbyBT-Book"/>
              </a:rPr>
              <a:t>	</a:t>
            </a:r>
            <a:r>
              <a:rPr b="0" lang="de-DE" sz="2800" spc="-1" strike="noStrike">
                <a:solidFill>
                  <a:srgbClr val="33cccc"/>
                </a:solidFill>
                <a:latin typeface="AvantGardeITCbyBT-Book"/>
              </a:rPr>
              <a:t>	</a:t>
            </a:r>
            <a:r>
              <a:rPr b="0" lang="de-DE" sz="2800" spc="-1" strike="noStrike">
                <a:solidFill>
                  <a:srgbClr val="33cccc"/>
                </a:solidFill>
                <a:latin typeface="AvantGardeITCbyBT-Book"/>
              </a:rPr>
              <a:t>        595.000 E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vantGardeITCbyB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cccc"/>
                </a:solidFill>
                <a:latin typeface="AvantGardeITCbyBT-Book"/>
              </a:rPr>
              <a:t>	</a:t>
            </a:r>
            <a:r>
              <a:rPr b="0" lang="de-DE" sz="2800" spc="-1" strike="noStrike">
                <a:solidFill>
                  <a:srgbClr val="33cccc"/>
                </a:solidFill>
                <a:latin typeface="AvantGardeITCbyBT-Book"/>
              </a:rPr>
              <a:t>CARDS </a:t>
            </a:r>
            <a:r>
              <a:rPr b="0" lang="de-DE" sz="2800" spc="-1" strike="noStrike">
                <a:solidFill>
                  <a:srgbClr val="33cccc"/>
                </a:solidFill>
                <a:latin typeface="AvantGardeITCbyBT-Book"/>
              </a:rPr>
              <a:t>	</a:t>
            </a:r>
            <a:r>
              <a:rPr b="0" lang="de-DE" sz="2800" spc="-1" strike="noStrike">
                <a:solidFill>
                  <a:srgbClr val="33cccc"/>
                </a:solidFill>
                <a:latin typeface="AvantGardeITCbyBT-Book"/>
              </a:rPr>
              <a:t>    </a:t>
            </a:r>
            <a:r>
              <a:rPr b="0" lang="de-DE" sz="2800" spc="-1" strike="noStrike">
                <a:solidFill>
                  <a:srgbClr val="33cccc"/>
                </a:solidFill>
                <a:latin typeface="AvantGardeITCbyBT-Book"/>
              </a:rPr>
              <a:t>	</a:t>
            </a:r>
            <a:r>
              <a:rPr b="0" lang="de-DE" sz="2800" spc="-1" strike="noStrike">
                <a:solidFill>
                  <a:srgbClr val="33cccc"/>
                </a:solidFill>
                <a:latin typeface="AvantGardeITCbyBT-Book"/>
              </a:rPr>
              <a:t>	</a:t>
            </a:r>
            <a:r>
              <a:rPr b="0" lang="de-DE" sz="2800" spc="-1" strike="noStrike">
                <a:solidFill>
                  <a:srgbClr val="33cccc"/>
                </a:solidFill>
                <a:latin typeface="AvantGardeITCbyBT-Book"/>
              </a:rPr>
              <a:t>        493.678 E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vantGardeITCbyB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cccc"/>
                </a:solidFill>
                <a:latin typeface="AvantGardeITCbyBT-Book"/>
              </a:rPr>
              <a:t>	</a:t>
            </a:r>
            <a:r>
              <a:rPr b="0" lang="de-DE" sz="2800" spc="-1" strike="noStrike">
                <a:solidFill>
                  <a:srgbClr val="33cccc"/>
                </a:solidFill>
                <a:latin typeface="AvantGardeITCbyBT-Book"/>
              </a:rPr>
              <a:t>PHARE </a:t>
            </a:r>
            <a:r>
              <a:rPr b="0" lang="de-DE" sz="2800" spc="-1" strike="noStrike">
                <a:solidFill>
                  <a:srgbClr val="33cccc"/>
                </a:solidFill>
                <a:latin typeface="AvantGardeITCbyBT-Book"/>
              </a:rPr>
              <a:t>	</a:t>
            </a:r>
            <a:r>
              <a:rPr b="0" lang="de-DE" sz="2800" spc="-1" strike="noStrike">
                <a:solidFill>
                  <a:srgbClr val="33cccc"/>
                </a:solidFill>
                <a:latin typeface="AvantGardeITCbyBT-Book"/>
              </a:rPr>
              <a:t>    </a:t>
            </a:r>
            <a:r>
              <a:rPr b="0" lang="de-DE" sz="2800" spc="-1" strike="noStrike">
                <a:solidFill>
                  <a:srgbClr val="33cccc"/>
                </a:solidFill>
                <a:latin typeface="AvantGardeITCbyBT-Book"/>
              </a:rPr>
              <a:t>	</a:t>
            </a:r>
            <a:r>
              <a:rPr b="0" lang="de-DE" sz="2800" spc="-1" strike="noStrike">
                <a:solidFill>
                  <a:srgbClr val="33cccc"/>
                </a:solidFill>
                <a:latin typeface="AvantGardeITCbyBT-Book"/>
              </a:rPr>
              <a:t>	</a:t>
            </a:r>
            <a:r>
              <a:rPr b="0" lang="de-DE" sz="2800" spc="-1" strike="noStrike">
                <a:solidFill>
                  <a:srgbClr val="33cccc"/>
                </a:solidFill>
                <a:latin typeface="AvantGardeITCbyBT-Book"/>
              </a:rPr>
              <a:t>        334.200 EU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vantGardeITCbyB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cccc"/>
                </a:solidFill>
                <a:latin typeface="AvantGardeITCbyBT-Book"/>
              </a:rPr>
              <a:t>	</a:t>
            </a:r>
            <a:r>
              <a:rPr b="0" lang="de-DE" sz="2800" spc="-1" strike="noStrike">
                <a:solidFill>
                  <a:srgbClr val="33cccc"/>
                </a:solidFill>
                <a:latin typeface="AvantGardeITCbyBT-Book"/>
              </a:rPr>
              <a:t>TACIS </a:t>
            </a:r>
            <a:r>
              <a:rPr b="0" lang="de-DE" sz="2800" spc="-1" strike="noStrike">
                <a:solidFill>
                  <a:srgbClr val="33cccc"/>
                </a:solidFill>
                <a:latin typeface="AvantGardeITCbyBT-Book"/>
              </a:rPr>
              <a:t>	</a:t>
            </a:r>
            <a:r>
              <a:rPr b="0" lang="de-DE" sz="2800" spc="-1" strike="noStrike">
                <a:solidFill>
                  <a:srgbClr val="33cccc"/>
                </a:solidFill>
                <a:latin typeface="AvantGardeITCbyBT-Book"/>
              </a:rPr>
              <a:t>    </a:t>
            </a:r>
            <a:r>
              <a:rPr b="0" lang="de-DE" sz="2800" spc="-1" strike="noStrike">
                <a:solidFill>
                  <a:srgbClr val="33cccc"/>
                </a:solidFill>
                <a:latin typeface="AvantGardeITCbyBT-Book"/>
              </a:rPr>
              <a:t>	</a:t>
            </a:r>
            <a:r>
              <a:rPr b="0" lang="de-DE" sz="2800" spc="-1" strike="noStrike">
                <a:solidFill>
                  <a:srgbClr val="33cccc"/>
                </a:solidFill>
                <a:latin typeface="AvantGardeITCbyBT-Book"/>
              </a:rPr>
              <a:t>	</a:t>
            </a:r>
            <a:r>
              <a:rPr b="0" lang="de-DE" sz="2800" spc="-1" strike="noStrike">
                <a:solidFill>
                  <a:srgbClr val="33cccc"/>
                </a:solidFill>
                <a:latin typeface="AvantGardeITCbyBT-Book"/>
              </a:rPr>
              <a:t>        120.600 EU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vantGardeITCbyB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cccc"/>
                </a:solidFill>
                <a:latin typeface="AvantGardeITCbyBT-Book"/>
              </a:rPr>
              <a:t>	</a:t>
            </a:r>
            <a:r>
              <a:rPr b="1" lang="de-DE" sz="2800" spc="-1" strike="noStrike">
                <a:solidFill>
                  <a:srgbClr val="33cccc"/>
                </a:solidFill>
                <a:latin typeface="AvantGardeITCbyBT-Book"/>
              </a:rPr>
              <a:t>EU Financing  </a:t>
            </a:r>
            <a:r>
              <a:rPr b="1" lang="de-DE" sz="2800" spc="-1" strike="noStrike">
                <a:solidFill>
                  <a:srgbClr val="33cccc"/>
                </a:solidFill>
                <a:latin typeface="AvantGardeITCbyBT-Book"/>
              </a:rPr>
              <a:t>	</a:t>
            </a:r>
            <a:r>
              <a:rPr b="1" lang="de-DE" sz="2800" spc="-1" strike="noStrike">
                <a:solidFill>
                  <a:srgbClr val="33cccc"/>
                </a:solidFill>
                <a:latin typeface="AvantGardeITCbyBT-Book"/>
              </a:rPr>
              <a:t>	</a:t>
            </a:r>
            <a:r>
              <a:rPr b="1" lang="de-DE" sz="2800" spc="-1" strike="noStrike">
                <a:solidFill>
                  <a:srgbClr val="33cccc"/>
                </a:solidFill>
                <a:latin typeface="AvantGardeITCbyBT-Book"/>
              </a:rPr>
              <a:t>     1.488.478 EUR</a:t>
            </a:r>
            <a:r>
              <a:rPr b="1" lang="de-DE" sz="2800" spc="-1" strike="noStrike">
                <a:solidFill>
                  <a:srgbClr val="ffffff"/>
                </a:solidFill>
                <a:latin typeface="AvantGardeITCbyBT-Boo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vantGardeITCbyB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vantGardeITCbyBT-Book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AvantGardeITCbyBT-Book"/>
              </a:rPr>
              <a:t>EU Co-Financing </a:t>
            </a:r>
            <a:r>
              <a:rPr b="0" lang="de-DE" sz="2800" spc="-1" strike="noStrike">
                <a:solidFill>
                  <a:srgbClr val="ffffff"/>
                </a:solidFill>
                <a:latin typeface="AvantGardeITCbyBT-Book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AvantGardeITCbyBT-Book"/>
              </a:rPr>
              <a:t>     + 317.000 EU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vantGardeITCbyB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vantGardeITCbyBT-Book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AvantGardeITCbyBT-Book"/>
              </a:rPr>
              <a:t>Non EU Co-Financing </a:t>
            </a:r>
            <a:r>
              <a:rPr b="0" lang="de-DE" sz="2800" spc="-1" strike="noStrike">
                <a:solidFill>
                  <a:srgbClr val="ffffff"/>
                </a:solidFill>
                <a:latin typeface="AvantGardeITCbyBT-Book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AvantGardeITCbyBT-Book"/>
              </a:rPr>
              <a:t>     + 173.542 EU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vantGardeITCbyB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vantGardeITCbyBT-Book"/>
              </a:rPr>
              <a:t>	</a:t>
            </a: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Total  </a:t>
            </a: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     1.979.020 E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e3e3ff"/>
                </a:solidFill>
                <a:latin typeface="Arial"/>
              </a:rPr>
              <a:t>5. Conclusions so fa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ccff"/>
                </a:solidFill>
                <a:latin typeface="Arial"/>
              </a:rPr>
              <a:t>Spatial Planning cannot substitute  the ICZM-process  - but forms an essential p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ccff"/>
                </a:solidFill>
                <a:latin typeface="Arial"/>
              </a:rPr>
              <a:t>Spatial planning of the sea should become an integral part of ICZ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e3e3ff"/>
                </a:solidFill>
                <a:latin typeface="Arial"/>
              </a:rPr>
              <a:t>Conten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ccff"/>
                </a:solidFill>
                <a:latin typeface="Arial"/>
              </a:rPr>
              <a:t>The challe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ccff"/>
                </a:solidFill>
                <a:latin typeface="Arial"/>
              </a:rPr>
              <a:t>Overall Objec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ccff"/>
                </a:solidFill>
                <a:latin typeface="Arial"/>
              </a:rPr>
              <a:t>PlanCoast Project Ar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ccff"/>
                </a:solidFill>
                <a:latin typeface="Arial"/>
              </a:rPr>
              <a:t>PlanCoast Structure and Tas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ccff"/>
                </a:solidFill>
                <a:latin typeface="Arial"/>
              </a:rPr>
              <a:t>Conclusions so f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313200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3e3ff"/>
                </a:solidFill>
                <a:latin typeface="Arial"/>
              </a:rPr>
              <a:t>1. The challenges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267480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rowing conflicts among seaside activ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rgent need for spatial co-ordination of offshore 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987640" y="476280"/>
          <a:ext cx="6156360" cy="608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476280"/>
                    <a:ext cx="6156360" cy="60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e3e3ff"/>
                </a:solidFill>
                <a:latin typeface="Arial"/>
              </a:rPr>
              <a:t>2. Overall Objective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61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04600" indent="-80460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ccff"/>
                </a:solidFill>
                <a:latin typeface="Arial"/>
              </a:rPr>
              <a:t>Strengthen ICZM through spatial plan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4600" indent="-80460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ccff"/>
                </a:solidFill>
                <a:latin typeface="Arial"/>
              </a:rPr>
              <a:t>Integrate land- and sea-side plan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4600" indent="-80460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ccff"/>
                </a:solidFill>
                <a:latin typeface="Arial"/>
              </a:rPr>
              <a:t>Exchange experience between Adriatic Sea, Baltic Sea, Black Se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4600" indent="-80460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cc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ccff"/>
                </a:solidFill>
                <a:latin typeface="Arial"/>
              </a:rPr>
              <a:t>Support EU maritime strate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156000" y="836280"/>
            <a:ext cx="29876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e3e3ff"/>
                </a:solidFill>
                <a:latin typeface="Arial"/>
              </a:rPr>
              <a:t>3. PlanCoast </a:t>
            </a:r>
            <a:br>
              <a:rPr sz="3600"/>
            </a:br>
            <a:r>
              <a:rPr b="0" lang="de-DE" sz="3600" spc="-1" strike="noStrike">
                <a:solidFill>
                  <a:srgbClr val="e3e3ff"/>
                </a:solidFill>
                <a:latin typeface="Arial"/>
              </a:rPr>
              <a:t>Project Area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561672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572000" y="326556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788000" y="364500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5003640" y="386064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258920" y="620640"/>
            <a:ext cx="7200720" cy="58816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5219640" y="4079880"/>
            <a:ext cx="360" cy="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e3e3ff"/>
                </a:solidFill>
                <a:latin typeface="Arial"/>
              </a:rPr>
              <a:t>WP 1 „Strengthening the role of Spatial planning in ICZM“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ff"/>
                </a:solidFill>
                <a:latin typeface="Arial"/>
              </a:rPr>
              <a:t>Assessment of status Q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ff"/>
                </a:solidFill>
                <a:latin typeface="Arial"/>
              </a:rPr>
              <a:t>National reports on current ICZM/Sea Use Planning precond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ff"/>
                </a:solidFill>
                <a:latin typeface="Arial"/>
              </a:rPr>
              <a:t>Transnational, comparative study on the role of Spatial Planning in ICZM in the Adriatic, Baltic and Black S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e3e3ff"/>
                </a:solidFill>
                <a:latin typeface="Arial"/>
              </a:rPr>
              <a:t>WP 2 „Geographical information systems“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ff"/>
                </a:solidFill>
                <a:latin typeface="Arial"/>
              </a:rPr>
              <a:t>Agreement on common technical basics and set of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ff"/>
                </a:solidFill>
                <a:latin typeface="Arial"/>
              </a:rPr>
              <a:t>Creation of update of GIS datab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e3e3ff"/>
                </a:solidFill>
                <a:latin typeface="Arial"/>
              </a:rPr>
              <a:t>WP 3 „Sea-Use-Planning in Action“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ff"/>
                </a:solidFill>
                <a:latin typeface="Arial"/>
              </a:rPr>
              <a:t>Preparation of Sea-Use-Plans for several 12 –sm-z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ff"/>
                </a:solidFill>
                <a:latin typeface="Arial"/>
              </a:rPr>
              <a:t>Sea-Use-Planning training programme for spatial planners from participating count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3T07:37:53Z</dcterms:created>
  <dc:creator>VIII430-1</dc:creator>
  <dc:description/>
  <dc:language>en-US</dc:language>
  <cp:lastModifiedBy>laurenta</cp:lastModifiedBy>
  <dcterms:modified xsi:type="dcterms:W3CDTF">2007-05-31T15:24:18Z</dcterms:modified>
  <cp:revision>125</cp:revision>
  <dc:subject/>
  <dc:title>INTERREG III B BSR Projekt BaltCoast</dc:title>
</cp:coreProperties>
</file>