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26.png" ContentType="image/png"/>
  <Override PartName="/ppt/media/image6.wmf" ContentType="image/x-wmf"/>
  <Override PartName="/ppt/media/image10.wmf" ContentType="image/x-wmf"/>
  <Override PartName="/ppt/media/image2.png" ContentType="image/png"/>
  <Override PartName="/ppt/media/image25.png" ContentType="image/png"/>
  <Override PartName="/ppt/media/image5.wmf" ContentType="image/x-wmf"/>
  <Override PartName="/ppt/media/image4.wmf" ContentType="image/x-wmf"/>
  <Override PartName="/ppt/media/image23.png" ContentType="image/png"/>
  <Override PartName="/ppt/media/image22.png" ContentType="image/png"/>
  <Override PartName="/ppt/media/image21.png" ContentType="image/png"/>
  <Override PartName="/ppt/media/image3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embeddings/oleObject4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796088" cy="9982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762120"/>
            <a:ext cx="9144000" cy="6097320"/>
          </a:xfrm>
          <a:prstGeom prst="rect">
            <a:avLst/>
          </a:prstGeom>
          <a:gradFill rotWithShape="0">
            <a:gsLst>
              <a:gs pos="0">
                <a:srgbClr val="0099cc"/>
              </a:gs>
              <a:gs pos="100000">
                <a:srgbClr val="3e00b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735120"/>
            <a:ext cx="9144000" cy="102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809640"/>
            <a:ext cx="9144000" cy="1047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887400"/>
            <a:ext cx="9144000" cy="1033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272880"/>
            <a:ext cx="861084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99"/>
                </a:solidFill>
                <a:latin typeface="Arial"/>
              </a:rPr>
              <a:t>Predicting Harbour Development: Forecast of German sea borne traffic 202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447920" y="129528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6172200"/>
            <a:ext cx="9144000" cy="6858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3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de-DE" sz="1400" spc="-1" strike="noStrike">
                <a:solidFill>
                  <a:srgbClr val="000000"/>
                </a:solidFill>
                <a:latin typeface="Arial Narrow"/>
              </a:rPr>
              <a:t>Planco Consulting GmbH - Ess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LANCO70" descr=""/>
          <p:cNvPicPr/>
          <p:nvPr/>
        </p:nvPicPr>
        <p:blipFill>
          <a:blip r:embed="rId2"/>
          <a:stretch/>
        </p:blipFill>
        <p:spPr>
          <a:xfrm>
            <a:off x="44280" y="6248520"/>
            <a:ext cx="489240" cy="53316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8458200" y="6553080"/>
            <a:ext cx="53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EB8B1-0C3F-4A28-ACF1-86733EFBBCD0}" type="slidenum">
              <a:rPr b="1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8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19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20.wmf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5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90720" y="1981080"/>
            <a:ext cx="6858000" cy="24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redicting Harbour Develop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Forecast of German sea borne traffic 202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585800" y="206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rcRect l="0" t="11120" r="0" b="2224"/>
          <a:stretch/>
        </p:blipFill>
        <p:spPr>
          <a:xfrm>
            <a:off x="0" y="1143000"/>
            <a:ext cx="5334120" cy="244152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3733920" y="1676520"/>
            <a:ext cx="9144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ffffff"/>
                </a:solidFill>
                <a:latin typeface="Times New Roman"/>
              </a:rPr>
              <a:t>WR 4,3 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0" y="914400"/>
            <a:ext cx="5791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ffffff"/>
                </a:solidFill>
                <a:latin typeface="Arial"/>
                <a:ea typeface="Arial"/>
              </a:rPr>
              <a:t>Devopment of cargo handling Lübeck</a:t>
            </a:r>
            <a:r>
              <a:rPr b="1" lang="en-US" sz="1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71600" y="20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rcRect l="0" t="11054" r="0" b="1851"/>
          <a:stretch/>
        </p:blipFill>
        <p:spPr>
          <a:xfrm>
            <a:off x="3505320" y="3633840"/>
            <a:ext cx="5486400" cy="25383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7315200" y="4533840"/>
            <a:ext cx="9144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ffffff"/>
                </a:solidFill>
                <a:latin typeface="Times New Roman"/>
              </a:rPr>
              <a:t>WR 4,4 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57800" y="3298680"/>
            <a:ext cx="3809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ffffff"/>
                </a:solidFill>
                <a:latin typeface="Arial"/>
                <a:ea typeface="Arial"/>
              </a:rPr>
              <a:t>Devopment of cargo handling Rostock</a:t>
            </a:r>
            <a:r>
              <a:rPr b="1" lang="en-US" sz="1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585800" y="1976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585800" y="1976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3295800"/>
            <a:ext cx="6480" cy="183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3479760"/>
            <a:ext cx="64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479760"/>
            <a:ext cx="64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80" y="3479760"/>
            <a:ext cx="100332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009800" y="3295800"/>
            <a:ext cx="6120" cy="183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009800" y="3479760"/>
            <a:ext cx="612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015920" y="3479760"/>
            <a:ext cx="6796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695600" y="3295800"/>
            <a:ext cx="6120" cy="183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695600" y="3479760"/>
            <a:ext cx="612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701720" y="3479760"/>
            <a:ext cx="6796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381400" y="3479760"/>
            <a:ext cx="612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387520" y="3479760"/>
            <a:ext cx="6796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067200" y="3479760"/>
            <a:ext cx="612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73320" y="3479760"/>
            <a:ext cx="6796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753000" y="3295800"/>
            <a:ext cx="6120" cy="183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753000" y="3479760"/>
            <a:ext cx="612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759120" y="3479760"/>
            <a:ext cx="6796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438800" y="3295800"/>
            <a:ext cx="6120" cy="183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438800" y="3479760"/>
            <a:ext cx="612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444920" y="3479760"/>
            <a:ext cx="6796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124600" y="3479760"/>
            <a:ext cx="612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130720" y="3479760"/>
            <a:ext cx="6796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10400" y="3479760"/>
            <a:ext cx="612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810400" y="3479760"/>
            <a:ext cx="612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1240" y="3505320"/>
            <a:ext cx="40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0" y="3610080"/>
          <a:ext cx="4114800" cy="2562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610080"/>
                    <a:ext cx="4114800" cy="25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7" name=""/>
          <p:cNvGraphicFramePr/>
          <p:nvPr/>
        </p:nvGraphicFramePr>
        <p:xfrm>
          <a:off x="4848120" y="3610080"/>
          <a:ext cx="4114800" cy="2562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48120" y="3610080"/>
                    <a:ext cx="4114800" cy="25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9" name=""/>
          <p:cNvGraphicFramePr/>
          <p:nvPr/>
        </p:nvGraphicFramePr>
        <p:xfrm>
          <a:off x="0" y="990720"/>
          <a:ext cx="4114800" cy="259056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990720"/>
                    <a:ext cx="4114800" cy="259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1" name=""/>
          <p:cNvGraphicFramePr/>
          <p:nvPr/>
        </p:nvGraphicFramePr>
        <p:xfrm>
          <a:off x="4876920" y="990720"/>
          <a:ext cx="4114800" cy="259056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876920" y="990720"/>
                    <a:ext cx="4114800" cy="259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843200" y="1633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Hamburg_Bremen_Wilhelmshaven_2004_co_See" descr=""/>
          <p:cNvPicPr/>
          <p:nvPr/>
        </p:nvPicPr>
        <p:blipFill>
          <a:blip r:embed="rId1"/>
          <a:srcRect l="0" t="1001" r="0" b="3262"/>
          <a:stretch/>
        </p:blipFill>
        <p:spPr>
          <a:xfrm>
            <a:off x="838080" y="1270080"/>
            <a:ext cx="7391520" cy="48625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0" y="990720"/>
            <a:ext cx="9144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1" lang="de-DE" sz="1100" spc="-1" strike="noStrike">
                <a:solidFill>
                  <a:srgbClr val="ffffff"/>
                </a:solidFill>
                <a:latin typeface="Arial"/>
                <a:ea typeface="Arial"/>
              </a:rPr>
              <a:t>Transshipment über Hamburg / Bremische Häfen / Wilhelmshaven – Containerladung 2004 in 1.000 t</a:t>
            </a:r>
            <a:r>
              <a:rPr b="1" lang="en-US" sz="1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843200" y="1633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Hamburg_Bremen_Wilhelmshaven_2025_co_See" descr=""/>
          <p:cNvPicPr/>
          <p:nvPr/>
        </p:nvPicPr>
        <p:blipFill>
          <a:blip r:embed="rId1"/>
          <a:srcRect l="0" t="1001" r="0" b="3262"/>
          <a:stretch/>
        </p:blipFill>
        <p:spPr>
          <a:xfrm>
            <a:off x="838080" y="1270080"/>
            <a:ext cx="7391520" cy="486252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0" y="990720"/>
            <a:ext cx="9144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Arial"/>
              </a:rPr>
              <a:t>T</a:t>
            </a: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Arial"/>
              </a:rPr>
              <a:t>Transshipment über Hamburg / Bremische Häfen / Wilhelmshaven – Containerladung 2025 in 1.000 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843200" y="1633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914400" y="966960"/>
            <a:ext cx="7467480" cy="51876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914400" y="990720"/>
            <a:ext cx="7620120" cy="51973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990720" y="1012680"/>
            <a:ext cx="7391160" cy="51501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987480"/>
            <a:ext cx="7391160" cy="51847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457200" y="1219320"/>
            <a:ext cx="8305920" cy="44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xpanding Capacity while respecting the Enviro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increase port efficiency and productivity rates in terms of output or movement per ha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Integrated transport chain at least through the port to hinterland carriers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use telecommunication to smoothen the interface between modes and operators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xplore alternative transport routes considering the capacity of hinterland links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xpand ports on the basis of large consensus of all stakeholders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743200" y="1143000"/>
            <a:ext cx="3124080" cy="4876920"/>
          </a:xfrm>
          <a:prstGeom prst="downArrow">
            <a:avLst>
              <a:gd name="adj1" fmla="val 50000"/>
              <a:gd name="adj2" fmla="val 39027"/>
            </a:avLst>
          </a:prstGeom>
          <a:solidFill>
            <a:srgbClr val="99ccff"/>
          </a:solidFill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45280" y="1066680"/>
            <a:ext cx="738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Challenges for the European Ports 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62120" y="3870360"/>
            <a:ext cx="8076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nvironmental aspects ( greenhouse gases, air quality) require  modal diversification towards rail, inland navigation and maritime transport with ports as interfa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31880" y="1600200"/>
            <a:ext cx="841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International transport growing quicker than economic grow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46280" y="2057400"/>
            <a:ext cx="8397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Development of container transport together with more effective, faster, safer and cleaner port operation requires major efforts in land acquisition and management as well as in social iss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46280" y="3108240"/>
            <a:ext cx="8092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The use of It in navigation and telecommunication technologies offers prospects for productivity and new job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54920" y="5029200"/>
            <a:ext cx="7942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Dialogue between port stakeholders and urban, regional play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have  to ensure social acceptance, to improve the image of t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ports and to achieve a better spatial organis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1219320"/>
            <a:ext cx="9144000" cy="50511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0" y="3581280"/>
            <a:ext cx="2971800" cy="2438640"/>
          </a:xfrm>
          <a:prstGeom prst="ellipse">
            <a:avLst/>
          </a:prstGeom>
          <a:noFill/>
          <a:ln w="507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429000" y="1828800"/>
            <a:ext cx="2895480" cy="2209680"/>
          </a:xfrm>
          <a:prstGeom prst="ellipse">
            <a:avLst/>
          </a:prstGeom>
          <a:noFill/>
          <a:ln w="507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638680" y="1143000"/>
            <a:ext cx="3505320" cy="1447920"/>
          </a:xfrm>
          <a:prstGeom prst="ellipse">
            <a:avLst/>
          </a:prstGeom>
          <a:noFill/>
          <a:ln w="507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69560" y="4484520"/>
            <a:ext cx="357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3399"/>
                </a:solidFill>
                <a:latin typeface="Arial"/>
              </a:rPr>
              <a:t>Rhine Estuary Por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584880" y="3341520"/>
            <a:ext cx="286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3399"/>
                </a:solidFill>
                <a:latin typeface="Arial"/>
              </a:rPr>
              <a:t>North Sea Por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962880" y="1219320"/>
            <a:ext cx="370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99"/>
                </a:solidFill>
                <a:latin typeface="Arial"/>
              </a:rPr>
              <a:t>Ports at the Baltic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762120" y="995400"/>
          <a:ext cx="7543800" cy="5176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995400"/>
                    <a:ext cx="7543800" cy="517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split dir="in" orient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228600" y="1066680"/>
          <a:ext cx="3657600" cy="2287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066680"/>
                    <a:ext cx="3657600" cy="228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" name=""/>
          <p:cNvGraphicFramePr/>
          <p:nvPr/>
        </p:nvGraphicFramePr>
        <p:xfrm>
          <a:off x="4876920" y="1066680"/>
          <a:ext cx="3733560" cy="23400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76920" y="1066680"/>
                    <a:ext cx="3733560" cy="234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" name=""/>
          <p:cNvGraphicFramePr/>
          <p:nvPr/>
        </p:nvGraphicFramePr>
        <p:xfrm>
          <a:off x="2438280" y="3581280"/>
          <a:ext cx="3733920" cy="233676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438280" y="3581280"/>
                    <a:ext cx="3733920" cy="233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"/>
          <p:cNvGraphicFramePr/>
          <p:nvPr/>
        </p:nvGraphicFramePr>
        <p:xfrm>
          <a:off x="1371600" y="990720"/>
          <a:ext cx="6553080" cy="5244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990720"/>
                    <a:ext cx="6553080" cy="524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304920" y="5410080"/>
            <a:ext cx="853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Interdependence between foreign trade and maritime trans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2209680"/>
            <a:ext cx="4495680" cy="26002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4572000" y="2209680"/>
            <a:ext cx="4572000" cy="26402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486080" y="914400"/>
            <a:ext cx="5829120" cy="28195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57240" y="3581280"/>
            <a:ext cx="4591080" cy="25909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4529160" y="3549600"/>
            <a:ext cx="4614840" cy="26226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3767040" y="3378240"/>
            <a:ext cx="5300640" cy="2793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-76320" y="838080"/>
            <a:ext cx="5372280" cy="28512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J</cp:lastModifiedBy>
  <cp:lastPrinted>2006-03-12T17:02:58Z</cp:lastPrinted>
  <dcterms:modified xsi:type="dcterms:W3CDTF">2007-11-19T16:13:08Z</dcterms:modified>
  <cp:revision>33</cp:revision>
  <dc:subject/>
  <dc:title>Kein Folientitel</dc:title>
</cp:coreProperties>
</file>