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62120"/>
            <a:ext cx="9144000" cy="60973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3e00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735120"/>
            <a:ext cx="9144000" cy="10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809640"/>
            <a:ext cx="9144000" cy="1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887400"/>
            <a:ext cx="9144000" cy="10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272880"/>
            <a:ext cx="86108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99"/>
                </a:solidFill>
                <a:latin typeface="Arial"/>
              </a:rPr>
              <a:t>Predicting Harbour Development: Forecast of German sea borne traffic 2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7920" y="1295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400" spc="-1" strike="noStrike">
                <a:solidFill>
                  <a:srgbClr val="000000"/>
                </a:solidFill>
                <a:latin typeface="Arial Narrow"/>
              </a:rPr>
              <a:t>Planco Consulting GmbH - Es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LANCO70" descr=""/>
          <p:cNvPicPr/>
          <p:nvPr/>
        </p:nvPicPr>
        <p:blipFill>
          <a:blip r:embed="rId2"/>
          <a:stretch/>
        </p:blipFill>
        <p:spPr>
          <a:xfrm>
            <a:off x="44280" y="6248520"/>
            <a:ext cx="489240" cy="5331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8458200" y="6553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1A78-F96A-4CA4-AB05-55226E146C4D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1981080"/>
            <a:ext cx="68580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edicting Harbou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ecast of German sea borne traffic 20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8580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11120" r="0" b="2224"/>
          <a:stretch/>
        </p:blipFill>
        <p:spPr>
          <a:xfrm>
            <a:off x="0" y="1143000"/>
            <a:ext cx="5334120" cy="2441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33920" y="1676520"/>
            <a:ext cx="914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WR 4,3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914400"/>
            <a:ext cx="5791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Arial"/>
                <a:ea typeface="Arial"/>
              </a:rPr>
              <a:t>Devopment of cargo handling Lübeck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0" t="11054" r="0" b="1851"/>
          <a:stretch/>
        </p:blipFill>
        <p:spPr>
          <a:xfrm>
            <a:off x="3505320" y="3633840"/>
            <a:ext cx="5486400" cy="253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15200" y="4533840"/>
            <a:ext cx="914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WR 4,4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3298680"/>
            <a:ext cx="380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Arial"/>
                <a:ea typeface="Arial"/>
              </a:rPr>
              <a:t>Devopment of cargo handling Rostock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858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58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95800"/>
            <a:ext cx="648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4797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4797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80" y="3479760"/>
            <a:ext cx="1003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09800" y="3295800"/>
            <a:ext cx="612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098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15920" y="3479760"/>
            <a:ext cx="679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95600" y="3295800"/>
            <a:ext cx="612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956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01720" y="3479760"/>
            <a:ext cx="679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814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87520" y="3479760"/>
            <a:ext cx="679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672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73320" y="3479760"/>
            <a:ext cx="679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53000" y="3295800"/>
            <a:ext cx="612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530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59120" y="3479760"/>
            <a:ext cx="679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38800" y="3295800"/>
            <a:ext cx="612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388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44920" y="3479760"/>
            <a:ext cx="679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246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30720" y="3479760"/>
            <a:ext cx="679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104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10400" y="3479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40" y="35053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3610080"/>
          <a:ext cx="4114800" cy="256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10080"/>
                    <a:ext cx="411480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848120" y="3610080"/>
          <a:ext cx="4114800" cy="2562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48120" y="3610080"/>
                    <a:ext cx="411480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990720"/>
          <a:ext cx="4114800" cy="2590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990720"/>
                    <a:ext cx="41148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876920" y="990720"/>
          <a:ext cx="4114800" cy="2590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990720"/>
                    <a:ext cx="41148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84320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Hamburg_Bremen_Wilhelmshaven_2004_co_See" descr=""/>
          <p:cNvPicPr/>
          <p:nvPr/>
        </p:nvPicPr>
        <p:blipFill>
          <a:blip r:embed="rId1"/>
          <a:srcRect l="0" t="1001" r="0" b="3262"/>
          <a:stretch/>
        </p:blipFill>
        <p:spPr>
          <a:xfrm>
            <a:off x="838080" y="1270080"/>
            <a:ext cx="7391520" cy="4862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9907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de-DE" sz="1100" spc="-1" strike="noStrike">
                <a:solidFill>
                  <a:srgbClr val="ffffff"/>
                </a:solidFill>
                <a:latin typeface="Arial"/>
                <a:ea typeface="Arial"/>
              </a:rPr>
              <a:t>Transshipment über Hamburg / Bremische Häfen / Wilhelmshaven – Containerladung 2004 in 1.000 t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4320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Hamburg_Bremen_Wilhelmshaven_2025_co_See" descr=""/>
          <p:cNvPicPr/>
          <p:nvPr/>
        </p:nvPicPr>
        <p:blipFill>
          <a:blip r:embed="rId1"/>
          <a:srcRect l="0" t="1001" r="0" b="3262"/>
          <a:stretch/>
        </p:blipFill>
        <p:spPr>
          <a:xfrm>
            <a:off x="838080" y="1270080"/>
            <a:ext cx="7391520" cy="4862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9907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Transshipment über Hamburg / Bremische Häfen / Wilhelmshaven – Containerladung 2025 in 1.000 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4320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4400" y="966960"/>
            <a:ext cx="7467480" cy="518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620120" cy="519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90720" y="1012680"/>
            <a:ext cx="7391160" cy="515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987480"/>
            <a:ext cx="7391160" cy="51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1219320"/>
            <a:ext cx="830592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anding Capacity while respecting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crease port efficiency and productivity rates in terms of output or movement per h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egrated transport chain at least through the port to hinterland carrier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se telecommunication to smoothen the interface between modes and operator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xplore alternative transport routes considering the capacity of hinterland link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xpand ports on the basis of large consensus of all stakeholder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43200" y="1143000"/>
            <a:ext cx="3124080" cy="4876920"/>
          </a:xfrm>
          <a:prstGeom prst="downArrow">
            <a:avLst>
              <a:gd name="adj1" fmla="val 50000"/>
              <a:gd name="adj2" fmla="val 39027"/>
            </a:avLst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280" y="1066680"/>
            <a:ext cx="73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allenges for the European Port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387036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vironmental aspects ( greenhouse gases, air quality) require  modal diversification towards rail, inland navigation and maritime transport with ports as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880" y="1600200"/>
            <a:ext cx="841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rnational transport growing quicker than economic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280" y="2057400"/>
            <a:ext cx="83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velopment of container transport together with more effective, faster, safer and cleaner port operation requires major efforts in land acquisition and management as well as in social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280" y="3108240"/>
            <a:ext cx="809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se of It in navigation and telecommunication technologies offers prospects for productivity and new jo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4920" y="5029200"/>
            <a:ext cx="794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alogue between port stakeholders and urban, regional p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ave  to ensure social acceptance, to improve the image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rts and to achieve a better spatial 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51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581280"/>
            <a:ext cx="2971800" cy="2438640"/>
          </a:xfrm>
          <a:prstGeom prst="ellipse">
            <a:avLst/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828800"/>
            <a:ext cx="2895480" cy="2209680"/>
          </a:xfrm>
          <a:prstGeom prst="ellipse">
            <a:avLst/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1143000"/>
            <a:ext cx="3505320" cy="1447920"/>
          </a:xfrm>
          <a:prstGeom prst="ellipse">
            <a:avLst/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69560" y="4484520"/>
            <a:ext cx="35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Rhine Estuary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4880" y="334152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North Sea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880" y="1219320"/>
            <a:ext cx="370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Arial"/>
              </a:rPr>
              <a:t>Ports at the Baltic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62120" y="995400"/>
          <a:ext cx="7543800" cy="51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5400"/>
                    <a:ext cx="754380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28600" y="1066680"/>
          <a:ext cx="3657600" cy="22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365760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876920" y="1066680"/>
          <a:ext cx="3733560" cy="2340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066680"/>
                    <a:ext cx="373356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438280" y="3581280"/>
          <a:ext cx="3733920" cy="233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3581280"/>
                    <a:ext cx="373392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371600" y="990720"/>
          <a:ext cx="6553080" cy="524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6553080" cy="52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54100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rdependence between foreign trade and maritime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4495680" cy="260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572000" cy="264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86080" y="914400"/>
            <a:ext cx="5829120" cy="2819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240" y="3581280"/>
            <a:ext cx="4591080" cy="2590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529160" y="3549600"/>
            <a:ext cx="4614840" cy="2622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67040" y="3378240"/>
            <a:ext cx="5300640" cy="2793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76320" y="838080"/>
            <a:ext cx="5372280" cy="2851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J</cp:lastModifiedBy>
  <cp:lastPrinted>2006-03-12T17:02:58Z</cp:lastPrinted>
  <dcterms:modified xsi:type="dcterms:W3CDTF">2007-11-19T16:13:08Z</dcterms:modified>
  <cp:revision>33</cp:revision>
  <dc:subject/>
  <dc:title>Kein Folientitel</dc:title>
</cp:coreProperties>
</file>