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DA15771-31A6-4AE1-B1EB-038661012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formation of represents from Adriatic, Baltic and Black Sea Region as well of regional Organis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A200-0148-4EE2-8F8D-D66C0E2AF5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4071240"/>
            <a:ext cx="807696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E8C8-02E8-4EE3-A0E5-ECFE9403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D17A-397A-4B61-A5E7-AF38281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4480" y="20570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800" y="20570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40712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4480" y="40712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800" y="40712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D22C-5A92-4E52-A3BF-24B2B02D34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0769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E995-377F-408C-8C3F-E6F4A3AB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08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71240"/>
            <a:ext cx="807696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71240"/>
            <a:ext cx="807696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08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4480" y="20570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800" y="20570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712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4480" y="40712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800" y="40712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2B86-6A40-44E1-B7C5-C4AF89A4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7E09-ABBA-4359-AAC5-33374D0B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CAB8-5015-41BB-8360-E85C503A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0769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8DFD-0FE8-4A81-A477-93189BE1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2794A-53F0-43AD-86D2-5BA0B56D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189A-B3D4-4667-AB35-52931E99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4071240"/>
            <a:ext cx="807696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D2CB-F926-4129-ADE1-86425C0D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2525" b="0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-26208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27468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06400" indent="-26496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73160" indent="-26496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073160" indent="-264960">
              <a:lnSpc>
                <a:spcPct val="115000"/>
              </a:lnSpc>
              <a:spcBef>
                <a:spcPts val="788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073160" indent="-264960">
              <a:lnSpc>
                <a:spcPct val="115000"/>
              </a:lnSpc>
              <a:spcBef>
                <a:spcPts val="788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520" y="6400440"/>
            <a:ext cx="38988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Schwerin, Februar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759440" y="6400440"/>
            <a:ext cx="850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287d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6C37-C80B-429B-BA15-8E879CA16D24}" type="slidenum">
              <a:rPr b="0" lang="de-DE" sz="1200" spc="-1" strike="noStrike">
                <a:solidFill>
                  <a:srgbClr val="287d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0" t="0" r="32525" b="0"/>
          <a:stretch/>
        </p:blipFill>
        <p:spPr>
          <a:xfrm>
            <a:off x="0" y="0"/>
            <a:ext cx="9144000" cy="1233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110360" y="0"/>
            <a:ext cx="2033640" cy="113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a3c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a3c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7984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3000" y="0"/>
            <a:ext cx="3051000" cy="1695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lnSpc>
                <a:spcPct val="11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4960" algn="ctr">
              <a:lnSpc>
                <a:spcPct val="115000"/>
              </a:lnSpc>
              <a:spcBef>
                <a:spcPts val="700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41440" algn="ctr">
              <a:lnSpc>
                <a:spcPct val="115000"/>
              </a:lnSpc>
              <a:spcBef>
                <a:spcPts val="700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08200" algn="ctr">
              <a:lnSpc>
                <a:spcPct val="115000"/>
              </a:lnSpc>
              <a:spcBef>
                <a:spcPts val="612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08200">
              <a:spcBef>
                <a:spcPts val="3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08200">
              <a:spcBef>
                <a:spcPts val="3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4170" r="0" b="4170"/>
          <a:stretch/>
        </p:blipFill>
        <p:spPr>
          <a:xfrm>
            <a:off x="0" y="1752480"/>
            <a:ext cx="9144000" cy="3353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22756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usan Toben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nistry for Labour, Building and Regional Development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-V Germany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ead Partner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55280" y="5381280"/>
            <a:ext cx="80773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3353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1760" y="2349360"/>
            <a:ext cx="733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5196"/>
                </a:solidFill>
                <a:latin typeface="Arial"/>
              </a:rPr>
              <a:t>ICZM Strategy Development Process</a:t>
            </a:r>
            <a:br>
              <a:rPr sz="2800"/>
            </a:br>
            <a:r>
              <a:rPr b="1" lang="en-GB" sz="2800" spc="-1" strike="noStrike">
                <a:solidFill>
                  <a:srgbClr val="225196"/>
                </a:solidFill>
                <a:latin typeface="Arial"/>
              </a:rPr>
              <a:t>The PlanCoast Input from WP</a:t>
            </a:r>
            <a:r>
              <a:rPr b="1" lang="de-DE" sz="2800" spc="-1" strike="noStrike">
                <a:solidFill>
                  <a:srgbClr val="225196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01760" y="498600"/>
            <a:ext cx="1476360" cy="55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052640"/>
            <a:ext cx="540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ick-off Meeting 13./14. July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buClr>
                <a:srgbClr val="287da8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Evaluation of Pilot projects 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07696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 s responsible?: WP Leader in close collaboration with all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eptember until December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compared?: Common terms of re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9079-F8C7-47B2-AE54-A54D2B5809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buClr>
                <a:srgbClr val="287da8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Recommendations on the implementation of national ICZM strategies and on the introduction of maritime Spatial Planning</a:t>
            </a:r>
            <a:br>
              <a:rPr sz="2400"/>
            </a:b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07696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‘ s responsible?: WP Leader in close collaboration with all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en?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October 2007 until February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hould be recommended?: Based on transnational study and results and experience from WP 2-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081F-D36F-4848-BD66-976D2D025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7da8"/>
                </a:solidFill>
                <a:latin typeface="Arial"/>
              </a:rPr>
              <a:t>How to finance WP 1?</a:t>
            </a:r>
            <a:endParaRPr b="1" lang="en-US" sz="28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ct val="105000"/>
              </a:lnSpc>
              <a:spcBef>
                <a:spcPts val="1049"/>
              </a:spcBef>
              <a:buClr>
                <a:srgbClr val="287da8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 financed via specific partner bu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ct val="105000"/>
              </a:lnSpc>
              <a:spcBef>
                <a:spcPts val="876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and assessment as well as national reports each partner for himself (own personnel or external expe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ct val="105000"/>
              </a:lnSpc>
              <a:spcBef>
                <a:spcPts val="876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ases regional studies (e.g. Adriatic Region) also from specific partner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ts val="2398"/>
              </a:lnSpc>
              <a:spcBef>
                <a:spcPts val="1250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ravel for working groups from own partner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72D2D-0A46-4246-B928-B54B472020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7da8"/>
                </a:solidFill>
                <a:latin typeface="Arial"/>
              </a:rPr>
              <a:t>How to finance WP 1?</a:t>
            </a:r>
            <a:endParaRPr b="1" lang="en-US" sz="28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ct val="105000"/>
              </a:lnSpc>
              <a:spcBef>
                <a:spcPts val="1049"/>
              </a:spcBef>
              <a:buClr>
                <a:srgbClr val="287da8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financed via common bu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ts val="2398"/>
              </a:lnSpc>
              <a:spcBef>
                <a:spcPts val="1250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national comparative study from common budget (external expertise) by all partners as foreseen in the project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ts val="2398"/>
              </a:lnSpc>
              <a:spcBef>
                <a:spcPts val="1250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on of pilot projects from common budget (external expertise) by all partners as foreseen in project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ts val="2398"/>
              </a:lnSpc>
              <a:spcBef>
                <a:spcPts val="1250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mmendations from common budget (external expertise) by all partners as foreseen in the project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FBD9-DB91-4F71-8856-844FB2E783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51280" y="1233360"/>
            <a:ext cx="5292720" cy="5007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233360"/>
            <a:ext cx="4572000" cy="5004000"/>
          </a:xfrm>
          <a:prstGeom prst="rect">
            <a:avLst/>
          </a:prstGeom>
          <a:solidFill>
            <a:srgbClr val="28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284640"/>
            <a:ext cx="403848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 you very much for your attention!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163CA-C2E5-4736-9EB1-762379AD4E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Questions to discuss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63520" indent="-26208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 can ensure the added value of our work in the frame of WP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-26208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aterial could be us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-26208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timetable of WP 1 fit with other ICZM and maritime Spatial Planning relevant process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2557-A451-4BD7-85BB-0F904B501C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268280"/>
            <a:ext cx="8076960" cy="49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0EF2-59BC-48AD-AA62-A94CFED358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7da8"/>
                </a:solidFill>
                <a:latin typeface="Arial"/>
              </a:rPr>
              <a:t>What do we want to achieve?</a:t>
            </a:r>
            <a:endParaRPr b="1" lang="en-US" sz="36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 of Spatial Planning t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implementation of ICZM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U Maritime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ing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617D-C7D4-4FC0-9F7B-0CA271D0DD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25712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7da8"/>
                </a:solidFill>
                <a:latin typeface="Arial"/>
              </a:rPr>
              <a:t>Central questions of the EU Green Paper of Maritime Policy concerning ICZM and </a:t>
            </a:r>
            <a:br>
              <a:rPr sz="2800"/>
            </a:br>
            <a:r>
              <a:rPr b="1" lang="en-US" sz="2800" spc="-1" strike="noStrike">
                <a:solidFill>
                  <a:srgbClr val="287da8"/>
                </a:solidFill>
                <a:latin typeface="Arial"/>
              </a:rPr>
              <a:t>Spatial Planning</a:t>
            </a:r>
            <a:endParaRPr b="1" lang="en-US" sz="28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68612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ICZM be successfully implemen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principles and mechanisms  that should underpin maritime spatial planning 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systems for planning on land and sea be made compati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84880" y="2565360"/>
            <a:ext cx="291132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DBAC6-7DD5-4A8C-91BE-097C6F07873D}" type="slidenum">
              <a:t>4</a:t>
            </a:fld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7da8"/>
                </a:solidFill>
                <a:latin typeface="Arial"/>
              </a:rPr>
              <a:t>What can Spatial Planning offer to ICZM and the EU Maritime Strategy?</a:t>
            </a:r>
            <a:endParaRPr b="1" lang="en-US" sz="28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6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-262080">
              <a:lnSpc>
                <a:spcPct val="115000"/>
              </a:lnSpc>
              <a:spcBef>
                <a:spcPts val="876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en methods of participation and confli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-262080">
              <a:lnSpc>
                <a:spcPct val="115000"/>
              </a:lnSpc>
              <a:spcBef>
                <a:spcPts val="876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results based on statuto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-262080">
              <a:lnSpc>
                <a:spcPct val="115000"/>
              </a:lnSpc>
              <a:spcBef>
                <a:spcPts val="876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sion of space oriented data through Geographical Information Systems (G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937D-3B23-4C73-806C-B23ECC4F6B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25712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Which steps will be necessary to elaborate our contribution?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3814920"/>
            <a:ext cx="3529080" cy="70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national comparative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06560" y="2352600"/>
            <a:ext cx="3529080" cy="703080"/>
          </a:xfrm>
          <a:prstGeom prst="rect">
            <a:avLst/>
          </a:prstGeom>
          <a:solidFill>
            <a:srgbClr val="a3c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reports on the current ICZM pre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1720" y="5135400"/>
            <a:ext cx="2381040" cy="1007640"/>
          </a:xfrm>
          <a:prstGeom prst="rect">
            <a:avLst/>
          </a:prstGeom>
          <a:solidFill>
            <a:srgbClr val="287e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on Maritim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2708280"/>
            <a:ext cx="352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558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5486400"/>
            <a:ext cx="7164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7120" y="5135400"/>
            <a:ext cx="2381040" cy="1007640"/>
          </a:xfrm>
          <a:prstGeom prst="rect">
            <a:avLst/>
          </a:prstGeom>
          <a:solidFill>
            <a:srgbClr val="287e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on Spatial Planning in ICZ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251160"/>
            <a:ext cx="942840" cy="131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ults and Expe-rience of WP 2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3251160"/>
            <a:ext cx="942840" cy="1312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ults and Expe-rience of WP 2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4525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4525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4572000"/>
            <a:ext cx="970200" cy="12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862760" y="4572000"/>
            <a:ext cx="471600" cy="12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51280" y="2352600"/>
            <a:ext cx="3529080" cy="703080"/>
          </a:xfrm>
          <a:prstGeom prst="rect">
            <a:avLst/>
          </a:prstGeom>
          <a:solidFill>
            <a:srgbClr val="a3c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 study Adriatic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3063960"/>
            <a:ext cx="9367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73320" y="3063960"/>
            <a:ext cx="66996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5670-AB42-4FAC-B9A9-CD7EAD6D1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110000"/>
              </a:lnSpc>
              <a:buClr>
                <a:srgbClr val="287da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Collection and assessment of current policy documents in each partner Country</a:t>
            </a:r>
            <a:br>
              <a:rPr sz="2400"/>
            </a:b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07696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 s responsible?: Each partner for his country by him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art now until October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collected?: Common terms of re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sidering the guidance notes for completing the Progress Indicator of the EU WG on Indicators and Dat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7DA8-94DE-497C-BA14-8B1B90A71C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110000"/>
              </a:lnSpc>
              <a:buClr>
                <a:srgbClr val="287ea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ea8"/>
                </a:solidFill>
                <a:latin typeface="Arial"/>
              </a:rPr>
              <a:t>National reports on the current ICZM preconditions and regional Study for Adriatic Region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07696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 s responsible?: Each partner for his country by him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ctober 2006 until March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reported?: Common terms of re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20A3-7A9A-4AC9-B204-5008894CEE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buClr>
                <a:srgbClr val="287da8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87da8"/>
                </a:solidFill>
                <a:latin typeface="Arial"/>
              </a:rPr>
              <a:t>Transnational comparative study on the current role of spatial planning in ICZM</a:t>
            </a:r>
            <a:br>
              <a:rPr sz="2400"/>
            </a:br>
            <a:r>
              <a:rPr b="1" lang="en-GB" sz="2400" spc="-1" strike="noStrike">
                <a:solidFill>
                  <a:srgbClr val="287da8"/>
                </a:solidFill>
                <a:latin typeface="Arial"/>
              </a:rPr>
              <a:t>and actual state of maritime spatial planning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07696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 s responsible?: WP Leader in close collaboration with all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rch until September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compared?: Common terms of re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CED8-2D1D-435D-A45D-E188811801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3:39:10Z</dcterms:created>
  <dc:creator>Mitarbeiter</dc:creator>
  <dc:description/>
  <dc:language>en-US</dc:language>
  <cp:lastModifiedBy>VIII</cp:lastModifiedBy>
  <dcterms:modified xsi:type="dcterms:W3CDTF">2006-07-11T09:53:34Z</dcterms:modified>
  <cp:revision>22</cp:revision>
  <dc:subject/>
  <dc:title>Powerpoint Master MV | AM</dc:title>
</cp:coreProperties>
</file>