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856476-D618-4882-98E3-799C32EB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formation of represents from Adriatic, Baltic and Black Sea Region as well of regional Organis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A7C6-EA17-4A8F-BED4-8C35A3B0B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D2C5-3BC7-4DC3-9AEC-E8680A24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A7A5-5399-4ECC-AF13-41AAF86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448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80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448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80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574C-8439-41AC-81EA-3847F3B477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076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B6A7-3C31-4966-9445-67C02714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448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800" y="20570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448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800" y="4071240"/>
            <a:ext cx="260064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5D48-F136-43FB-8135-D4649338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694E-4385-4CE5-A25E-A1902FD3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4758-176A-4AD1-9605-DDCC1960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076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4B37-9A3E-48B4-BD57-4288E2E1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54A7-DBD3-4944-B11E-3EFA397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40712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48A9-A01F-4EC7-A16A-A515DA8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2057040"/>
            <a:ext cx="394128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071240"/>
            <a:ext cx="8076960" cy="18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A60F-D53C-4908-A57C-5B30C00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2525" b="0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2746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6400" indent="-26496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73160" indent="-26496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073160" indent="-264960">
              <a:lnSpc>
                <a:spcPct val="115000"/>
              </a:lnSpc>
              <a:spcBef>
                <a:spcPts val="788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073160" indent="-264960">
              <a:lnSpc>
                <a:spcPct val="115000"/>
              </a:lnSpc>
              <a:spcBef>
                <a:spcPts val="788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400440"/>
            <a:ext cx="38988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Schwerin, Februa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759440" y="6400440"/>
            <a:ext cx="850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287d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1FF8-05F0-4EF0-8D48-3589C4749007}" type="slidenum">
              <a:rPr b="0" lang="de-DE" sz="1200" spc="-1" strike="noStrike">
                <a:solidFill>
                  <a:srgbClr val="287d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0" t="0" r="32525" b="0"/>
          <a:stretch/>
        </p:blipFill>
        <p:spPr>
          <a:xfrm>
            <a:off x="0" y="0"/>
            <a:ext cx="9144000" cy="1233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110360" y="0"/>
            <a:ext cx="203364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a3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a3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7984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3000" y="0"/>
            <a:ext cx="3051000" cy="1695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lnSpc>
                <a:spcPct val="11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4960" algn="ctr">
              <a:lnSpc>
                <a:spcPct val="115000"/>
              </a:lnSpc>
              <a:spcBef>
                <a:spcPts val="70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41440" algn="ctr">
              <a:lnSpc>
                <a:spcPct val="115000"/>
              </a:lnSpc>
              <a:spcBef>
                <a:spcPts val="70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8200" algn="ctr">
              <a:lnSpc>
                <a:spcPct val="115000"/>
              </a:lnSpc>
              <a:spcBef>
                <a:spcPts val="612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08200">
              <a:spcBef>
                <a:spcPts val="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08200">
              <a:spcBef>
                <a:spcPts val="3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4170" r="0" b="4170"/>
          <a:stretch/>
        </p:blipFill>
        <p:spPr>
          <a:xfrm>
            <a:off x="0" y="17524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22756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san Toben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ry for Labour, Building and Regional Development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-V Germany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ead Partner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55280" y="5381280"/>
            <a:ext cx="80773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1760" y="2349360"/>
            <a:ext cx="733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5196"/>
                </a:solidFill>
                <a:latin typeface="Arial"/>
              </a:rPr>
              <a:t>ICZM Strategy Development Process</a:t>
            </a:r>
            <a:br>
              <a:rPr sz="2800"/>
            </a:br>
            <a:r>
              <a:rPr b="1" lang="en-GB" sz="2800" spc="-1" strike="noStrike">
                <a:solidFill>
                  <a:srgbClr val="225196"/>
                </a:solidFill>
                <a:latin typeface="Arial"/>
              </a:rPr>
              <a:t>The PlanCoast Input from WP</a:t>
            </a:r>
            <a:r>
              <a:rPr b="1" lang="de-DE" sz="2800" spc="-1" strike="noStrike">
                <a:solidFill>
                  <a:srgbClr val="225196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1760" y="498600"/>
            <a:ext cx="1476360" cy="55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052640"/>
            <a:ext cx="54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ck-off Meeting 13./14. July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287da8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Evaluation of Pilot projects 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WP Leader in close collaboration with all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eptember until Dec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compared?: Common terms of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CDCC-4100-462A-9B38-9EC6E32241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287da8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Recommendations on the implementation of national ICZM strategies and on the introduction of maritime Spatial Planning</a:t>
            </a:r>
            <a:br>
              <a:rPr sz="2400"/>
            </a:b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‘ s responsible?: WP Leader in close collaboration with all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October 2007 until February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hould be recommended?: Based on transnational study and results and experience from WP 2-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7F63-3E99-4BC0-97DC-13C5A93B5B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How to finance WP 1?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1049"/>
              </a:spcBef>
              <a:buClr>
                <a:srgbClr val="287da8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 financed via specific partner bu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and assessment as well as national reports each partner for himself (own personnel or external expe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ases regional studies (e.g. Adriatic Region) also from specific partner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ravel for working groups from own partner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42B0-A2ED-4C95-BFFE-CBA29A1B51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How to finance WP 1?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4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ct val="105000"/>
              </a:lnSpc>
              <a:spcBef>
                <a:spcPts val="1049"/>
              </a:spcBef>
              <a:buClr>
                <a:srgbClr val="287da8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financed via common bu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national comparative study from common budget (external expertise) by all partners as foreseen in the project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of pilot projects from common budget (external expertise) by all partners as foreseen in project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343080">
              <a:lnSpc>
                <a:spcPts val="2398"/>
              </a:lnSpc>
              <a:spcBef>
                <a:spcPts val="1250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ations from common budget (external expertise) by all partners as foreseen in the project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6888-1FEE-407C-8499-379F724CB1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1280" y="1233360"/>
            <a:ext cx="5292720" cy="5007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233360"/>
            <a:ext cx="4572000" cy="5004000"/>
          </a:xfrm>
          <a:prstGeom prst="rect">
            <a:avLst/>
          </a:prstGeom>
          <a:solidFill>
            <a:srgbClr val="28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284640"/>
            <a:ext cx="403848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 very much for your attention!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08C8-0537-4646-A198-5DB18934D4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Questions to discuss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 can ensure the added value of our work in the frame of WP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terial could be us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788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timetable of WP 1 fit with other ICZM and maritime Spatial Planning relevant process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0">
              <a:lnSpc>
                <a:spcPct val="11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CDE2-BAA3-42A6-BFB8-004BC89F64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268280"/>
            <a:ext cx="8076960" cy="49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EBF0-ED3E-4040-95BF-DE9B4975C5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7da8"/>
                </a:solidFill>
                <a:latin typeface="Arial"/>
              </a:rPr>
              <a:t>What do we want to achieve?</a:t>
            </a:r>
            <a:endParaRPr b="1" lang="en-US" sz="36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Spatial Planning 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implementation of ICZM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U Maritim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9792-EB37-4AB7-9449-8F3D948A1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25712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Central questions of the EU Green Paper of Maritime Policy concerning ICZM and </a:t>
            </a:r>
            <a:br>
              <a:rPr sz="2800"/>
            </a:b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Spatial Planning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68612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ICZM be successfully implemen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inciples and mechanisms  that should underpin maritime spatial planning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systems for planning on land and sea be made compati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84880" y="2565360"/>
            <a:ext cx="29113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FD50-E517-4CDD-854E-6DB2EE235AB7}" type="slidenum">
              <a:t>4</a:t>
            </a:fld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7da8"/>
                </a:solidFill>
                <a:latin typeface="Arial"/>
              </a:rPr>
              <a:t>What can Spatial Planning offer to ICZM and the EU Maritime Strategy?</a:t>
            </a:r>
            <a:endParaRPr b="1" lang="en-US" sz="28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en methods of participation and confli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results based on statuto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indent="-262080">
              <a:lnSpc>
                <a:spcPct val="115000"/>
              </a:lnSpc>
              <a:spcBef>
                <a:spcPts val="876"/>
              </a:spcBef>
              <a:buClr>
                <a:srgbClr val="287da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space oriented data through Geographical Information Systems (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E819-F3E0-46D8-8629-53CA39EB5D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25712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Which steps will be necessary to elaborate our contribution?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3814920"/>
            <a:ext cx="352908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national comparativ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06560" y="2352600"/>
            <a:ext cx="3529080" cy="703080"/>
          </a:xfrm>
          <a:prstGeom prst="rect">
            <a:avLst/>
          </a:prstGeom>
          <a:solidFill>
            <a:srgbClr val="a3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reports on the current ICZM pre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1720" y="5135400"/>
            <a:ext cx="238104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on Maritim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708280"/>
            <a:ext cx="352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5486400"/>
            <a:ext cx="7164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7120" y="5135400"/>
            <a:ext cx="238104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on Spatial Planning in IC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251160"/>
            <a:ext cx="942840" cy="131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3251160"/>
            <a:ext cx="942840" cy="1312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4525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4525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4572000"/>
            <a:ext cx="97020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862760" y="4572000"/>
            <a:ext cx="47160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51280" y="2352600"/>
            <a:ext cx="3529080" cy="703080"/>
          </a:xfrm>
          <a:prstGeom prst="rect">
            <a:avLst/>
          </a:prstGeom>
          <a:solidFill>
            <a:srgbClr val="a3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 study Adriatic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3063960"/>
            <a:ext cx="9367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73320" y="3063960"/>
            <a:ext cx="66996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CE70-90ED-4AA1-B67B-7705C8822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110000"/>
              </a:lnSpc>
              <a:buClr>
                <a:srgbClr val="287da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Collection and assessment of current policy documents in each partner Country</a:t>
            </a:r>
            <a:br>
              <a:rPr sz="2400"/>
            </a:br>
            <a:r>
              <a:rPr b="1" lang="en-US" sz="2400" spc="-1" strike="noStrike">
                <a:solidFill>
                  <a:srgbClr val="287da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Each partner for his country by him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art now until October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collected?: Common terms of re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idering the guidance notes for completing the Progress Indicator of the EU WG on Indicators and Dat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2724-2CC5-4B47-9A0E-154B14D148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110000"/>
              </a:lnSpc>
              <a:buClr>
                <a:srgbClr val="287ea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ea8"/>
                </a:solidFill>
                <a:latin typeface="Arial"/>
              </a:rPr>
              <a:t>National reports on the current ICZM preconditions and regional Study for Adriatic Region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Each partner for his country by him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ctober 2006 until March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reported?: Common terms of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A30C-BB9F-451C-86EE-87B980F7F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buClr>
                <a:srgbClr val="287da8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87da8"/>
                </a:solidFill>
                <a:latin typeface="Arial"/>
              </a:rPr>
              <a:t>Transnational comparative study on the current role of spatial planning in ICZM</a:t>
            </a:r>
            <a:br>
              <a:rPr sz="2400"/>
            </a:br>
            <a:r>
              <a:rPr b="1" lang="en-GB" sz="2400" spc="-1" strike="noStrike">
                <a:solidFill>
                  <a:srgbClr val="287da8"/>
                </a:solidFill>
                <a:latin typeface="Arial"/>
              </a:rPr>
              <a:t>and actual state of maritime spatial planning</a:t>
            </a:r>
            <a:endParaRPr b="1" lang="en-US" sz="2400" spc="-1" strike="noStrike">
              <a:solidFill>
                <a:srgbClr val="287da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07696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s responsible?: WP Leader in close collaboration with all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rch until Sept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uld be compared?: Common terms of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88BD-F44C-487B-B55F-0D20C2F1E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3:39:10Z</dcterms:created>
  <dc:creator>Mitarbeiter</dc:creator>
  <dc:description/>
  <dc:language>en-US</dc:language>
  <cp:lastModifiedBy>VIII</cp:lastModifiedBy>
  <dcterms:modified xsi:type="dcterms:W3CDTF">2006-07-11T09:53:34Z</dcterms:modified>
  <cp:revision>22</cp:revision>
  <dc:subject/>
  <dc:title>Powerpoint Master MV | AM</dc:title>
</cp:coreProperties>
</file>