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FFD3-D2E8-42D4-AD80-7364111ED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C0D4-36BD-4590-9BCD-8CECC31BE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EF9E-C73E-456C-B167-59125034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A0C6-43D8-4A7A-946D-CFD833C8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C8E9-5ECD-40CB-8D5F-797A9FFBE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5B7-5EBC-41DA-BF17-255A3B38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1957-79B6-4A8E-8BD6-90DE7776A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3EE-49D6-4673-8969-EB01B978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E9C-898F-4061-939C-6300D6CA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B0F-6CEC-4605-A63D-C8AB26D7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385-1911-4931-8F84-0F859CEA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447-411A-4BB6-B793-ACECB777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115-DEF1-47C4-8FF3-E57C655D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FF2-096B-45E4-8BB4-1C256A54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873-2D1E-4996-A1E8-F69C7FF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D8C-35F8-4055-A89C-B2BB2DC0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2E3-C539-4086-BF4E-7B812B7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927-1F60-4D26-94F3-26B0174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482-D5E4-4E07-B4FF-603ECCF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eucc.nl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1D5D-32CE-4EE8-8922-58713CED6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0" y="6195240"/>
            <a:ext cx="914400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6431040"/>
            <a:ext cx="320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aaba"/>
                </a:solidFill>
                <a:latin typeface="Arial"/>
              </a:rPr>
              <a:t>The Coastal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03640" y="5715000"/>
            <a:ext cx="92556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eucc.net/" TargetMode="External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2471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224080"/>
            <a:ext cx="67057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obbert Misd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isor to the Netherlands Government &amp; EU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isting Romanian Min. Env.&amp; Water Management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Romanian PlanCoast inp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er Coordinator of the International CZM-Centre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KZ, Ministry of Transport, Public Works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 Management, The Ha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-address: r.misdorp@chello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0" y="236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3124080"/>
            <a:ext cx="0" cy="312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641320" cy="180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02320" y="3809880"/>
            <a:ext cx="2641680" cy="180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Sharing ICZM experiences and suggestions for PlanCoast</a:t>
            </a:r>
            <a:r>
              <a:rPr b="1" lang="en-GB" sz="4000" spc="-1" strike="noStrike">
                <a:solidFill>
                  <a:srgbClr val="00ff00"/>
                </a:solidFill>
                <a:latin typeface="Times New Roman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2360" y="5904000"/>
            <a:ext cx="41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47920" y="1447560"/>
            <a:ext cx="853416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uropean Water Partnership is a join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 and public sector organisation create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coordinate European water activit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an independent bod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site:     www.ewp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0560" y="0"/>
            <a:ext cx="791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pean Water Partnershi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222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coordinated approach to water in Europe 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al water crisis, brought about by climat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e, population growth and water usag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Europe, an estimated 85 million people lack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nitation facilities and 41 million do not hav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 to safe drinking wa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ldwide, 1.1 billion people do not have water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2.6 billion lack sanitation faciliti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strongly influences: poverty, migration, Aid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stainability, and climate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4200" y="-11268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uropean Water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2.  Some suggestions for PlanCoast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ixing concepts of ICZM program elements with Physical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 example of Sea Use Plann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Netherlands Continental Sh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91080" y="638496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304920" y="6400800"/>
            <a:ext cx="449604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9840"/>
            <a:ext cx="1695780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ggestions to mix ICZM program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ith Physical Plann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racteristics of ICZM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racteristics of Physical Plan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ggested mi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Main characteristics of an ICZM program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lex problem oriente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rea/district/region oriente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ultiple facete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rising several disciplines &amp; departments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ocal stakeholders and NGO’s (are problem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wne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grated management for development through institutional strengthening: policy preparation, decision making simultaneously at different level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ong term iterative and cyclic process ( +/-10 years) including monitoring &amp; ecologic &amp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conomic evalu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9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28600"/>
            <a:ext cx="129222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in characteristics of an ICZM program - cont’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sting of a planning and an implementation ph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areness raising among stakeholders incre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ptance of implement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ation is directed at sustainable solu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creasing resilience of the coastal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-regret measures in case of large uncertain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, soft solutions preferred above h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lood protect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oning of functional uses in terrestrial and marine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f coasta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ing an ICZM program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)  a practical lea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i) a process leading to measures through a consul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     participatory                approach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9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54192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6560" y="-169920"/>
            <a:ext cx="101772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ome characteristics of a Spatial Development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ea oriented;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me planning horizon: five years to some dec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tional policy dominant over district and community pla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ict alignment according to main components of ‘hard’ Infrastructu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ter ways, Electric, Sewage, Roads, Airways, Pipel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lly no alignment provisions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ticipatory approaches, long term sustainabil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reasing pollution, increasing biodiversity, decreas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ulnerability to Climate Change impacts and no eco&amp;eco evalu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26460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w to mix existing Spatial Development Plan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actices with ICZM princi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e suggestions:  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pplying the EU-WFD and EU-ICZM Recommendations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PlanCoast integrated Land and Sea Use Plan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 Including the main elements of the ICZM program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stainability, long term, and  ecological &amp; econo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ountabilities, participatory approach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 Implementing a pilot Spatial Development Plan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trict/communal level, including an integrated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easibility study for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in-Win potentials creating Spatial Development Plans in an ICZM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atial Development Decrees/Laws are legally binding docu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hich could be a solid base for the subs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CZM implementation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91080" y="638496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-92160" y="102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6060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ll-repor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nCoast Websi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11 MB PDF docu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9216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52280" y="228600"/>
            <a:ext cx="95248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therlands Integrated Management Plan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orth Sea 2015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77120" y="615636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nCoast Kick-off meet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220968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0"/>
            <a:ext cx="92962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herlands Integrated Management Plan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orth Sea 2015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1066680"/>
            <a:ext cx="427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Governmenta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roduced in close coop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 four Dutch Minis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ntegrated Management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North Sea 2015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cil of Netherlands Mini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July 2005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pproval of the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lia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71640" y="62326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1.  Sharing some Integrated CZM experiences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CZM program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CZM tools: RAMCO (Physical Planning)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astLearn (ICZM trai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ZM – Centre’s Website: www.netcoast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 - Coastal Network: EUCC : www.eucc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ropean Water Partnership: a public &amp; 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84880"/>
            <a:ext cx="441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-2590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952880" y="1027080"/>
            <a:ext cx="62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ist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s that not only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were produced, but 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VISIONS on North Sea 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y, Safe and Profitabl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PRINCIPLES of Manage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INSTRUMENTS for manage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INTEGRATED frame for permitt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e addr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71640" y="62326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176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me Concluding Remar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Interaction between Spatial Development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Planning and ICZM can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cially both w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PlanCoast can illustrate these benefit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tic, Adriatic and Black Sea, through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: visions, maps and analyses bas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GIS data bas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ICZM concepts, tools and networks are ready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shared for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71640" y="62326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284760" cy="5702400"/>
            <a:chOff x="0" y="0"/>
            <a:chExt cx="9284760" cy="5702400"/>
          </a:xfrm>
        </p:grpSpPr>
        <p:grpSp>
          <p:nvGrpSpPr>
            <p:cNvPr id="104" name=""/>
            <p:cNvGrpSpPr/>
            <p:nvPr/>
          </p:nvGrpSpPr>
          <p:grpSpPr>
            <a:xfrm>
              <a:off x="0" y="682560"/>
              <a:ext cx="8947080" cy="5019840"/>
              <a:chOff x="0" y="682560"/>
              <a:chExt cx="8947080" cy="5019840"/>
            </a:xfrm>
          </p:grpSpPr>
          <p:graphicFrame>
            <p:nvGraphicFramePr>
              <p:cNvPr id="105" name=""/>
              <p:cNvGraphicFramePr/>
              <p:nvPr/>
            </p:nvGraphicFramePr>
            <p:xfrm>
              <a:off x="0" y="695160"/>
              <a:ext cx="8947080" cy="5007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695160"/>
                        <a:ext cx="8947080" cy="500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" name=""/>
              <p:cNvSpPr/>
              <p:nvPr/>
            </p:nvSpPr>
            <p:spPr>
              <a:xfrm>
                <a:off x="2995560" y="682560"/>
                <a:ext cx="334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Arial"/>
                  </a:rPr>
                  <a:t>Coastal Zone Gover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99640" y="1962000"/>
                <a:ext cx="3790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Arial"/>
                  </a:rPr>
                  <a:t>Coastal Zone Management Task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56720" y="2259000"/>
                <a:ext cx="2416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600" spc="-1" strike="noStrike">
                    <a:solidFill>
                      <a:srgbClr val="ffffff"/>
                    </a:solidFill>
                    <a:latin typeface="Arial"/>
                  </a:rPr>
                  <a:t>lterative cyclic proc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840" y="3551400"/>
                <a:ext cx="6128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Arial"/>
                  </a:rPr>
                  <a:t>Coastal Zone Management Instruments and Capacit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35800" y="1023840"/>
                <a:ext cx="1219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90280" y="1046160"/>
                <a:ext cx="643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Et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92280" y="1035000"/>
                <a:ext cx="959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Objectiv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18120" y="1208160"/>
                <a:ext cx="12441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Integr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Harmo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articip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43800" y="1282680"/>
                <a:ext cx="957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Leg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1040" y="1306440"/>
                <a:ext cx="11512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Tradition 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social n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99400" y="1203480"/>
                <a:ext cx="1143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Resour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evelo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600" y="1273320"/>
                <a:ext cx="1245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Organizati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structu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70880" y="2644920"/>
                <a:ext cx="957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Evalu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320" y="2644920"/>
                <a:ext cx="1065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robl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Recogni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3400" y="2644920"/>
                <a:ext cx="829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lan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70640" y="2644920"/>
                <a:ext cx="1312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Implement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3400" y="3036960"/>
                <a:ext cx="922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Colle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96440" y="3060720"/>
                <a:ext cx="108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ssess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nd Outloo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23200" y="3036960"/>
                <a:ext cx="971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Monitor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44000" y="3060720"/>
                <a:ext cx="915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Exec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80000" y="3060720"/>
                <a:ext cx="10447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000" spc="-1" strike="noStrike">
                    <a:solidFill>
                      <a:srgbClr val="000000"/>
                    </a:solidFill>
                    <a:latin typeface="Arial"/>
                  </a:rPr>
                  <a:t>Operation 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000" spc="-1" strike="noStrike">
                    <a:solidFill>
                      <a:srgbClr val="000000"/>
                    </a:solidFill>
                    <a:latin typeface="Arial"/>
                  </a:rPr>
                  <a:t>Mainten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94560" y="3060720"/>
                <a:ext cx="1143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oli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evelo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00" y="3060720"/>
                <a:ext cx="108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ssess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05400" y="3048120"/>
                <a:ext cx="822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Ma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6560" y="0"/>
              <a:ext cx="9268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300" spc="-1" strike="noStrike">
                  <a:solidFill>
                    <a:srgbClr val="000000"/>
                  </a:solidFill>
                  <a:latin typeface="Arial"/>
                </a:rPr>
                <a:t>Elements of Integr.Coastal Zone Management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3124080"/>
            <a:ext cx="998640" cy="2552400"/>
            <a:chOff x="3581280" y="3124080"/>
            <a:chExt cx="998640" cy="2552400"/>
          </a:xfrm>
        </p:grpSpPr>
        <p:sp>
          <p:nvSpPr>
            <p:cNvPr id="133" name=""/>
            <p:cNvSpPr/>
            <p:nvPr/>
          </p:nvSpPr>
          <p:spPr>
            <a:xfrm>
              <a:off x="3581280" y="3124080"/>
              <a:ext cx="990720" cy="45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3300"/>
                  </a:solidFill>
                  <a:latin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3300"/>
                  </a:solidFill>
                  <a:latin typeface="Arial"/>
                </a:rPr>
                <a:t>Ma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9200" y="3924000"/>
              <a:ext cx="990720" cy="175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1840" y="5827680"/>
            <a:ext cx="76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: CZM-Centre &amp; Egyptian Environmental Affairs Agency,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 Coast: Development and Challeng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44600" y="6400800"/>
            <a:ext cx="419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372600" cy="149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AMCO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spatial designed Rapid integrated Assessment and analytic planning tool using interactively GIS modules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ing coastal policy ma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638680"/>
            <a:ext cx="4724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ference: CZM-C/RIKZ/RIKS, 1999: “Integral Assessment Module for Coastal Zone Management, RamCo 2.0 User Gu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219320"/>
            <a:ext cx="327672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wo different tool lev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) Macro-scale system: long range, large scale coastal processes, natural &amp; socio-economic subsyste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) Micro-scale system: short term and micro-scale coastal processes, using cellular GIS sub-mo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83160" y="6665760"/>
            <a:ext cx="419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52280" y="838080"/>
            <a:ext cx="9753480" cy="73152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26460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AMCO: an example of the analytical GIS frame component: macro-scale dynamics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ystem diagram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urism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nd demand, employment, production valu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terative, relational, analytical  frame: the expert judgment in the macro level effec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 dynamics and changes the land us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285640" y="3657240"/>
            <a:ext cx="4800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71600" y="4876920"/>
            <a:ext cx="38088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4724280"/>
            <a:ext cx="15264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3434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01000" y="617220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nCoa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ck-off meetin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68580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762120"/>
            <a:ext cx="8077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astLearn:    Multimedia  ICZM  Distanc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ining Tool in 6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0440" y="617220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865080"/>
            <a:ext cx="8381880" cy="5992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28600" y="-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ZM-Centre - Website:    www.netcoast.n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ing information on concept and tools e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MCO and CoastLea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04840" y="63388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71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2362320"/>
            <a:ext cx="48765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rnational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on-profit association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ounded in 198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onal branches and project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 EU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about 3000 Members in 4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ffices 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cotland, the Netherlands, Germany, Poland, Lithuani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553080"/>
            <a:ext cx="4114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2438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124080"/>
            <a:ext cx="0" cy="312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Verdana"/>
              </a:rPr>
              <a:t>EUCC - The Coastal Union 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180000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180036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57840" y="1563840"/>
            <a:ext cx="21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eucc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696080" y="685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Verdana"/>
              </a:rPr>
              <a:t>EUCC‘s Mission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52480" y="3962520"/>
            <a:ext cx="227340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715000" y="3962520"/>
            <a:ext cx="2057400" cy="150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4038480" y="44956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600200"/>
            <a:ext cx="883908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romote a solid coastal manag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ervation of nature, landscape and cultural heritage in combination with coastal safety and a sustainable econom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720" y="56023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eucc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20:46:40Z</dcterms:created>
  <dc:creator>Robbert Misdorp</dc:creator>
  <dc:description/>
  <dc:language>en-US</dc:language>
  <cp:lastModifiedBy>Robbert Misdorp</cp:lastModifiedBy>
  <dcterms:modified xsi:type="dcterms:W3CDTF">2006-07-19T08:59:41Z</dcterms:modified>
  <cp:revision>29</cp:revision>
  <dc:subject/>
  <dc:title>Dia 1</dc:title>
</cp:coreProperties>
</file>