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11.jpeg" ContentType="image/jpeg"/>
  <Override PartName="/ppt/media/image17.png" ContentType="image/png"/>
  <Override PartName="/ppt/media/image16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wmf" ContentType="image/x-wmf"/>
  <Override PartName="/ppt/media/image1.jpeg" ContentType="image/jpe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1BB3E-6C12-4E67-98FC-4A77F4F04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3E53D-C2F7-4699-B9CB-2D8BA3DBE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92435-B5CA-49FA-B266-C9FA4E97A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35037-6C7D-4CC5-9A37-C9DEE6AFDE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E5F91-7CE7-4921-848E-95AE2A846F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3D0A7-968E-4889-AB54-C6D3565A6E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9DB30-C231-4748-ADFE-5FFA260274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889A-323F-4512-801A-619CCB219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5EDB-3D66-4D3E-9658-130EBEC43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12F8-16D0-47E9-8142-5B40F15E9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806F-1ECF-45FD-A85E-41F9BE506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CDFE-4C6E-4971-9521-A9661A309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D06F-E290-4676-872D-27BED1086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77E4-773E-491A-9AF4-5864E40DC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09BD-87DF-40D2-BD0E-BFBF4DFED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BAA8-94BC-4D93-9D53-32CF5D166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D0BD-42AC-4EFC-A0DE-2DAD87AE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5A9B-DD1F-476C-8A03-4669A5FB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47CB-6B49-42EF-AF4C-BF371357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hyperlink" Target="http://www.eucc.nl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30E29-7C5A-4912-82AC-0ADF7D0E0B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 flipV="1">
            <a:off x="0" y="6195240"/>
            <a:ext cx="9144000" cy="66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257800" y="6431040"/>
            <a:ext cx="3200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aaba"/>
                </a:solidFill>
                <a:latin typeface="Arial"/>
              </a:rPr>
              <a:t>The Coastal Un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103640" y="5715000"/>
            <a:ext cx="925560" cy="9907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hyperlink" Target="http://www.eucc.net/" TargetMode="External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24717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2224080"/>
            <a:ext cx="670572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by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obbert Misdo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dvisor to the Netherlands Government &amp; EU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ssisting Romanian Min. Env.&amp; Water Management      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or Romanian PlanCoast inpu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ormer Coordinator of the International CZM-Centre,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IKZ, Ministry of Transport, Public Works and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ater Management, The Hag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E-address: r.misdorp@chello.n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6227640"/>
            <a:ext cx="4191120" cy="63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29200" y="6248520"/>
            <a:ext cx="41148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0" y="23623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15200" y="3124080"/>
            <a:ext cx="0" cy="3124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641320" cy="1801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502320" y="3809880"/>
            <a:ext cx="2641680" cy="1801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en-GB" sz="4000" spc="-1" strike="noStrike">
                <a:solidFill>
                  <a:srgbClr val="ffff00"/>
                </a:solidFill>
                <a:latin typeface="Times New Roman"/>
              </a:rPr>
              <a:t>Sharing ICZM experiences and suggestions for PlanCoast</a:t>
            </a:r>
            <a:r>
              <a:rPr b="1" lang="en-GB" sz="4000" spc="-1" strike="noStrike">
                <a:solidFill>
                  <a:srgbClr val="00ff00"/>
                </a:solidFill>
                <a:latin typeface="Times New Roman"/>
              </a:rPr>
              <a:t>”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22360" y="5904000"/>
            <a:ext cx="419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pared for the PlanCoast Kick-off meeting, Ancona, June,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447920" y="1447560"/>
            <a:ext cx="8534160" cy="39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European Water Partnership is a joint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ivate and public sector organisation created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o coordinate European water activitie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t is an independent bod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bsite:     www.ewp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0560" y="0"/>
            <a:ext cx="791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uropean Water Partnership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04920" y="12222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A coordinated approach to water in Europe :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80" y="6461280"/>
            <a:ext cx="35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epared for the PlanCoast Kick-off meeting, Ancona, June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7772400" cy="34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lobal water crisis, brought about by climate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hange, population growth and water usage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 Europe, an estimated 85 million people lack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anitation facilities and 41 million do not have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ccess to safe drinking wate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orldwide, 1.1 billion people do not have water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 2.6 billion lack sanitation faciliti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ater strongly influences: poverty, migration, Aids,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ustainability, and climate chan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12760" y="36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4200" y="-112680"/>
            <a:ext cx="439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European Water Partnershi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00"/>
                </a:solidFill>
                <a:uFillTx/>
                <a:latin typeface="Times New Roman"/>
              </a:rPr>
              <a:t>2.  Some suggestions for PlanCoast</a:t>
            </a: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ixing concepts of ICZM program elements with Physical Plann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n example of Sea Use Planning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 Netherlands Continental Shel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-91080" y="6384960"/>
            <a:ext cx="35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epared for the PlanCoast Kick-off meeting, Ancona, June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-304920" y="6400800"/>
            <a:ext cx="4496040" cy="63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epared for the PlanCoast Kick-off meeting, Ancona, June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69840"/>
            <a:ext cx="16957800" cy="57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uggestions to mix ICZM program ele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with Physical Planning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racteristics of ICZM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racteristics of Physical Plann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uggested mix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imes New Roman"/>
              </a:rPr>
              <a:t>Main characteristics of an ICZM program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mplex problem oriented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rea/district/region oriented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ultiple faceted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mprising several disciplines &amp; departments,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ocal stakeholders and NGO’s (are problem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wners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egrated management for development through institutional strengthening: policy preparation, decision making simultaneously at different level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ong term iterative and cyclic process ( +/-10 years) including monitoring &amp; ecologic &amp;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conomic evaluatio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-91080" y="6461280"/>
            <a:ext cx="35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epared for the PlanCoast Kick-off meeting, Ancona, June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6227640"/>
            <a:ext cx="4191120" cy="63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6248520"/>
            <a:ext cx="41148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228600"/>
            <a:ext cx="12922200" cy="64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Main characteristics of an ICZM program - cont’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sisting of a planning and an implementation phas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wareness raising among stakeholders increa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cceptance of implementatio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lementation is directed at sustainable solutio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ncreasing resilience of the coastal system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o-regret measures in case of large uncertainti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lexible, soft solutions preferred above h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lood protecting meas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Zoning of functional uses in terrestrial and marine pa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f coastal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lementing an ICZM program nee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)  a practical lea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i) a process leading to measures through a consul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d      participatory                approach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-91080" y="6461280"/>
            <a:ext cx="35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epared for the PlanCoast Kick-off meeting, Ancona, June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6541920"/>
            <a:ext cx="4191120" cy="63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epared for the PlanCoast Kick-off meeting, Ancona, June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29200" y="6248520"/>
            <a:ext cx="41148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-16560" y="-169920"/>
            <a:ext cx="10177200" cy="67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Some characteristics of a Spatial Development Pl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rea oriented;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ime planning horizon: five years to some decad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ational policy dominant over district and community plan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trict alignment according to main components of ‘hard’ Infrastructur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ater ways, Electric, Sewage, Roads, Airways, Pipelin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Generally no alignment provisions fo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articipatory approaches, long term sustainabilit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ecreasing pollution, increasing biodiversity, decreasing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vulnerability to Climate Change impacts and no eco&amp;eco evaluatio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6227640"/>
            <a:ext cx="4191120" cy="63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029200" y="6248520"/>
            <a:ext cx="41148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0"/>
            <a:ext cx="9264600" cy="68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How to mix existing Spatial Development Plan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actices with ICZM princip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ome suggestions:  </a:t>
            </a:r>
            <a:br>
              <a:rPr sz="28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. Applying the EU-WFD and EU-ICZM Recommendations to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PlanCoast integrated Land and Sea Use Plann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2. Including the main elements of the ICZM programs: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ustainability, long term, and  ecological &amp; economical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ccountabilities, participatory approach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3. Implementing a pilot Spatial Development Plan at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istrict/communal level, including an integrated 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easibility study for implement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in-Win potentials creating Spatial Development Plans in an ICZM fra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Spatial Development Decrees/Laws are legally binding document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which could be a solid base for the subsequ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ICZM implementation ph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-91080" y="6384960"/>
            <a:ext cx="35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epared for the PlanCoast Kick-off meeting, Ancona, June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6227640"/>
            <a:ext cx="4191120" cy="63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029200" y="6248520"/>
            <a:ext cx="41148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-38088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-92160" y="1027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1560600"/>
            <a:ext cx="4038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ull-report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le 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lanCoast Websi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11 MB PDF docu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-92160" y="83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-152280" y="228600"/>
            <a:ext cx="9524880" cy="94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“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Netherlands Integrated Management Plan f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e North Sea 2015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377120" y="6156360"/>
            <a:ext cx="1703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lanCoast Kick-off meeting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ncona, June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6227640"/>
            <a:ext cx="4191120" cy="63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029200" y="6248520"/>
            <a:ext cx="41148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-2209680" y="-15228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0"/>
            <a:ext cx="9296280" cy="94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etherlands Integrated Management Plan f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North Sea 2015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410080" y="1066680"/>
            <a:ext cx="4270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Governmental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produced in close cooper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 four Dutch Minist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Integrated Management Pl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the North Sea 2015 w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opted by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cil of Netherlands Minist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July 2005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approval of the Netherla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liam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71640" y="6232680"/>
            <a:ext cx="35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epared for the PlanCoast Kick-off meeting, Ancona, June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00"/>
                </a:solidFill>
                <a:uFillTx/>
                <a:latin typeface="Times New Roman"/>
              </a:rPr>
              <a:t>1.  Sharing some Integrated CZM experiences</a:t>
            </a: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:</a:t>
            </a: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CZM program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CZM tools: RAMCO (Physical Planning) &amp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oastLearn (ICZM train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ZM – Centre’s Website: www.netcoast.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U - Coastal Network: EUCC : www.eucc.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uropean Water Partnership: a public &amp; private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284880"/>
            <a:ext cx="4419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pared for the PlanCoast Kick-off meeting, Ancona, June,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6227640"/>
            <a:ext cx="4191120" cy="63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029200" y="6248520"/>
            <a:ext cx="41148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-2590920" y="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4952880" y="1027080"/>
            <a:ext cx="6264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list of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lustrates that not only differ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ps were produced, but als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VISIONS on North Sea us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lthy, Safe and Profitable Se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PRINCIPLES of Managemen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) INSTRUMENTS for managemen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) INTEGRATED frame for permitting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re addres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471640" y="6232680"/>
            <a:ext cx="35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epared for the PlanCoast Kick-off meeting, Ancona, June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6227640"/>
            <a:ext cx="4191120" cy="63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029200" y="6248520"/>
            <a:ext cx="41148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131760"/>
            <a:ext cx="9144000" cy="57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ome Concluding Remark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) Interaction between Spatial Development/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ysical Planning and ICZM can b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neficially both way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) PlanCoast can illustrate these benefits in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ltic, Adriatic and Black Sea, through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ucing: visions, maps and analyses bas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 GIS data bas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) ICZM concepts, tools and networks are ready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 shared for u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471640" y="6232680"/>
            <a:ext cx="35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epared for the PlanCoast Kick-off meeting, Ancona, June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0" y="0"/>
            <a:ext cx="9284760" cy="5702400"/>
            <a:chOff x="0" y="0"/>
            <a:chExt cx="9284760" cy="5702400"/>
          </a:xfrm>
        </p:grpSpPr>
        <p:grpSp>
          <p:nvGrpSpPr>
            <p:cNvPr id="104" name=""/>
            <p:cNvGrpSpPr/>
            <p:nvPr/>
          </p:nvGrpSpPr>
          <p:grpSpPr>
            <a:xfrm>
              <a:off x="0" y="682560"/>
              <a:ext cx="8947080" cy="5019840"/>
              <a:chOff x="0" y="682560"/>
              <a:chExt cx="8947080" cy="5019840"/>
            </a:xfrm>
          </p:grpSpPr>
          <p:graphicFrame>
            <p:nvGraphicFramePr>
              <p:cNvPr id="105" name=""/>
              <p:cNvGraphicFramePr/>
              <p:nvPr/>
            </p:nvGraphicFramePr>
            <p:xfrm>
              <a:off x="0" y="695160"/>
              <a:ext cx="8947080" cy="5007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6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0" y="695160"/>
                        <a:ext cx="8947080" cy="5007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7" name=""/>
              <p:cNvSpPr/>
              <p:nvPr/>
            </p:nvSpPr>
            <p:spPr>
              <a:xfrm>
                <a:off x="2995560" y="682560"/>
                <a:ext cx="33498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000" spc="-1" strike="noStrike">
                    <a:solidFill>
                      <a:srgbClr val="ffffff"/>
                    </a:solidFill>
                    <a:latin typeface="Arial"/>
                  </a:rPr>
                  <a:t>Coastal Zone Governanc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699640" y="1962000"/>
                <a:ext cx="37908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800" spc="-1" strike="noStrike">
                    <a:solidFill>
                      <a:srgbClr val="ffffff"/>
                    </a:solidFill>
                    <a:latin typeface="Arial"/>
                  </a:rPr>
                  <a:t>Coastal Zone Management Task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456720" y="2259000"/>
                <a:ext cx="24163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600" spc="-1" strike="noStrike">
                    <a:solidFill>
                      <a:srgbClr val="ffffff"/>
                    </a:solidFill>
                    <a:latin typeface="Arial"/>
                  </a:rPr>
                  <a:t>lterative cyclic proces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8840" y="3551400"/>
                <a:ext cx="61286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800" spc="-1" strike="noStrike">
                    <a:solidFill>
                      <a:srgbClr val="ffffff"/>
                    </a:solidFill>
                    <a:latin typeface="Arial"/>
                  </a:rPr>
                  <a:t>Coastal Zone Management Instruments and Capaciti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135800" y="1023840"/>
                <a:ext cx="12196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200" spc="-1" strike="noStrike">
                    <a:solidFill>
                      <a:srgbClr val="000000"/>
                    </a:solidFill>
                    <a:latin typeface="Arial"/>
                  </a:rPr>
                  <a:t>Arrangement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190280" y="1046160"/>
                <a:ext cx="6436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200" spc="-1" strike="noStrike">
                    <a:solidFill>
                      <a:srgbClr val="000000"/>
                    </a:solidFill>
                    <a:latin typeface="Arial"/>
                  </a:rPr>
                  <a:t>Ethic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292280" y="1035000"/>
                <a:ext cx="9594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200" spc="-1" strike="noStrike">
                    <a:solidFill>
                      <a:srgbClr val="000000"/>
                    </a:solidFill>
                    <a:latin typeface="Arial"/>
                  </a:rPr>
                  <a:t>Objectiv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918120" y="1208160"/>
                <a:ext cx="124416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200" spc="-1" strike="noStrike">
                    <a:solidFill>
                      <a:srgbClr val="000000"/>
                    </a:solidFill>
                    <a:latin typeface="Arial"/>
                  </a:rPr>
                  <a:t>Integr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200" spc="-1" strike="noStrike">
                    <a:solidFill>
                      <a:srgbClr val="000000"/>
                    </a:solidFill>
                    <a:latin typeface="Arial"/>
                  </a:rPr>
                  <a:t>Harmo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200" spc="-1" strike="noStrike">
                    <a:solidFill>
                      <a:srgbClr val="000000"/>
                    </a:solidFill>
                    <a:latin typeface="Arial"/>
                  </a:rPr>
                  <a:t>Particip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243800" y="1282680"/>
                <a:ext cx="9576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200" spc="-1" strike="noStrike">
                    <a:solidFill>
                      <a:srgbClr val="000000"/>
                    </a:solidFill>
                    <a:latin typeface="Arial"/>
                  </a:rPr>
                  <a:t>Lega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200" spc="-1" strike="noStrike">
                    <a:solidFill>
                      <a:srgbClr val="000000"/>
                    </a:solidFill>
                    <a:latin typeface="Arial"/>
                  </a:rPr>
                  <a:t>framewor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01040" y="1306440"/>
                <a:ext cx="115128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200" spc="-1" strike="noStrike">
                    <a:solidFill>
                      <a:srgbClr val="000000"/>
                    </a:solidFill>
                    <a:latin typeface="Arial"/>
                  </a:rPr>
                  <a:t>Tradition an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200" spc="-1" strike="noStrike">
                    <a:solidFill>
                      <a:srgbClr val="000000"/>
                    </a:solidFill>
                    <a:latin typeface="Arial"/>
                  </a:rPr>
                  <a:t>social norm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199400" y="1203480"/>
                <a:ext cx="114372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200" spc="-1" strike="noStrike">
                    <a:solidFill>
                      <a:srgbClr val="000000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200" spc="-1" strike="noStrike">
                    <a:solidFill>
                      <a:srgbClr val="000000"/>
                    </a:solidFill>
                    <a:latin typeface="Arial"/>
                  </a:rPr>
                  <a:t>Resourc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200" spc="-1" strike="noStrike">
                    <a:solidFill>
                      <a:srgbClr val="000000"/>
                    </a:solidFill>
                    <a:latin typeface="Arial"/>
                  </a:rPr>
                  <a:t>Develo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0600" y="1273320"/>
                <a:ext cx="12456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200" spc="-1" strike="noStrike">
                    <a:solidFill>
                      <a:srgbClr val="000000"/>
                    </a:solidFill>
                    <a:latin typeface="Arial"/>
                  </a:rPr>
                  <a:t>Organizationa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200" spc="-1" strike="noStrike">
                    <a:solidFill>
                      <a:srgbClr val="000000"/>
                    </a:solidFill>
                    <a:latin typeface="Arial"/>
                  </a:rPr>
                  <a:t>structu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670880" y="2644920"/>
                <a:ext cx="9576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200" spc="-1" strike="noStrike">
                    <a:solidFill>
                      <a:srgbClr val="000000"/>
                    </a:solidFill>
                    <a:latin typeface="Arial"/>
                  </a:rPr>
                  <a:t>Evalu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1320" y="2644920"/>
                <a:ext cx="106596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200" spc="-1" strike="noStrike">
                    <a:solidFill>
                      <a:srgbClr val="000000"/>
                    </a:solidFill>
                    <a:latin typeface="Arial"/>
                  </a:rPr>
                  <a:t>Proble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200" spc="-1" strike="noStrike">
                    <a:solidFill>
                      <a:srgbClr val="000000"/>
                    </a:solidFill>
                    <a:latin typeface="Arial"/>
                  </a:rPr>
                  <a:t>Recogni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03400" y="2644920"/>
                <a:ext cx="8298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200" spc="-1" strike="noStrike">
                    <a:solidFill>
                      <a:srgbClr val="000000"/>
                    </a:solidFill>
                    <a:latin typeface="Arial"/>
                  </a:rPr>
                  <a:t>Plann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70640" y="2644920"/>
                <a:ext cx="13129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200" spc="-1" strike="noStrike">
                    <a:solidFill>
                      <a:srgbClr val="000000"/>
                    </a:solidFill>
                    <a:latin typeface="Arial"/>
                  </a:rPr>
                  <a:t>Implement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03400" y="3036960"/>
                <a:ext cx="92268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2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200" spc="-1" strike="noStrike">
                    <a:solidFill>
                      <a:srgbClr val="000000"/>
                    </a:solidFill>
                    <a:latin typeface="Arial"/>
                  </a:rPr>
                  <a:t>Collec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696440" y="3060720"/>
                <a:ext cx="108576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200" spc="-1" strike="noStrike">
                    <a:solidFill>
                      <a:srgbClr val="000000"/>
                    </a:solidFill>
                    <a:latin typeface="Arial"/>
                  </a:rPr>
                  <a:t>Assess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200" spc="-1" strike="noStrike">
                    <a:solidFill>
                      <a:srgbClr val="000000"/>
                    </a:solidFill>
                    <a:latin typeface="Arial"/>
                  </a:rPr>
                  <a:t>and Outloo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523200" y="3036960"/>
                <a:ext cx="9712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200" spc="-1" strike="noStrike">
                    <a:solidFill>
                      <a:srgbClr val="000000"/>
                    </a:solidFill>
                    <a:latin typeface="Arial"/>
                  </a:rPr>
                  <a:t>Monitor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644000" y="3060720"/>
                <a:ext cx="91512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200" spc="-1" strike="noStrike">
                    <a:solidFill>
                      <a:srgbClr val="000000"/>
                    </a:solidFill>
                    <a:latin typeface="Arial"/>
                  </a:rPr>
                  <a:t>Pla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200" spc="-1" strike="noStrike">
                    <a:solidFill>
                      <a:srgbClr val="000000"/>
                    </a:solidFill>
                    <a:latin typeface="Arial"/>
                  </a:rPr>
                  <a:t>Execu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580000" y="3060720"/>
                <a:ext cx="104472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000" spc="-1" strike="noStrike">
                    <a:solidFill>
                      <a:srgbClr val="000000"/>
                    </a:solidFill>
                    <a:latin typeface="Arial"/>
                  </a:rPr>
                  <a:t>Operation and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000" spc="-1" strike="noStrike">
                    <a:solidFill>
                      <a:srgbClr val="000000"/>
                    </a:solidFill>
                    <a:latin typeface="Arial"/>
                  </a:rPr>
                  <a:t>Maintenanc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194560" y="3060720"/>
                <a:ext cx="114372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200" spc="-1" strike="noStrike">
                    <a:solidFill>
                      <a:srgbClr val="000000"/>
                    </a:solidFill>
                    <a:latin typeface="Arial"/>
                  </a:rPr>
                  <a:t>Polic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200" spc="-1" strike="noStrike">
                    <a:solidFill>
                      <a:srgbClr val="000000"/>
                    </a:solidFill>
                    <a:latin typeface="Arial"/>
                  </a:rPr>
                  <a:t>Develo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200" y="3060720"/>
                <a:ext cx="108576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200" spc="-1" strike="noStrike">
                    <a:solidFill>
                      <a:srgbClr val="000000"/>
                    </a:solidFill>
                    <a:latin typeface="Arial"/>
                  </a:rPr>
                  <a:t>Researc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200" spc="-1" strike="noStrike">
                    <a:solidFill>
                      <a:srgbClr val="000000"/>
                    </a:solidFill>
                    <a:latin typeface="Arial"/>
                  </a:rPr>
                  <a:t>Assess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05400" y="3048120"/>
                <a:ext cx="82224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200" spc="-1" strike="noStrike">
                    <a:solidFill>
                      <a:srgbClr val="000000"/>
                    </a:solidFill>
                    <a:latin typeface="Arial"/>
                  </a:rPr>
                  <a:t>Decis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200" spc="-1" strike="noStrike">
                    <a:solidFill>
                      <a:srgbClr val="000000"/>
                    </a:solidFill>
                    <a:latin typeface="Arial"/>
                  </a:rPr>
                  <a:t>Mak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16560" y="0"/>
              <a:ext cx="92682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3300" spc="-1" strike="noStrike">
                  <a:solidFill>
                    <a:srgbClr val="000000"/>
                  </a:solidFill>
                  <a:latin typeface="Arial"/>
                </a:rPr>
                <a:t>Elements of Integr.Coastal Zone Management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3581280" y="3124080"/>
            <a:ext cx="998640" cy="2552400"/>
            <a:chOff x="3581280" y="3124080"/>
            <a:chExt cx="998640" cy="2552400"/>
          </a:xfrm>
        </p:grpSpPr>
        <p:sp>
          <p:nvSpPr>
            <p:cNvPr id="133" name=""/>
            <p:cNvSpPr/>
            <p:nvPr/>
          </p:nvSpPr>
          <p:spPr>
            <a:xfrm>
              <a:off x="3581280" y="3124080"/>
              <a:ext cx="990720" cy="457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ff3300"/>
                  </a:solidFill>
                  <a:latin typeface="Arial"/>
                </a:rPr>
                <a:t>Decis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ff3300"/>
                  </a:solidFill>
                  <a:latin typeface="Arial"/>
                </a:rPr>
                <a:t>Mak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589200" y="3924000"/>
              <a:ext cx="990720" cy="17524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141840" y="5827680"/>
            <a:ext cx="760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e: CZM-Centre &amp; Egyptian Environmental Affairs Agency, 1996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gyptian Coast: Development and Challenges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944600" y="6400800"/>
            <a:ext cx="419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pared for the PlanCoast Kick-off meeting, Ancona, June,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6227640"/>
            <a:ext cx="4191120" cy="63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6248520"/>
            <a:ext cx="41148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0" y="0"/>
            <a:ext cx="9372600" cy="149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RAMCO: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spatial designed Rapid integrated Assessment and analytic planning tool using interactively GIS modules     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upporting coastal policy mak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5638680"/>
            <a:ext cx="472428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Reference: CZM-C/RIKZ/RIKS, 1999: “Integral Assessment Module for Coastal Zone Management, RamCo 2.0 User Guid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95880" y="1219320"/>
            <a:ext cx="3276720" cy="2562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wo different tool leve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1) Macro-scale system: long range, large scale coastal processes, natural &amp; socio-economic subsystem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2) Micro-scale system: short term and micro-scale coastal processes, using cellular GIS sub-mod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-83160" y="6665760"/>
            <a:ext cx="419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pared for the PlanCoast Kick-off meeting, Ancona, June,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6227640"/>
            <a:ext cx="4191120" cy="630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029200" y="6248520"/>
            <a:ext cx="4114800" cy="60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-152280" y="838080"/>
            <a:ext cx="9753480" cy="731520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147" name=""/>
          <p:cNvSpPr/>
          <p:nvPr/>
        </p:nvSpPr>
        <p:spPr>
          <a:xfrm>
            <a:off x="0" y="0"/>
            <a:ext cx="9264600" cy="146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AMCO: an example of the analytical GIS frame component: macro-scale dynamics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ystem diagram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urism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and demand, employment, production value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iterative, relational, analytical  frame: the expert judgment in the macro level effect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micro dynamics and changes the land use ma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2285640" y="3657240"/>
            <a:ext cx="480060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371600" y="4876920"/>
            <a:ext cx="380880" cy="1447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581280" y="4724280"/>
            <a:ext cx="152640" cy="1447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09880" y="4343400"/>
            <a:ext cx="2057400" cy="1447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001000" y="6172200"/>
            <a:ext cx="14479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lanCoa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Kick-off meeting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ncona, June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6227640"/>
            <a:ext cx="4191120" cy="63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29200" y="6248520"/>
            <a:ext cx="41148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-304920" y="685800"/>
            <a:ext cx="8458200" cy="61722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0" y="762120"/>
            <a:ext cx="8077320" cy="94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oastLearn:    Multimedia  ICZM  Distanc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raining Tool in 6 langu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20440" y="6172200"/>
            <a:ext cx="35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epared for the PlanCoast Kick-off meeting, Ancona, June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28600" y="865080"/>
            <a:ext cx="8381880" cy="59929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28600" y="-15228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ZM-Centre - Website:    www.netcoast.n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viding information on concept and tools eg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MCO and CoastLear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604840" y="6338880"/>
            <a:ext cx="35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epared for the PlanCoast Kick-off meeting, Ancona, June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4717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04920" y="2362320"/>
            <a:ext cx="4876560" cy="36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 international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on-profit association</a:t>
            </a: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founded in 1989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tive </a:t>
            </a: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na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onal branches and projects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4 EU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tal about 3000 Members in 40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Offices i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Scotland, the Netherlands, Germany, Poland, Lithuania, Sp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6227640"/>
            <a:ext cx="4191120" cy="63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6553080"/>
            <a:ext cx="41148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epared for the PlanCoast Kick-off meeting, Ancona, June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0" y="2438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315200" y="3124080"/>
            <a:ext cx="0" cy="3124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Verdana"/>
              </a:rPr>
              <a:t>EUCC - The Coastal Union 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6705720" y="1600200"/>
            <a:ext cx="1800000" cy="1800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5943600" y="3809880"/>
            <a:ext cx="1800360" cy="1800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70" name=""/>
          <p:cNvSpPr/>
          <p:nvPr/>
        </p:nvSpPr>
        <p:spPr>
          <a:xfrm>
            <a:off x="357840" y="1563840"/>
            <a:ext cx="214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www.eucc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rId1" action="ppaction://hlinksldjump"/>
          </p:cNvPr>
          <p:cNvSpPr/>
          <p:nvPr/>
        </p:nvSpPr>
        <p:spPr>
          <a:xfrm>
            <a:off x="7696080" y="6858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Verdana"/>
              </a:rPr>
              <a:t>EUCC‘s Mission</a:t>
            </a: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1752480" y="3962520"/>
            <a:ext cx="2273400" cy="1511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5715000" y="3962520"/>
            <a:ext cx="2057400" cy="1500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76" name=""/>
          <p:cNvSpPr/>
          <p:nvPr/>
        </p:nvSpPr>
        <p:spPr>
          <a:xfrm>
            <a:off x="4038480" y="4495680"/>
            <a:ext cx="1676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1600200"/>
            <a:ext cx="8839080" cy="21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o promote a solid coastal managemen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ervation of nature, landscape and cultural heritage in combination with coastal safety and a sustainable econom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6720" y="5602320"/>
            <a:ext cx="188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eucc.n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080" y="6461280"/>
            <a:ext cx="35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epared for the PlanCoast Kick-off meeting, Ancona, June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20:46:40Z</dcterms:created>
  <dc:creator>Robbert Misdorp</dc:creator>
  <dc:description/>
  <dc:language>en-US</dc:language>
  <cp:lastModifiedBy>Robbert Misdorp</cp:lastModifiedBy>
  <dcterms:modified xsi:type="dcterms:W3CDTF">2006-07-19T08:59:41Z</dcterms:modified>
  <cp:revision>29</cp:revision>
  <dc:subject/>
  <dc:title>Dia 1</dc:title>
</cp:coreProperties>
</file>