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66F3-519F-440C-AE50-92F85A7126E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celto in quanto caratterizzato da un elevato impatto di origine antropica dovuto ad una intensa presenza turistica e a strutture portuali commerciali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4C2-CA1F-4129-80E8-7A97B2DD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48B-C360-455C-B67B-483701C4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BC0-ED9F-42C7-916D-7A9FEDAE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00E-981C-45BE-A773-417E5F8B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807-C711-445E-A145-95483AA8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7D6-4DD9-4A39-9B98-A075682C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205-52C8-4625-A6F2-2845D9FE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34C-FBB6-4F5D-8038-8627909D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757-5B09-45BE-BC00-88BF5DDC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3D8-2792-4EB8-A47E-3553EB0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701-636D-4135-A141-253F4E2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B16-D041-478D-80EE-99B9DA32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15F-8956-45F7-BA92-605CC841E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42920" y="115920"/>
            <a:ext cx="7272000" cy="1152000"/>
            <a:chOff x="1042920" y="115920"/>
            <a:chExt cx="7272000" cy="1152000"/>
          </a:xfrm>
        </p:grpSpPr>
        <p:sp>
          <p:nvSpPr>
            <p:cNvPr id="49" name=""/>
            <p:cNvSpPr/>
            <p:nvPr/>
          </p:nvSpPr>
          <p:spPr>
            <a:xfrm>
              <a:off x="1042920" y="115920"/>
              <a:ext cx="7272000" cy="115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123200" y="203400"/>
              <a:ext cx="105048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Logo_Plan_RGB" descr=""/>
            <p:cNvPicPr/>
            <p:nvPr/>
          </p:nvPicPr>
          <p:blipFill>
            <a:blip r:embed="rId2"/>
            <a:stretch/>
          </p:blipFill>
          <p:spPr>
            <a:xfrm>
              <a:off x="2254320" y="203400"/>
              <a:ext cx="4713480" cy="9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103520" y="203400"/>
              <a:ext cx="1154520" cy="96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515960" y="3038400"/>
            <a:ext cx="611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15960" y="3038400"/>
            <a:ext cx="6112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760" y="1483560"/>
            <a:ext cx="61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Adriatic Forum ICZM Expert Group</a:t>
            </a:r>
            <a:r>
              <a:rPr b="0" lang="it-IT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2000" y="623664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ncona (I) July 15 2006, Palombina b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1800" y="2420640"/>
            <a:ext cx="71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Palombina b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The scientific approach</a:t>
            </a: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84280" y="42660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tonio Pusced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3640" y="4982400"/>
            <a:ext cx="81356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4643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4290840" cy="6857640"/>
            <a:chOff x="0" y="0"/>
            <a:chExt cx="4290840" cy="685764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83280" cy="33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0" y="3457800"/>
              <a:ext cx="4290840" cy="339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5076720" y="260280"/>
            <a:ext cx="36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Litter in Palomb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3640" y="1989000"/>
            <a:ext cx="388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ly constant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nce of marine organic detr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of plastics in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81000"/>
            <a:ext cx="5580000" cy="58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445000" cy="5391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8360" y="71280"/>
            <a:ext cx="838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itter: Spiaggia di Palomb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198900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degradable fraction is generally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f persistent materials in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71640" y="44280"/>
            <a:ext cx="3997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Hydrocarb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573408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tatistical differences between tra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of concentrations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836640"/>
            <a:ext cx="71643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32000" y="3610080"/>
            <a:ext cx="201600" cy="30960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32200" y="2874960"/>
            <a:ext cx="214200" cy="104472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45000" y="3657600"/>
            <a:ext cx="201600" cy="2620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6640" y="3657600"/>
            <a:ext cx="212760" cy="2620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59440" y="3670200"/>
            <a:ext cx="201600" cy="2494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57840" y="2874960"/>
            <a:ext cx="201600" cy="104472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59480" y="2851200"/>
            <a:ext cx="212760" cy="10684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70840" y="3564000"/>
            <a:ext cx="201600" cy="35568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3600" y="2365200"/>
            <a:ext cx="201600" cy="155448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46400" y="3041640"/>
            <a:ext cx="201600" cy="87804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2220840"/>
            <a:ext cx="201600" cy="169884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59400" y="2209680"/>
            <a:ext cx="201600" cy="171000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61040" y="3564000"/>
            <a:ext cx="201600" cy="35568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59440" y="3195720"/>
            <a:ext cx="203400" cy="72396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72240" y="2376360"/>
            <a:ext cx="203400" cy="154332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72440" y="3538440"/>
            <a:ext cx="201600" cy="38124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327400" y="3490560"/>
            <a:ext cx="2880" cy="119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92480" y="3490920"/>
            <a:ext cx="8244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040200" y="2623680"/>
            <a:ext cx="2880" cy="250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05280" y="2624040"/>
            <a:ext cx="8244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740040" y="3646080"/>
            <a:ext cx="180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3680" y="3646440"/>
            <a:ext cx="856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451400" y="3646080"/>
            <a:ext cx="324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16480" y="3646440"/>
            <a:ext cx="842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53040" y="3598920"/>
            <a:ext cx="1440" cy="71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16680" y="3598920"/>
            <a:ext cx="838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54680" y="2720880"/>
            <a:ext cx="144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8320" y="2720880"/>
            <a:ext cx="82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566040" y="2638080"/>
            <a:ext cx="2880" cy="212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31120" y="2638440"/>
            <a:ext cx="82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265880" y="3490560"/>
            <a:ext cx="1800" cy="73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32760" y="3490920"/>
            <a:ext cx="8244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29000" y="2198160"/>
            <a:ext cx="3240" cy="16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94080" y="2198520"/>
            <a:ext cx="82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41800" y="2981160"/>
            <a:ext cx="2880" cy="60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6880" y="2981160"/>
            <a:ext cx="82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941640" y="1996920"/>
            <a:ext cx="1800" cy="223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06720" y="1996920"/>
            <a:ext cx="842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53000" y="2066400"/>
            <a:ext cx="3240" cy="142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9520" y="2066760"/>
            <a:ext cx="82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354640" y="3538080"/>
            <a:ext cx="1440" cy="25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18280" y="3538440"/>
            <a:ext cx="83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56280" y="3184200"/>
            <a:ext cx="180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3184560"/>
            <a:ext cx="82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67640" y="2209320"/>
            <a:ext cx="2880" cy="16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2209680"/>
            <a:ext cx="8244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469280" y="3444840"/>
            <a:ext cx="3240" cy="93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34360" y="3444840"/>
            <a:ext cx="82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90880" y="1746360"/>
            <a:ext cx="1440" cy="2173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0400" y="3919680"/>
            <a:ext cx="60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30400" y="3681360"/>
            <a:ext cx="604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30400" y="3433680"/>
            <a:ext cx="604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30400" y="3195720"/>
            <a:ext cx="604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30400" y="2959200"/>
            <a:ext cx="60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0" y="2709720"/>
            <a:ext cx="604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30400" y="2471760"/>
            <a:ext cx="604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0" y="2235240"/>
            <a:ext cx="60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30400" y="1984320"/>
            <a:ext cx="604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30400" y="1746360"/>
            <a:ext cx="60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90880" y="3919680"/>
            <a:ext cx="5638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090880" y="3919320"/>
            <a:ext cx="14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89280" y="3919320"/>
            <a:ext cx="32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02080" y="3919320"/>
            <a:ext cx="14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203720" y="3919320"/>
            <a:ext cx="14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915080" y="3919320"/>
            <a:ext cx="288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616720" y="3919320"/>
            <a:ext cx="288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15120" y="3919320"/>
            <a:ext cx="32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027920" y="3919320"/>
            <a:ext cx="32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729560" y="3919320"/>
            <a:ext cx="1440" cy="6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25280" y="103824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 IP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73280" y="3811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73280" y="35751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73280" y="3325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73280" y="3087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3280" y="28512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3280" y="26020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73280" y="23652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3280" y="21272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3280" y="18781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3280" y="1641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9724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9888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052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1152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352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2596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472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26360" y="4098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75880" y="4441680"/>
            <a:ext cx="58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Trans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166040" y="276660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1321920" y="23781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5035680"/>
            <a:ext cx="104760" cy="10800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0160" y="497664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32280" y="5035680"/>
            <a:ext cx="108000" cy="10800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97520" y="4976640"/>
            <a:ext cx="55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41800" y="1484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94520" y="1484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132000" y="1628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7640" y="162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27640" y="3672000"/>
            <a:ext cx="471636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8000" y="1773360"/>
            <a:ext cx="4248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tritus fragment trespassing the barriers is less probably removed from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of litter remains more or less constant in summer, despite the clean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mplies major inputs in summer and accumulation of non degradable 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8900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Litter accumulation: the role of barri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744720" cy="2337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673600" y="5551560"/>
            <a:ext cx="766800" cy="463320"/>
          </a:xfrm>
          <a:prstGeom prst="rect">
            <a:avLst/>
          </a:prstGeom>
          <a:solidFill>
            <a:srgbClr val="0000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81960" y="4889520"/>
            <a:ext cx="758880" cy="1125360"/>
          </a:xfrm>
          <a:prstGeom prst="rect">
            <a:avLst/>
          </a:prstGeom>
          <a:solidFill>
            <a:srgbClr val="00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056280" y="5351400"/>
            <a:ext cx="1800" cy="200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32520" y="5351400"/>
            <a:ext cx="57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958160" y="4498560"/>
            <a:ext cx="1440" cy="39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34400" y="4498920"/>
            <a:ext cx="55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6960" y="4362480"/>
            <a:ext cx="1440" cy="16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57640" y="6014880"/>
            <a:ext cx="49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57640" y="5688000"/>
            <a:ext cx="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57640" y="5351400"/>
            <a:ext cx="49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57640" y="5024520"/>
            <a:ext cx="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57640" y="4689360"/>
            <a:ext cx="49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57640" y="4362480"/>
            <a:ext cx="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6960" y="6014880"/>
            <a:ext cx="380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06960" y="6014520"/>
            <a:ext cx="1440" cy="4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15320" y="6014520"/>
            <a:ext cx="1440" cy="4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8916840" y="6014520"/>
            <a:ext cx="1800" cy="4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81360" y="3795840"/>
            <a:ext cx="241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n degradable lit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98520" y="5925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98520" y="5599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11400" y="5264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11400" y="4937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11400" y="4602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11400" y="4275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77640" y="614988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34960" y="614988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4515120" y="5052960"/>
            <a:ext cx="3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4569840" y="48801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052640"/>
            <a:ext cx="655344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115920"/>
            <a:ext cx="8713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Beach litter and ecological respon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5146560"/>
            <a:ext cx="856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The summer accumulation of organic detritus is associated with a collapse of sand living organisms as an effect of dystrophic c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3367080"/>
            <a:ext cx="897120" cy="49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75160" y="2811600"/>
            <a:ext cx="895320" cy="10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71920" y="3211560"/>
            <a:ext cx="14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43480" y="321156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823000" y="2499840"/>
            <a:ext cx="144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4200" y="2500200"/>
            <a:ext cx="68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2022480"/>
            <a:ext cx="1440" cy="18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84280" y="38638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84280" y="340524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84280" y="294804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84280" y="248112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84280" y="20224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52680" y="3863880"/>
            <a:ext cx="450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52680" y="386388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702320" y="386388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53400" y="3863880"/>
            <a:ext cx="1440" cy="6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53400" y="2022480"/>
            <a:ext cx="1440" cy="18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53400" y="3863880"/>
            <a:ext cx="6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3400" y="3494160"/>
            <a:ext cx="6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53400" y="3124080"/>
            <a:ext cx="6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53400" y="2763720"/>
            <a:ext cx="6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53400" y="2394000"/>
            <a:ext cx="6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53400" y="2022480"/>
            <a:ext cx="68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83080" y="2354400"/>
            <a:ext cx="1440" cy="23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52840" y="2354400"/>
            <a:ext cx="684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832360" y="3161880"/>
            <a:ext cx="1800" cy="19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03920" y="3162240"/>
            <a:ext cx="6840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83080" y="2587680"/>
            <a:ext cx="144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52840" y="2832120"/>
            <a:ext cx="684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32360" y="3357720"/>
            <a:ext cx="1800" cy="193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03920" y="3551400"/>
            <a:ext cx="684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03520" y="2509920"/>
            <a:ext cx="1461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54600" y="327960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0560" y="1409760"/>
            <a:ext cx="34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detritus and meiofa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69720" y="3755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69720" y="3298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2360" y="2841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2360" y="2373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52360" y="1916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12280" y="406872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22040" y="406872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1773360" y="2877120"/>
            <a:ext cx="33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1808640" y="26845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17920" y="3755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17920" y="338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17920" y="3016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117920" y="2655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17920" y="2286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17920" y="1916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7033680" y="2886840"/>
            <a:ext cx="111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 ind 10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7453440" y="22809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89240" y="4438800"/>
            <a:ext cx="12564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75000" y="43894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79280" y="4428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2200" y="961920"/>
            <a:ext cx="87138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ch litter provides a syntehtic tool for assessing pressures and human impact levels of be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asonal sampling strategy but replicated at very short spatial scale is sufficient to detect pattern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osition more than the quantity of litter provides elements for assessing the levels of putativ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82760" y="1374840"/>
            <a:ext cx="82771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Aft>
                <a:spcPts val="1749"/>
              </a:spcAft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velop new indicators, protocols and management tools able to improve socio-economic and environmental sustainability of the Palombina bea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Aft>
                <a:spcPts val="1749"/>
              </a:spcAft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provide new scientific elements on actions of intervention for the quality assessment, the protection and the recovery of the beach eco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ecologically sustainable biotechnological solutions for improving beach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49680" y="333360"/>
            <a:ext cx="700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we need and aim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53792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 casual observer, beaches may simply appear as barren stretches of sand - beautiful, but desert-lik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contrary, beaches are diverse and productive transitional ecosystems that serve as the critical link between marine and terrestrial environ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y beaches provide habitats for hundreds of plant and animal species (most of which are insects and wo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aches support a rich trophic web of life in the adjacent submerged marine system, which includes worms, bivalves, and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79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aches are not deserts: they play a key role in coastal 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87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their boundary position, beaches represent the conveyor location integrating terrestrial and marine ecosystem services and as such they’re exploited for a variety of huma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5278320"/>
            <a:ext cx="1655640" cy="1246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1773360"/>
            <a:ext cx="1223640" cy="121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43280" y="1844640"/>
            <a:ext cx="1150920" cy="129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19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ASTAL RECLA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789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IDENTS AT SEA (OIL SPI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300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, DOMESTIC AND AGRICULTURE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7082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2060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URI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360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OUR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559584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-ER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rcRect l="6359" t="0" r="20794" b="0"/>
          <a:stretch/>
        </p:blipFill>
        <p:spPr>
          <a:xfrm>
            <a:off x="2556000" y="3573360"/>
            <a:ext cx="1655640" cy="129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0" t="8511" r="0" b="2837"/>
          <a:stretch/>
        </p:blipFill>
        <p:spPr>
          <a:xfrm>
            <a:off x="7308720" y="3141720"/>
            <a:ext cx="1152720" cy="1514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020000" y="5315040"/>
            <a:ext cx="1728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198440"/>
            <a:ext cx="80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ach and bathing-related recreational management is an important component of Integrated Coastal Zone Manag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even exacerbated for those beaches located in urban coastal areas where the quality of the recreational resource is continuously threatened by the anthropogenic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, we’re still searching for batteries of indicators for assessing the “health” of beach ecosystems and also exploring new tools for re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80" y="290520"/>
            <a:ext cx="51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aches and ICZ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73664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ed between the port of Ancona and the API oil refin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ressed by two very stiff transport pathways (the SS.19 (Flaminia) and the national railway Bologna – Lec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ortant recreational and bathing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generation of water quality in summertime related to eutroph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we need integrated actions and tools for addressing these cross-cutting ecological and socio-economi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PALOMBINA Beach: a typical example of conflicting uses of the shorelines between industrial, urban and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s the Palombina Beach human-affected? Evidences from a Beach Litt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9080" y="122220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ach litter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mong the more evident indicators of human impact on the coastal marin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290600"/>
            <a:ext cx="3672000" cy="2067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211640" y="3716280"/>
            <a:ext cx="4272120" cy="2770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600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35640" y="836640"/>
            <a:ext cx="3414600" cy="5805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999080"/>
            <a:ext cx="468144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od, glass, organic detritus, plastics,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limited fraction is “natural”: the more abundant fractions is anthrop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44280"/>
            <a:ext cx="8736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each lit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44280"/>
            <a:ext cx="8736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What about Palombin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510080" cy="4824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364000" y="1052640"/>
            <a:ext cx="3635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er and Winter 20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transects of 5 station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ch station “beach litter” (&gt; 0.5 cm) collected from 1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quares (3 replicates per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c load (gravimetric) and meiofauna (sand wo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8000" y="44280"/>
            <a:ext cx="87361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2303640"/>
            <a:ext cx="331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mulation close to the API ref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mpor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836640"/>
            <a:ext cx="4968720" cy="6021360"/>
            <a:chOff x="250920" y="836640"/>
            <a:chExt cx="4968720" cy="6021360"/>
          </a:xfrm>
        </p:grpSpPr>
        <p:sp>
          <p:nvSpPr>
            <p:cNvPr id="94" name=""/>
            <p:cNvSpPr/>
            <p:nvPr/>
          </p:nvSpPr>
          <p:spPr>
            <a:xfrm>
              <a:off x="250920" y="836640"/>
              <a:ext cx="4968720" cy="602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7360" y="2292480"/>
              <a:ext cx="138240" cy="825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46360" y="2639880"/>
              <a:ext cx="128520" cy="478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95640" y="2760840"/>
              <a:ext cx="136440" cy="357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52840" y="2925720"/>
              <a:ext cx="128520" cy="192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02120" y="1806480"/>
              <a:ext cx="137880" cy="1311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60760" y="2631960"/>
              <a:ext cx="128520" cy="48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10040" y="2146320"/>
              <a:ext cx="136440" cy="97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7240" y="1650960"/>
              <a:ext cx="128520" cy="1467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25600" y="2273400"/>
              <a:ext cx="128520" cy="84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4880" y="2887560"/>
              <a:ext cx="127080" cy="230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2080" y="2916360"/>
              <a:ext cx="128520" cy="201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1360" y="2732040"/>
              <a:ext cx="128520" cy="385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0" y="1898640"/>
              <a:ext cx="128520" cy="1219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89280" y="2365200"/>
              <a:ext cx="128520" cy="75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46480" y="1906560"/>
              <a:ext cx="128520" cy="1211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95760" y="1906560"/>
              <a:ext cx="128520" cy="1211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95560" y="1211400"/>
              <a:ext cx="1440" cy="19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1840" y="31179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31840" y="27320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31840" y="235584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1840" y="19717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1840" y="15955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31840" y="121140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95560" y="3117960"/>
              <a:ext cx="3630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19556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65420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10348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562120" y="31179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011400" y="31179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68600" y="31179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917880" y="31179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37688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826160" y="3117960"/>
              <a:ext cx="144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29880" y="301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0080" y="263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0080" y="2255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0080" y="1870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0080" y="149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0080" y="1109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6980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08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7772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2700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420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3348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212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41400" y="3309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443160" y="211680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 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81320" y="19195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5640" y="3778200"/>
              <a:ext cx="128520" cy="12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8080" y="3732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Arial"/>
                </a:rPr>
                <a:t>Summ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3640" y="3778200"/>
              <a:ext cx="128520" cy="127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15040" y="3732120"/>
              <a:ext cx="55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500" spc="-1" strike="noStrike">
                  <a:solidFill>
                    <a:srgbClr val="000000"/>
                  </a:solidFill>
                  <a:latin typeface="Arial"/>
                </a:rPr>
                <a:t>Win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81200" y="4667400"/>
              <a:ext cx="743040" cy="1328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4400" y="4676760"/>
              <a:ext cx="733320" cy="1319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048040" y="438300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21040" y="4383000"/>
              <a:ext cx="63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0880" y="4400280"/>
              <a:ext cx="180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2440" y="4400640"/>
              <a:ext cx="6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1840" y="3997440"/>
              <a:ext cx="1800" cy="199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76400" y="599616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6400" y="566568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6400" y="532764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76400" y="499752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6400" y="466740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6400" y="432756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6400" y="399744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31840" y="5996160"/>
              <a:ext cx="3675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131840" y="59961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973240" y="59961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807080" y="59961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3160" y="589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3160" y="5565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1280" y="5226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1280" y="4896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280" y="4565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1280" y="4227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1280" y="3897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98920" y="6151680"/>
              <a:ext cx="67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Su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5400" y="61516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i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52520" y="494208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485640" y="47746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9:22:49Z</dcterms:created>
  <dc:creator>user</dc:creator>
  <dc:description/>
  <dc:language>en-US</dc:language>
  <cp:lastModifiedBy>user</cp:lastModifiedBy>
  <dcterms:modified xsi:type="dcterms:W3CDTF">2006-07-15T06:40:05Z</dcterms:modified>
  <cp:revision>17</cp:revision>
  <dc:subject/>
  <dc:title>Diapositiva 1</dc:title>
</cp:coreProperties>
</file>