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D7D-2954-4D63-8A06-839177FB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808-E816-427F-BF12-58999D0E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901-4FC6-49AF-8EEC-CB98D185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33B-8F52-422C-A6B9-A7C4751A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8EE-49B9-4FF0-A3A1-AE18086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CE2-61B0-4DE3-A173-EC7BD4E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0D4-4AB4-4720-8FFD-C1734C89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663-189D-4AF1-9BBA-C94645CF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BC8-5E27-41F6-A163-4EC4BC9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DA6-54F9-437B-A1DE-5347D4F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399-44B8-40D5-BCB5-1B92182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091-8013-4AE0-A8F5-700B76E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lackSea Region Meeting Varna 12.03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A2AF-9318-4DE4-BB56-E5DEF6F781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National Reports on Spatial Planning for Coastal Zones and Maritimes Areas</a:t>
            </a:r>
            <a:br>
              <a:rPr sz="3200"/>
            </a:b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39120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304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Tahoma"/>
              </a:rPr>
              <a:t>4b Recommendations could for instance cover such areas as: </a:t>
            </a:r>
            <a:br>
              <a:rPr sz="2400"/>
            </a:b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o should be the responsible/relevant institution(s) and responsible level of autho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which uses should plans be necessary and w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scope (definition of maritime are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uggestions for transborder co-operation and co-ordination of activities/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kind of legal instrument should facilitate maritime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hould be the planning proced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sea uses should be taken into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kind of background studies should be elaborated to assist plan prepa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5. OUTPUTS</a:t>
            </a:r>
            <a:r>
              <a:rPr b="0" lang="en-GB" sz="2800" spc="-1" strike="noStrike">
                <a:solidFill>
                  <a:srgbClr val="ff8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AND DEADLIN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report, to include elements as elaborated in point 3 above should be submitted as follows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85640" indent="0" algn="just">
              <a:lnSpc>
                <a:spcPct val="100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ft repo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8 Februar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85640" indent="0" algn="just">
              <a:lnSpc>
                <a:spcPct val="100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l repo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5 April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8000"/>
                </a:solidFill>
                <a:latin typeface="Verdana"/>
              </a:rPr>
              <a:t>1. Objectives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roduce/improve maritime spatial planning in a coherent manner for the Adriatic, Black and Baltic region and provide inputs for other European coastal zone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ribute to the implementation of EU Recommendations on ICZM and the Public Consultation Process and Implementation of the EU Maritime Strateg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provide grounds for the adoption and implementation of an ICZM Protocol in the Mediterranean countries and Black Sea region in particular for the planning, co-ordination and integration of the sea and land part of the coast zone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stimulate discussion at national levels of the importance of maritime spatial plann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share experience with different countries so to harmonise approaches on this issu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o provide the grounds for the pilot projects and the subsequent transnational study &amp; recommendation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2.a General Description of </a:t>
            </a:r>
            <a:br>
              <a:rPr sz="2400"/>
            </a:b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Spatial Planning system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volution of spatial planning in the country (short int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gencies of planning (national, regional, local lev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planning framework (legal basis, planning instruments, types of plans at all levels and their cont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volvement of public (access to information, public hearings, appeals, et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ontrol of development (planning/building permissions, enforcement of planning contr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d policies related to coastal ar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ban, countryside and transport planning/poli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vironmental protection and planning (pollution, waste, EIA, S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ervation of nature and cultural heritage (protected areas, et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ral introduction on coastal zone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neral introduction on maritime spatial planning (legal basis, responsibilities, practice, plan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ssessment of/commentary on advantages and g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6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b Specificities of spatial planning </a:t>
            </a: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in coastal zones</a:t>
            </a: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 problems and issues related to uses in coastal areas, confl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nning in coastal zones (general overview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ban policies (housing, tourist facilit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untryside planning (agriculture and forestry, landscape, protected areas, recreation, minerals, etc)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port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essment of /commentary on advantages and ga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Tahoma"/>
              </a:rPr>
              <a:t>2c Integrated Coastal Zone Management (ICZM)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 problems and issues related to coastal zone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ecificities of coastal zone planning (legal framework, responsibilities, vertical and horizontal coordination, procedure, plans, ICZM instruments, ICZM strategy, levels, relation to spatial plans, sea and land-use integration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ation of ICZM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sessment of/commentary on advantages and ga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5-10 pag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d. Maritime Spatial Planning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volution of sea uses and the state of the art of maritime uses in the country (sort of uses, trends, main conflict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in problems and issues related to maritime uses, confli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 of art and main characteristics of maritime spatial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gal basi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ements and contents of maritime spatial plans, scale, m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dures and responsibilities for preparation of maritime pla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evel of authority, for which compon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-ordination and resolving of conflicting us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ration of land and maritime parts of spatial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actical examples of maritime (sea-use)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5-10 pa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2e Linkages to International Policy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liance to EU ICZM recommend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age / recommendations for EU Maritime Strategy (Green Boo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age to any other international polic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i.e. Helcom / MAP / Black Sea Commiss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3-5 pag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3. Annexe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eport should be supported by as many existing documents as possible (if available in English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urthermore the report should also analyse the existing information / data sources (and access to them) and any kind of improvements on this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Tahoma"/>
              </a:rPr>
              <a:t>4.  RECOMMENDATION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following, it is expected that each partner will develop recommendations on national level as a result of the comparison undertaken with the other partner contributions and the ensuing discussions during the various PlanCoast worksho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rthermore these recommendations will be encompassed by the joint recommendations developed within the transnational stud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dcterms:modified xsi:type="dcterms:W3CDTF">2007-03-12T19:51:55Z</dcterms:modified>
  <cp:revision>8</cp:revision>
  <dc:subject/>
  <dc:title>INTERREG IIIB CADSES Project „PlanCoast“</dc:title>
</cp:coreProperties>
</file>