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5A6-78E1-441E-A161-21607D9C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082-6DF6-43C9-BE27-1C474EDE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3E8-1B7F-4FDD-B654-CAB558D0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A36-C46B-4B95-9ABD-6DD6CFF2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B7E-208F-4EF6-A098-FFD17AE3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0C2-62CB-41F8-9BA7-FFA9B9E3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204-44F1-4C21-A54C-7F10B352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F1E-C4F5-4A7A-A386-49A41146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D03-1044-45B3-B0A5-CBBCC604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986-FDFE-4F98-9E32-C15C033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113-4F77-4F9B-8ED0-B35350C1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16A-AFB6-4E9D-8A5D-A6ED011E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lackSea Region Meeting Varna 12.03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AB21-90E9-4B80-8A21-6E8C550203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205740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8000"/>
                </a:solidFill>
                <a:latin typeface="Arial"/>
              </a:rPr>
              <a:t>National Reports on Spatial Planning for Coastal Zones and Maritimes Areas</a:t>
            </a:r>
            <a:br>
              <a:rPr sz="3200"/>
            </a:b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Terms of Refe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5586480" y="3870360"/>
            <a:ext cx="27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391200" cy="127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304920"/>
            <a:ext cx="2438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000"/>
                </a:solidFill>
                <a:latin typeface="Tahoma"/>
              </a:rPr>
              <a:t>4b Recommendations could for instance cover such areas as: </a:t>
            </a:r>
            <a:br>
              <a:rPr sz="2400"/>
            </a:b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o should be the responsible/relevant institution(s) and responsible level of autho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r which uses should plans be necessary and w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scope (definition of maritime area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ggestions for transborder co-operation and co-ordination of activities/pl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kind of legal instrument should facilitate maritime plan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hould be the planning proced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sea uses should be taken into accou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kind of background studies should be elaborated to assist plan prepa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5. OUTPUTS</a:t>
            </a:r>
            <a:r>
              <a:rPr b="0" lang="en-GB" sz="2800" spc="-1" strike="noStrike">
                <a:solidFill>
                  <a:srgbClr val="ff8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AND DEADLIN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report, to include elements as elaborated in point 3 above should be submitted as follows: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85640" indent="0" algn="just">
              <a:lnSpc>
                <a:spcPct val="100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aft repor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8 February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85640" indent="0" algn="just">
              <a:lnSpc>
                <a:spcPct val="100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l repor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5 April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8000"/>
                </a:solidFill>
                <a:latin typeface="Verdana"/>
              </a:rPr>
              <a:t>1. Objectives</a:t>
            </a: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roduce/improve maritime spatial planning in a coherent manner for the Adriatic, Black and Baltic region and provide inputs for other European coastal zone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ribute to the implementation of EU Recommendations on ICZM and the Public Consultation Process and Implementation of the EU Maritime Strateg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provide grounds for the adoption and implementation of an ICZM Protocol in the Mediterranean countries and Black Sea region in particular for the planning, co-ordination and integration of the sea and land part of the coast zone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stimulate discussion at national levels of the importance of maritime spatial planning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share experience with different countries so to harmonise approaches on this issu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o provide the grounds for the pilot projects and the subsequent transnational study &amp; recommendation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6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8000"/>
                </a:solidFill>
                <a:latin typeface="Verdana"/>
              </a:rPr>
              <a:t>2.a General Description of </a:t>
            </a:r>
            <a:br>
              <a:rPr sz="2400"/>
            </a:br>
            <a:r>
              <a:rPr b="1" lang="de-DE" sz="2400" spc="-1" strike="noStrike">
                <a:solidFill>
                  <a:srgbClr val="ff8000"/>
                </a:solidFill>
                <a:latin typeface="Verdana"/>
              </a:rPr>
              <a:t>Spatial Planning system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volution of spatial planning in the country (short introdu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gencies of planning (national, regional, local lev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planning framework (legal basis, planning instruments, types of plans at all levels and their conten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volvement of public (access to information, public hearings, appeals, et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control of development (planning/building permissions, enforcement of planning contr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nd policies related to coastal area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rban, countryside and transport planning/polic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nvironmental protection and planning (pollution, waste, EIA, S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servation of nature and cultural heritage (protected areas, et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neral introduction on coastal zone plan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neral introduction on maritime spatial planning (legal basis, responsibilities, practice, plan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ssessment of/commentary on advantages and ga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2b Specificities of spatial planning </a:t>
            </a:r>
            <a:br>
              <a:rPr sz="2800"/>
            </a:b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in coastal zones</a:t>
            </a: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 problems and issues related to uses in coastal areas, confl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anning in coastal zones (general overview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ban policies (housing, tourist facilit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untryside planning (agriculture and forestry, landscape, protected areas, recreation, minerals, etc)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nsport plan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sessment of /commentary on advantages and ga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000"/>
                </a:solidFill>
                <a:latin typeface="Tahoma"/>
              </a:rPr>
              <a:t>2c Integrated Coastal Zone Management (ICZM)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 problems and issues related to coastal zone manag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ecificities of coastal zone planning (legal framework, responsibilities, vertical and horizontal coordination, procedure, plans, ICZM instruments, ICZM strategy, levels, relation to spatial plans, sea and land-use integration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lementation of ICZM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sessment of/commentary on advantages and ga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5-10 pag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2d. Maritime Spatial Planning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volution of sea uses and the state of the art of maritime uses in the country (sort of uses, trends, main conflict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in problems and issues related to maritime uses, confli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te of art and main characteristics of maritime spatial plan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egal basi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lements and contents of maritime spatial plans, scale, ma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dures and responsibilities for preparation of maritime plan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level of authority, for which componen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-ordination and resolving of conflicting us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gration of land and maritime parts of spatial pl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actical examples of maritime (sea-use) pl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5-10 pag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2e Linkages to International Policy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liance to EU ICZM recommend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nkage / recommendations for EU Maritime Strategy (Green Boo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nkage to any other international polic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i.e. Helcom / MAP / Black Sea Commiss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3-5 pag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3. Annexes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report should be supported by as many existing documents as possible (if available in English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urthermore the report should also analyse the existing information / data sources (and access to them) and any kind of improvements on this lev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4.  RECOMMENDATIONS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following, it is expected that each partner will develop recommendations on national level as a result of the comparison undertaken with the other partner contributions and the ensuing discussions during the various PlanCoast worksho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rthermore these recommendations will be encompassed by the joint recommendations developed within the transnational stud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2:03:15Z</dcterms:created>
  <dc:creator>Angela Schultz-Zehden</dc:creator>
  <dc:description/>
  <dc:language>en-US</dc:language>
  <cp:lastModifiedBy>Angela Schultz-Zehden</cp:lastModifiedBy>
  <dcterms:modified xsi:type="dcterms:W3CDTF">2007-03-12T19:51:55Z</dcterms:modified>
  <cp:revision>8</cp:revision>
  <dc:subject/>
  <dc:title>INTERREG IIIB CADSES Project „PlanCoast“</dc:title>
</cp:coreProperties>
</file>