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44280" y="609480"/>
            <a:ext cx="5713560" cy="9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82160" y="1739880"/>
            <a:ext cx="79218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66800" indent="-285840">
              <a:spcBef>
                <a:spcPts val="601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2" marL="118584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60488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94480"/>
            <a:ext cx="914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gional meeting of PlanCoast partners from Adriatic Sea region, Kotor, Montenegro, 26-27 March 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4000" y="3968640"/>
            <a:ext cx="64800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60708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gional meeting of PlanCoast partners from Adriatic Sea region, Kotor, Montenegro, 26-27 March 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0" y="6594480"/>
              <a:ext cx="914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Regional meeting of PlanCoast partners from Adriatic Sea region, Kotor, Montenegro, 26-27 March 200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pap@gradst.hr" TargetMode="Externa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5713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REPORT (1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SUMMARY of PAP/RAC activities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2" marL="1162080" indent="-223920">
              <a:spcBef>
                <a:spcPts val="451"/>
              </a:spcBef>
              <a:buClr>
                <a:srgbClr val="3333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National Repor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- current policy, procedures, legal basis, practice of marine spatial planning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spatial planning system, 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marine spatial planning, 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recommendation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3920">
              <a:spcBef>
                <a:spcPts val="499"/>
              </a:spcBef>
              <a:buClr>
                <a:srgbClr val="3333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Synthesis Repor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- spatial planning in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driatic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recommendation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integration of marine spatial planning in ICZM at national level. Link to Transnational study).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3920">
              <a:spcBef>
                <a:spcPts val="451"/>
              </a:spcBef>
              <a:buClr>
                <a:srgbClr val="3333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Report on marine spatial planning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theoretical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insight +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experience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+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recommendation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Link to Transnational study.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3920">
              <a:spcBef>
                <a:spcPts val="499"/>
              </a:spcBef>
              <a:buClr>
                <a:srgbClr val="3333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Conference on Marine Spatial Planning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3rd PlanCoast Meeting; Split, 20-21 September 200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1320" indent="-280080">
              <a:spcBef>
                <a:spcPts val="249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tract with EC Delegation in Croatia signe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29 December 2006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51320" indent="-280080" algn="just">
              <a:spcBef>
                <a:spcPts val="249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% reduction of the budget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42840" y="838080"/>
            <a:ext cx="571356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REPORT (2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2. National Report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84400" indent="-2844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mon ToR </a:t>
            </a:r>
            <a:r>
              <a:rPr b="0" lang="en-GB" sz="20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Tahoma"/>
              </a:rPr>
              <a:t>Chapters</a:t>
            </a:r>
            <a:r>
              <a:rPr b="0" lang="en-GB" sz="2000" spc="-1" strike="noStrike">
                <a:solidFill>
                  <a:srgbClr val="0000ff"/>
                </a:solidFill>
                <a:latin typeface="Tahoma"/>
              </a:rPr>
              <a:t> co-financed by PAP/RAC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844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51320" indent="-280080" algn="just">
              <a:spcBef>
                <a:spcPts val="224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   Executive summary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51320" indent="-280080" algn="just">
              <a:spcBef>
                <a:spcPts val="224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B   General description of the spatial planning system in the country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51320" indent="-280080" algn="just">
              <a:spcBef>
                <a:spcPts val="224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   Specificities of spatial planning in coastal zones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51320" indent="-280080" algn="just">
              <a:spcBef>
                <a:spcPts val="224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   ICZM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51320" indent="-280080" algn="just">
              <a:spcBef>
                <a:spcPts val="224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E   Marine Spatial Planning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51320" indent="-280080" algn="just">
              <a:spcBef>
                <a:spcPts val="224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   Linkages to International Policy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51320" indent="-280080" algn="just">
              <a:spcBef>
                <a:spcPts val="224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   Annexes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51320" indent="-280080" algn="just">
              <a:spcBef>
                <a:spcPts val="224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5   Recommendations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284400" indent="-2844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-ordination with partners and consultants (contracts, deadlines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84400" indent="-2844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ments/suggestions on draft/final reports (overall) Deadlines!!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84400" indent="-2844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diting and publishing of complete National Report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42840" y="838080"/>
            <a:ext cx="571356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REPORT (3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. Progress on National Report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7" name="Kotor" descr=""/>
          <p:cNvPicPr/>
          <p:nvPr/>
        </p:nvPicPr>
        <p:blipFill>
          <a:blip r:embed="rId1"/>
          <a:stretch/>
        </p:blipFill>
        <p:spPr>
          <a:xfrm>
            <a:off x="1143000" y="2819520"/>
            <a:ext cx="7162920" cy="35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8560" y="3096720"/>
            <a:ext cx="8515440" cy="32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EP Mediterranean Action Pla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riority Actions Program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Regional Activity Centre (PAP/RAC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Kraj Sv. Ivana 1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1000 Split, Croat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el: + (385) (21) 340 47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-mail: </a:t>
            </a:r>
            <a:r>
              <a:rPr b="0" lang="en-GB" sz="20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pap@gradst.h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www.pap-thecoastcentre.or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5T06:36:42Z</dcterms:created>
  <dc:creator>Marko Prem</dc:creator>
  <dc:description/>
  <dc:language>en-US</dc:language>
  <cp:lastModifiedBy>Marko Prem</cp:lastModifiedBy>
  <cp:lastPrinted>2007-02-22T08:38:38Z</cp:lastPrinted>
  <dcterms:modified xsi:type="dcterms:W3CDTF">2007-03-23T09:33:34Z</dcterms:modified>
  <cp:revision>388</cp:revision>
  <dc:subject/>
  <dc:title>No Slide Title</dc:title>
</cp:coreProperties>
</file>