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8656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290520" indent="-290520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2" marL="290520" indent="-290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3" marL="290520" indent="-29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290520" indent="-2905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290520" indent="-2905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290520" indent="-2905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4520" y="6594480"/>
            <a:ext cx="790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99"/>
                </a:solidFill>
                <a:latin typeface="Tahoma"/>
              </a:rPr>
              <a:t>Meeting of CoastAtlantic INTERREG project and General Assembly of the Atlantic Arc Commission 28-30 Jun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2" marL="914400" indent="4284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4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1736640"/>
            <a:ext cx="813600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UNEP-MAP</a:t>
            </a:r>
            <a:br>
              <a:rPr sz="4000"/>
            </a:b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CZM STRATEGY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54273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Marko PREM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AP/RAC Deputy Director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7400" y="1343160"/>
            <a:ext cx="7512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1346040"/>
            <a:ext cx="85820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ROTOCOL: MILESTONES and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en-GB" sz="2400" spc="-1" strike="noStrike" baseline="30000">
                <a:solidFill>
                  <a:srgbClr val="000099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Ordinary Meeting of the CPs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(November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Feasibility Study 2002/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13</a:t>
            </a:r>
            <a:r>
              <a:rPr b="1" lang="en-GB" sz="2400" spc="-1" strike="noStrike" baseline="30000">
                <a:solidFill>
                  <a:srgbClr val="000099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Ordinary Meeting of the CPs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(November 200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o prepare the draf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Consultation process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(ICAM </a:t>
            </a:r>
            <a:r>
              <a:rPr b="0" lang="en-GB" sz="2400" spc="-1" strike="noStrike" u="sng">
                <a:solidFill>
                  <a:srgbClr val="000099"/>
                </a:solidFill>
                <a:uFillTx/>
                <a:latin typeface="Tahoma"/>
              </a:rPr>
              <a:t>Forum in Cagliari; 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Expert WG; </a:t>
            </a:r>
            <a:r>
              <a:rPr b="0" lang="hr-HR" sz="2400" spc="-1" strike="noStrike" u="sng">
                <a:solidFill>
                  <a:srgbClr val="000099"/>
                </a:solidFill>
                <a:uFillTx/>
                <a:latin typeface="Tahoma"/>
              </a:rPr>
              <a:t>Consultative workshop in Oristano; </a:t>
            </a:r>
            <a:r>
              <a:rPr b="0" lang="en-GB" sz="2400" spc="-1" strike="noStrike" u="sng">
                <a:solidFill>
                  <a:srgbClr val="000099"/>
                </a:solidFill>
                <a:uFillTx/>
                <a:latin typeface="Tahoma"/>
              </a:rPr>
              <a:t>Draft Protocol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with Comment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14</a:t>
            </a:r>
            <a:r>
              <a:rPr b="1" lang="en-GB" sz="2400" spc="-1" strike="noStrike" baseline="30000">
                <a:solidFill>
                  <a:srgbClr val="000099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Ordinary Meeting of the CPs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(Nov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overments designate a WG; Final Draft/Adoption? by Nov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76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TOCOL STRUCTURE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T I  GENERAL PROVISIONS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1: General obligations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2: Definition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3: Geographical coverage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4: Preservation of righ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76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art II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RINCIPLES AND ELEMENTS OF INTEGRATED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OASTAL ZONE MANAGEMENT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5: General principles and objectives of IM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6: Institutional co-ordination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7: Protection and use of the coastal zone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8: Economic activitie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9: Specific coastal ecosystem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10: Coastal erosion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11: Cultural heritage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 12: Participation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13: Awareness-raising, training, education and research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76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80600"/>
            <a:ext cx="868680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64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t III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STRUMENTS FOR INTEGRATED COASTAL ZONE MANAGEMENT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14: Observatories, inventories and network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rticle15: Mediterranean Strategy for ICZM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shall be adopted; set out policy orientations for SD coastal zone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on which national strategies could  be based; in conformity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th MSSD; taking into account objectives and principles of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ocol; periodical review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16: National coastal strategies, plans and programme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17: Environmental assessment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18: Land ownership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6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19: Economic and financial instrumen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676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0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art IV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INTERNATIONAL COOPERATION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20: Training and research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21: Scientific and technical assistance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22: Exchange of information and demonstration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rojec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23: Natural disasters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24: Transboundary co-operation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rticle25: Transboundary impact studies and strategic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ssessmen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76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t V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STITUTIONAL PROVISIONS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26: Focal Poin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27: Reports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28: Institutional arrangemen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29: Meetings of the Partie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t VI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NAL PROVISIONS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30: Relationship with the Convention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31: Relations with third Parties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rticle 32: Final provision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7400" y="1343160"/>
            <a:ext cx="7512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560" y="1562040"/>
            <a:ext cx="851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CZM Strateg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Operational Strategic Action Plan for ICZM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he Mediterran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(link to ICZM Protocol and MS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92120" y="714240"/>
            <a:ext cx="4459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6600" y="1390680"/>
            <a:ext cx="8294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esired changes and outcomes- VISION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rategic objectives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o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catalys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mainstreaming activities, complementarities and synergy, durable financ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o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develop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define priorities, best practic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o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communicat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communication mechanism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participation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o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implemen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capacity, local level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or each strategic component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2" marL="116208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on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for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85960" y="1141560"/>
            <a:ext cx="7391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72200" y="2535120"/>
            <a:ext cx="2806560" cy="394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5400" y="7156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MP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0000" y="194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One of the main programmes of MAP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Non-commercial project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romoting SD and ICAM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Co-operating with &amp; assisting countries: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o solve priority CM related problem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o introduce ICAM and tool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Implementation: national team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nd international experts - RACs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Co-ordinated by PAP/RAC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255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mpulsory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4480" y="2170080"/>
            <a:ext cx="7777080" cy="34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80000"/>
              </a:lnSpc>
              <a:spcAft>
                <a:spcPts val="1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ticipatory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Vertical and horizontal 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4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volvement of stakehol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4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egration of sea and land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4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pacity building (trai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4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Raising awar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4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38480" y="2509920"/>
            <a:ext cx="5105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3360" y="1614600"/>
            <a:ext cx="338436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editerranean Action Plan (MAP) 1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Barcelona Convention 1976- 3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-2811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Assess and control marine 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-2811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Formulate national </a:t>
            </a:r>
            <a:br>
              <a:rPr sz="2000"/>
            </a:b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environmental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-2811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ICZM after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96960" y="698400"/>
            <a:ext cx="65595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9560" y="2097000"/>
            <a:ext cx="8434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uidelines for ICZ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White Paper on CZM in Mediterran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ood Practice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Med Clearing Ho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raining courses /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Med Open - virtual training course on ICZ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049280" y="3284640"/>
            <a:ext cx="509436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UNEP Mediterranean Action Plan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riority Actions Programme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egional Activity Centre 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AP/RAC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Kraj Sv. Ivana 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HR-21000 Split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tel: (385) (21) 340 470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-mail: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ap@gradst.hr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99"/>
                </a:solidFill>
                <a:latin typeface="Tahoma"/>
              </a:rPr>
              <a:t>www.pap-thecoastcentre.org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7400" y="1343160"/>
            <a:ext cx="7539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AP legal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560" y="1963800"/>
            <a:ext cx="63435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Six specific legal frame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Dumping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mergency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LBS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SPA and Biodiversity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Offshore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Hazardous Wastes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9"/>
                </a:solidFill>
                <a:uFillTx/>
                <a:latin typeface="Tahoma"/>
              </a:rPr>
              <a:t>ICZM Protocol in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2800" y="1312920"/>
            <a:ext cx="843120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7400" y="1343160"/>
            <a:ext cx="7512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8560" y="1562040"/>
            <a:ext cx="851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essures and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S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CZM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CZ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7400" y="1343160"/>
            <a:ext cx="7512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ssures and Fut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1884240"/>
            <a:ext cx="85676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55600" indent="-2556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Coastal urbanisat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640" indent="-251280" algn="just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rapid expansion, "litoralisation" phenomena, dem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640" indent="-251280" algn="just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demographic trends (in 2000 274 mio; S &amp; E 100 mio 2000-2025, 31 mio in c.a.; 75% (380 mio) in urban a. by 20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Tourism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640" indent="-251280" algn="just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637 mio tourists in 2025, 273 mio more than in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Wat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Pollution/Wa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Reduction of biological diver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Soil erosion and desertification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nvironmental risks due to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0" indent="-25560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hreats to cultural identity and landsc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73080" y="750960"/>
            <a:ext cx="5531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SS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8560" y="1562040"/>
            <a:ext cx="851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61360" indent="-26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Mediterranean Strategy for Sustainab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Overall SD Strategy, adopted in Nov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Four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major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7040" indent="-20556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Increasing economic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7040" indent="-20556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Reduce social defic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7040" indent="-20556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hange unsustainable production and consumption patterns and manage natural resources sustain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7040" indent="-20556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nd irreversible degradation of public goods, reduce vulnerability to natural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7040" indent="-2055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4240"/>
            <a:ext cx="471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1840" y="1378080"/>
            <a:ext cx="86421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Seven priority fields of action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7. Promoting sustainable management of the sea and coastal zones, and urgently stopping the degradation of coastal zones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Objectives: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reventing and reducing pollution from ships and risks of accident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reducing pollution from land-based sourc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romoting sustainable fisheries and aquacultur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protecting marine and coastal biodiversity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ahoma"/>
              </a:rPr>
              <a:t>promoting more integrated development and management of coastal areas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and prevention of risk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4240"/>
            <a:ext cx="471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1840" y="1311120"/>
            <a:ext cx="891216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rientations and action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2" marL="858960" indent="-376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option of ICZM protocol by 2007, and implement ICZ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376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option of coastal zone laws by countries before 2012, creation of mechanisms and instruments for coastal management by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376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motion of integrated management approaches and projects / capacity bui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376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ssess the vulnerability to natural and technological risks (risk plans by 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376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motion of the role of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376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ke best use of Euro-Mediterranean S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06:36:42Z</dcterms:created>
  <dc:creator>Marko Prem</dc:creator>
  <dc:description/>
  <dc:language>en-US</dc:language>
  <cp:lastModifiedBy>Angela Schultz-Zehden</cp:lastModifiedBy>
  <cp:lastPrinted>2004-06-24T12:38:40Z</cp:lastPrinted>
  <dcterms:modified xsi:type="dcterms:W3CDTF">2006-07-13T07:12:55Z</dcterms:modified>
  <cp:revision>263</cp:revision>
  <dc:subject/>
  <dc:title>No Slide Title</dc:title>
</cp:coreProperties>
</file>