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21.wmf" ContentType="image/x-wmf"/>
  <Override PartName="/ppt/media/image19.wmf" ContentType="image/x-wmf"/>
  <Override PartName="/ppt/media/image13.jpeg" ContentType="image/jpeg"/>
  <Override PartName="/ppt/media/image14.jpeg" ContentType="image/jpeg"/>
  <Override PartName="/ppt/media/image8.png" ContentType="image/png"/>
  <Override PartName="/ppt/media/image30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12.jpeg" ContentType="image/jpeg"/>
  <Override PartName="/ppt/media/image35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7.png" ContentType="image/png"/>
  <Override PartName="/ppt/media/image37.png" ContentType="image/png"/>
  <Override PartName="/ppt/media/image11.jpeg" ContentType="image/jpeg"/>
  <Override PartName="/ppt/media/image36.wmf" ContentType="image/x-wmf"/>
  <Override PartName="/ppt/media/image16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9.png" ContentType="image/png"/>
  <Override PartName="/ppt/media/image34.wmf" ContentType="image/x-wmf"/>
  <Override PartName="/ppt/media/image4.wmf" ContentType="image/x-wmf"/>
  <Override PartName="/ppt/media/image3.png" ContentType="image/png"/>
  <Override PartName="/ppt/media/image17.jpeg" ContentType="image/jpeg"/>
  <Override PartName="/ppt/media/image1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3588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4314240"/>
            <a:ext cx="843588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1166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9720" y="2133360"/>
            <a:ext cx="41166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4314240"/>
            <a:ext cx="41166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9720" y="4314240"/>
            <a:ext cx="41166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27162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9120" y="2133360"/>
            <a:ext cx="27162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61760" y="2133360"/>
            <a:ext cx="27162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4314240"/>
            <a:ext cx="27162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9120" y="4314240"/>
            <a:ext cx="27162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61760" y="4314240"/>
            <a:ext cx="27162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2133360"/>
            <a:ext cx="843588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358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116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9720" y="2133360"/>
            <a:ext cx="4116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708360" y="259920"/>
            <a:ext cx="5205600" cy="73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1166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2133360"/>
            <a:ext cx="4116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4314240"/>
            <a:ext cx="41166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116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2133360"/>
            <a:ext cx="41166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9720" y="4314240"/>
            <a:ext cx="41166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1166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133360"/>
            <a:ext cx="411660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314240"/>
            <a:ext cx="8435880" cy="19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133360"/>
            <a:ext cx="84358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219640" y="6380280"/>
            <a:ext cx="3924360" cy="477720"/>
            <a:chOff x="5219640" y="6380280"/>
            <a:chExt cx="3924360" cy="477720"/>
          </a:xfrm>
        </p:grpSpPr>
        <p:pic>
          <p:nvPicPr>
            <p:cNvPr id="6" name="" descr=""/>
            <p:cNvPicPr/>
            <p:nvPr/>
          </p:nvPicPr>
          <p:blipFill>
            <a:blip r:embed="rId5"/>
            <a:stretch/>
          </p:blipFill>
          <p:spPr>
            <a:xfrm>
              <a:off x="5219640" y="6385680"/>
              <a:ext cx="594720" cy="4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lancoast_logo" descr=""/>
            <p:cNvPicPr/>
            <p:nvPr/>
          </p:nvPicPr>
          <p:blipFill>
            <a:blip r:embed="rId6"/>
            <a:stretch/>
          </p:blipFill>
          <p:spPr>
            <a:xfrm>
              <a:off x="5808240" y="6380280"/>
              <a:ext cx="2577600" cy="47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7"/>
            <a:stretch/>
          </p:blipFill>
          <p:spPr>
            <a:xfrm>
              <a:off x="8379360" y="6385680"/>
              <a:ext cx="764640" cy="4719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1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036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tegrated Coastal Zone Management in Europ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of the art and current approach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63640" y="2349360"/>
            <a:ext cx="3519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an Shipm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788000" y="3789360"/>
            <a:ext cx="3887640" cy="254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95280" y="836640"/>
            <a:ext cx="3960720" cy="2603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39640" y="3860640"/>
            <a:ext cx="3816360" cy="2421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4788000" y="836640"/>
            <a:ext cx="3887640" cy="259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003640" y="173160"/>
            <a:ext cx="36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17316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technologies – the future is development-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5640" y="1284120"/>
            <a:ext cx="838836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3995640" cy="2652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3995640" cy="2565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67280" y="18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067280" y="907920"/>
            <a:ext cx="5076720" cy="4878000"/>
            <a:chOff x="4067280" y="907920"/>
            <a:chExt cx="5076720" cy="487800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4067280" y="907920"/>
              <a:ext cx="5076720" cy="38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299120" y="4869000"/>
              <a:ext cx="4844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lowly cruising around the world, hugging the shoreline, and completing one revolution every 3 years.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867280" y="18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067280" y="907920"/>
            <a:ext cx="5076720" cy="4878000"/>
            <a:chOff x="4067280" y="907920"/>
            <a:chExt cx="5076720" cy="4878000"/>
          </a:xfrm>
        </p:grpSpPr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067280" y="907920"/>
              <a:ext cx="5076720" cy="38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299120" y="4869000"/>
              <a:ext cx="4844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lowly cruising around the world, hugging the shoreline, and completing one revolution every 3 years.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3814920"/>
            <a:ext cx="3780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0348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529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48360" y="189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isk - nat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796000" y="1700280"/>
            <a:ext cx="2809800" cy="1866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867280" y="3933720"/>
            <a:ext cx="2808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100 million tonnes of sediment per an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10348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189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isk - nat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56000" y="522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ec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commod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re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0348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189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isk - nat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6588000" cy="3435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624720" y="2781360"/>
            <a:ext cx="23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thquakes in Europe and adjoining are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64–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300640"/>
            <a:ext cx="66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ina Tsunami 1908: which cost approximately 10 thousand l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sks -  hum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1484280"/>
            <a:ext cx="6275520" cy="3865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08000" y="5516640"/>
            <a:ext cx="6192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il spills in European regional seas (2000–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sks -  hum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84360" y="2205000"/>
            <a:ext cx="6031080" cy="2288160"/>
            <a:chOff x="2484360" y="2205000"/>
            <a:chExt cx="6031080" cy="2288160"/>
          </a:xfrm>
        </p:grpSpPr>
        <p:sp>
          <p:nvSpPr>
            <p:cNvPr id="118" name=""/>
            <p:cNvSpPr/>
            <p:nvPr/>
          </p:nvSpPr>
          <p:spPr>
            <a:xfrm>
              <a:off x="5364000" y="3789360"/>
              <a:ext cx="3151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Dungeness B Nuclear power station, U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84360" y="2205000"/>
              <a:ext cx="4248360" cy="2232000"/>
            </a:xfrm>
            <a:custGeom>
              <a:avLst/>
              <a:gdLst/>
              <a:ahLst/>
              <a:rect l="l" t="t" r="r" b="b"/>
              <a:pathLst>
                <a:path w="2676" h="1406">
                  <a:moveTo>
                    <a:pt x="635" y="1406"/>
                  </a:moveTo>
                  <a:lnTo>
                    <a:pt x="136" y="726"/>
                  </a:lnTo>
                  <a:lnTo>
                    <a:pt x="0" y="272"/>
                  </a:lnTo>
                  <a:lnTo>
                    <a:pt x="589" y="45"/>
                  </a:lnTo>
                  <a:lnTo>
                    <a:pt x="997" y="272"/>
                  </a:lnTo>
                  <a:lnTo>
                    <a:pt x="1542" y="0"/>
                  </a:lnTo>
                  <a:lnTo>
                    <a:pt x="2131" y="181"/>
                  </a:lnTo>
                  <a:lnTo>
                    <a:pt x="2268" y="91"/>
                  </a:lnTo>
                  <a:lnTo>
                    <a:pt x="2676" y="453"/>
                  </a:lnTo>
                  <a:lnTo>
                    <a:pt x="635" y="1406"/>
                  </a:ln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4940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00000" y="18900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 and changing land 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036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CZM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26920" y="1916280"/>
            <a:ext cx="8056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ut 30 years old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ily a response to rapid post-war coastal development and tourism…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ut new pressures and issu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00000" y="18900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 and changing land 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148360" y="26028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d cover change within the 10 km coastal zone of 17 of European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990–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8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08360" y="189000"/>
            <a:ext cx="5205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rriers to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CZ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2176560"/>
            <a:ext cx="9144000" cy="4681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14240" y="2327400"/>
            <a:ext cx="2259000" cy="720720"/>
          </a:xfrm>
          <a:custGeom>
            <a:avLst/>
            <a:gdLst>
              <a:gd name="textAreaLeft" fmla="*/ 282240 w 2259000"/>
              <a:gd name="textAreaRight" fmla="*/ 1976760 w 225900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66cc">
                  <a:alpha val="51372"/>
                </a:srgbClr>
              </a:gs>
              <a:gs pos="100000">
                <a:srgbClr val="002f5e">
                  <a:alpha val="49019"/>
                </a:srgbClr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3498480" y="2327040"/>
            <a:ext cx="3763800" cy="720720"/>
          </a:xfrm>
          <a:custGeom>
            <a:avLst/>
            <a:gdLst>
              <a:gd name="textAreaLeft" fmla="*/ 470520 w 3763800"/>
              <a:gd name="textAreaRight" fmla="*/ 3293640 w 376380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33cc33">
                  <a:alpha val="51372"/>
                </a:srgbClr>
              </a:gs>
              <a:gs pos="100000">
                <a:srgbClr val="175e17">
                  <a:alpha val="51372"/>
                </a:srgbClr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400560"/>
            <a:ext cx="2987640" cy="3022200"/>
          </a:xfrm>
          <a:prstGeom prst="rect">
            <a:avLst/>
          </a:prstGeom>
          <a:gradFill rotWithShape="0">
            <a:gsLst>
              <a:gs pos="0">
                <a:srgbClr val="0066cc">
                  <a:alpha val="52156"/>
                </a:srgbClr>
              </a:gs>
              <a:gs pos="100000">
                <a:srgbClr val="002f5e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Univers"/>
              </a:rPr>
              <a:t>National Gover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Univers"/>
              </a:rPr>
              <a:t>Marine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Univers"/>
              </a:rPr>
              <a:t>Marine Sectoral inter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Univers"/>
              </a:rPr>
              <a:t>BIN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8840" y="3616200"/>
            <a:ext cx="5645160" cy="2717280"/>
          </a:xfrm>
          <a:prstGeom prst="rect">
            <a:avLst/>
          </a:prstGeom>
          <a:gradFill rotWithShape="0">
            <a:gsLst>
              <a:gs pos="0">
                <a:srgbClr val="33cc33">
                  <a:alpha val="51372"/>
                </a:srgbClr>
              </a:gs>
              <a:gs pos="100000">
                <a:srgbClr val="175e17">
                  <a:alpha val="5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Univers"/>
              </a:rPr>
              <a:t>Local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Univers"/>
              </a:rPr>
              <a:t>Region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Univers"/>
              </a:rPr>
              <a:t>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13560" y="2182680"/>
            <a:ext cx="485280" cy="4653000"/>
          </a:xfrm>
          <a:prstGeom prst="rect">
            <a:avLst/>
          </a:prstGeom>
          <a:gradFill rotWithShape="0">
            <a:gsLst>
              <a:gs pos="0">
                <a:srgbClr val="004081">
                  <a:alpha val="51372"/>
                </a:srgbClr>
              </a:gs>
              <a:gs pos="100000">
                <a:srgbClr val="0066cc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Univers"/>
              </a:rPr>
              <a:t>New   Fronti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4358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Governance rigidities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–the new coastal squeeze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708360" y="189000"/>
            <a:ext cx="5205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rriers to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CZ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2176560"/>
            <a:ext cx="9144000" cy="46814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4358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ICZM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3708360" y="189000"/>
            <a:ext cx="5205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rriers to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CZ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2349360"/>
            <a:ext cx="6048360" cy="720720"/>
          </a:xfrm>
          <a:custGeom>
            <a:avLst/>
            <a:gdLst>
              <a:gd name="textAreaLeft" fmla="*/ 756000 w 6048360"/>
              <a:gd name="textAreaRight" fmla="*/ 5292360 w 6048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66cc">
                  <a:alpha val="51372"/>
                </a:srgbClr>
              </a:gs>
              <a:gs pos="100000">
                <a:srgbClr val="002f5e">
                  <a:alpha val="49019"/>
                </a:srgbClr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611280" y="5805000"/>
            <a:ext cx="6192720" cy="720720"/>
          </a:xfrm>
          <a:custGeom>
            <a:avLst/>
            <a:gdLst>
              <a:gd name="textAreaLeft" fmla="*/ 774000 w 6192720"/>
              <a:gd name="textAreaRight" fmla="*/ 5418720 w 6192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33cc33">
                  <a:alpha val="51372"/>
                </a:srgbClr>
              </a:gs>
              <a:gs pos="100000">
                <a:srgbClr val="175e17">
                  <a:alpha val="51372"/>
                </a:srgbClr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00280"/>
            <a:ext cx="9144000" cy="2014200"/>
          </a:xfrm>
          <a:prstGeom prst="rect">
            <a:avLst/>
          </a:prstGeom>
          <a:gradFill rotWithShape="0">
            <a:gsLst>
              <a:gs pos="0">
                <a:srgbClr val="33cc33">
                  <a:alpha val="51372"/>
                </a:srgbClr>
              </a:gs>
              <a:gs pos="100000">
                <a:srgbClr val="175e17">
                  <a:alpha val="5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Local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gional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m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508200"/>
            <a:ext cx="4356000" cy="2014200"/>
          </a:xfrm>
          <a:prstGeom prst="rect">
            <a:avLst/>
          </a:prstGeom>
          <a:gradFill rotWithShape="0">
            <a:gsLst>
              <a:gs pos="0">
                <a:srgbClr val="0066cc">
                  <a:alpha val="52156"/>
                </a:srgbClr>
              </a:gs>
              <a:gs pos="100000">
                <a:srgbClr val="002f5e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tional Gover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arine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arine Sectoral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I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4920" y="1628640"/>
            <a:ext cx="84358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Governance rigidities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–the new coastal squeez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Sectoral inflexibility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Project” time scales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No legal duty or resourc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3708360" y="189000"/>
            <a:ext cx="5205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rriers to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CZ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CZ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– the way forw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6262560" cy="4175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516720" y="4653000"/>
            <a:ext cx="2376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NWALL 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Beach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16720" y="2637000"/>
            <a:ext cx="2340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5 million visitors per an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bill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CZ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– the way forw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580000" y="1773360"/>
            <a:ext cx="3564000" cy="2673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1557360"/>
            <a:ext cx="6262560" cy="4175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1116000" y="3622680"/>
            <a:ext cx="2427480" cy="3235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16720" y="4653000"/>
            <a:ext cx="2376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NWALL 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Beach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CZ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– the way forw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2637000" cy="4175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547640" y="1268280"/>
            <a:ext cx="3435480" cy="5256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2627280" y="2394000"/>
            <a:ext cx="651672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84358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Verdana"/>
              </a:rPr>
              <a:t>Share experience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g: spatial planning (Germany), CAMPs (PAP/RAC, Slovenia), GRDP (Marche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ross INTERREG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CZ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– the way forw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CZ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4358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grated or joined-up approac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wards the many different interes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r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harmonis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different policies and decision-making struc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r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ngs together coastal stakeholders, for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concerted 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wards common goa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r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s different activities to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ook at the coast in a holistic w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6840" y="2133360"/>
            <a:ext cx="84358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Be clear about what you are trying to achieve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ART targe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ve steps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CZ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– the way forw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000" y="1916280"/>
            <a:ext cx="84358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spcBef>
                <a:spcPts val="700"/>
              </a:spcBef>
              <a:buClr>
                <a:srgbClr val="ffff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Visualise i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“Mediterranean slope of tomorrow”, communicate a shared vision, scenario planning “what if?”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ead but don’t direc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CZ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– the way forw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000" y="1916280"/>
            <a:ext cx="84358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r">
              <a:spcBef>
                <a:spcPts val="700"/>
              </a:spcBef>
              <a:buClr>
                <a:srgbClr val="ffff00"/>
              </a:buClr>
              <a:buSzPct val="8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easure i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learn from the discipline of SEA methodologies, but keep it simpl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CZ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– the way forw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000" y="2997000"/>
            <a:ext cx="843588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spcBef>
                <a:spcPts val="700"/>
              </a:spcBef>
              <a:buClr>
                <a:srgbClr val="ffff00"/>
              </a:buClr>
              <a:buSzPct val="8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chieve i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“nothing succeeds like success”, small, easy projects to engage stakeholders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CZ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– the way forw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000" y="3141720"/>
            <a:ext cx="843588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spcBef>
                <a:spcPts val="700"/>
              </a:spcBef>
              <a:buClr>
                <a:srgbClr val="ffff00"/>
              </a:buClr>
              <a:buSzPct val="8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ainstream i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link securely to mainstream agendas: Lisbon &amp; Gothenburg, Cohesion, Water Framework Directive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CZ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– the way forw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000" y="4221000"/>
            <a:ext cx="84358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spcBef>
                <a:spcPts val="700"/>
              </a:spcBef>
              <a:buClr>
                <a:srgbClr val="ffff00"/>
              </a:buClr>
              <a:buSzPct val="8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Secure i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provide a strong spatial planning framework on l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CZ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– the way forw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000" y="1916280"/>
            <a:ext cx="84358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Visualise 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“Mediterranean slope of tomorrow”, communicate a shared vision, scenario planning “what if?”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Lead but don’t direc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r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Measure 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learn from the discipline of SEA methodologies, but keep it simple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r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hieve 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“nothing succeeds like success”, small, easy projects to engage stakeholders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r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Mainstream 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link securely to mainstream agendas: Lisbon &amp; Gothenburg, Cohesion, Water Framework Directive etc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r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Secure 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provide a strong spatial planning framework on l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e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CZ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– the way forw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6840" y="2133360"/>
            <a:ext cx="84358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2421000"/>
            <a:ext cx="59770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rian Ship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bshipman@cornwall.gov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CZ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43588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Horizontal integr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between sectors and across border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Vertical integr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tween levels of government: state/region/loc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social contra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CZ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43588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social contract to achieve the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optimal solutio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for the coa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 single “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CZ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olution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pplies to any geographic sca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CZ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… the European Perspec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95280" y="692280"/>
            <a:ext cx="2789280" cy="4144320"/>
            <a:chOff x="395280" y="692280"/>
            <a:chExt cx="2789280" cy="414432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395280" y="692280"/>
              <a:ext cx="2789280" cy="41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 rot="20724600">
              <a:off x="532080" y="2832480"/>
              <a:ext cx="2607840" cy="45972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Courier New"/>
                </a:rPr>
                <a:t>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3492360" y="2681280"/>
            <a:ext cx="540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Broad "Holistic"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Long Term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ive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ocal Specif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with Natur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ticipatory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&amp; Involvement of all Relevant Administrative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se of a Combination of Instr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1989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CZ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… the European Perspec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692280"/>
            <a:ext cx="2789280" cy="4144320"/>
            <a:chOff x="395280" y="692280"/>
            <a:chExt cx="2789280" cy="414432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395280" y="692280"/>
              <a:ext cx="2789280" cy="41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20724600">
              <a:off x="532080" y="2832480"/>
              <a:ext cx="2607840" cy="45972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Courier New"/>
                </a:rPr>
                <a:t>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050920" y="1844640"/>
            <a:ext cx="3384720" cy="4318200"/>
            <a:chOff x="2050920" y="1844640"/>
            <a:chExt cx="3384720" cy="4318200"/>
          </a:xfrm>
        </p:grpSpPr>
        <p:pic>
          <p:nvPicPr>
            <p:cNvPr id="66" name="" descr=""/>
            <p:cNvPicPr/>
            <p:nvPr/>
          </p:nvPicPr>
          <p:blipFill>
            <a:blip r:embed="rId3">
              <a:alphaModFix amt="0"/>
            </a:blip>
            <a:stretch/>
          </p:blipFill>
          <p:spPr>
            <a:xfrm>
              <a:off x="2050920" y="1844640"/>
              <a:ext cx="3384720" cy="4318200"/>
            </a:xfrm>
            <a:prstGeom prst="rect">
              <a:avLst/>
            </a:prstGeom>
            <a:ln w="0">
              <a:noFill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7" name=""/>
            <p:cNvSpPr/>
            <p:nvPr/>
          </p:nvSpPr>
          <p:spPr>
            <a:xfrm rot="20724600">
              <a:off x="2316960" y="4568760"/>
              <a:ext cx="2781720" cy="45972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Courier New"/>
                </a:rPr>
                <a:t>Recommend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796000" y="1844640"/>
            <a:ext cx="2952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take a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ational invento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legislation, institutions and actors involved in the planning and management of the coastal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develop a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ational strateg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promote ICZ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y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CZ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… the European Perspec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95280" y="692280"/>
            <a:ext cx="2789280" cy="4144320"/>
            <a:chOff x="395280" y="692280"/>
            <a:chExt cx="2789280" cy="414432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395280" y="692280"/>
              <a:ext cx="2789280" cy="41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rot="20724600">
              <a:off x="532080" y="2832480"/>
              <a:ext cx="2607840" cy="45972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Courier New"/>
                </a:rPr>
                <a:t>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050920" y="1844640"/>
            <a:ext cx="3384720" cy="4318200"/>
            <a:chOff x="2050920" y="1844640"/>
            <a:chExt cx="3384720" cy="4318200"/>
          </a:xfrm>
        </p:grpSpPr>
        <p:pic>
          <p:nvPicPr>
            <p:cNvPr id="74" name="" descr=""/>
            <p:cNvPicPr/>
            <p:nvPr/>
          </p:nvPicPr>
          <p:blipFill>
            <a:blip r:embed="rId3">
              <a:alphaModFix amt="0"/>
            </a:blip>
            <a:stretch/>
          </p:blipFill>
          <p:spPr>
            <a:xfrm>
              <a:off x="2050920" y="1844640"/>
              <a:ext cx="3384720" cy="4318200"/>
            </a:xfrm>
            <a:prstGeom prst="rect">
              <a:avLst/>
            </a:prstGeom>
            <a:ln w="0">
              <a:noFill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75" name=""/>
            <p:cNvSpPr/>
            <p:nvPr/>
          </p:nvSpPr>
          <p:spPr>
            <a:xfrm rot="20724600">
              <a:off x="2316960" y="4568760"/>
              <a:ext cx="2781720" cy="45972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Courier New"/>
                </a:rPr>
                <a:t>Recommend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796000" y="213372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“…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ry litt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08360" y="259920"/>
            <a:ext cx="5205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sues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3492720" cy="489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09:04:01Z</dcterms:created>
  <dc:creator>bshipman</dc:creator>
  <dc:description/>
  <dc:language>en-US</dc:language>
  <cp:lastModifiedBy>bshipman</cp:lastModifiedBy>
  <dcterms:modified xsi:type="dcterms:W3CDTF">2006-07-15T06:50:48Z</dcterms:modified>
  <cp:revision>28</cp:revision>
  <dc:subject/>
  <dc:title>Slide 1</dc:title>
</cp:coreProperties>
</file>