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8F5-92F6-4FB1-8FE3-77C5FEA2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55B-CA55-4C58-866B-25427B21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2FA-178E-4AA0-80C6-ADC000E1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70C4-D80B-41EF-ABF3-DF7737A9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45C9F-DDC5-4466-AD9B-84568C60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2BC5A-BD5F-4594-80EB-946FB39F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86BB2-119C-415F-9133-B51DF3A9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F9F80-BE30-44FD-90D9-DA4A7DAC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E00E8-1627-4BC4-ADDB-2798D24B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EE7F6-9DBB-4812-A0CD-E368DA05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C6D62-FFA1-4148-ACCE-C59B1FAD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E0C-E1D6-4FE1-9225-8D41182A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7AE8E-FDFC-4584-B70A-2C40B4B2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96BB4-E8ED-4FAA-A906-3EC852B2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141FC-337E-4223-AF31-E857F4DB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D1B0E-B779-4F94-A42A-B755087C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A8B56-526A-4C4B-9965-F7BDB279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F6E-A51F-4DE4-8733-755EEE0D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0CA-997D-46C4-8BA4-11AE546F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20E-20F6-4FF6-A5D4-75E75FCA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191-5BE0-41DF-B962-91F73DC4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F34-53FC-4C9F-9D18-2D9743B6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A71-33BA-4041-A60F-4C2A3FB5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700-AF97-4BFD-9666-22333A99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612B-869D-4210-8A00-572D9BFA6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FA8A-46AB-467A-8078-81AC0BFD4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it/imgres?imgurl=http://www.anconanostra.com/ancona_antiga/cartoline/mario/palombina_stazione.JPG&amp;imgrefurl=http://www.anconanostra.com/ancona_antiga/cartoline/mario/panzini.htm&amp;h=378&amp;w=600&amp;sz=61&amp;hl=it&amp;start=5&amp;tbnid=YJ7qzdoN46Cw_M:&amp;tbnh=85&amp;tbnw=135&amp;prev=/images%3Fq%3Dpalombina%26svnum%3D10%26hl%3Dit%26lr%3Dlang_i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LOMBINA BEA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4000" y="691920"/>
            <a:ext cx="7448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The stakeolders approa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Palombina, 15 luglio 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700360" y="1628640"/>
            <a:ext cx="576252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1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1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urismo e Imprenditorialit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perativa “vecchi” bagnini e giovani loca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stione parchegg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mazi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bblicit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mozione even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to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nto fisico “reception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d &amp; brekfa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00720" y="4508640"/>
            <a:ext cx="2303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alit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tificazi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ano Qualit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stomer Satisf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zione contin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 pract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227640" y="4581360"/>
            <a:ext cx="199728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azie e Arrivederci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to di Palombina al tramonto. Domani è un nuovo gior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504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lombina sr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età pubblico/priv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1% Comune Ancona 49% Priva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tituita nel 20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2428920" cy="19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Mission Palombina s.r.l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orizzazione turistica, ambientale, paesaggis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ozione e svilup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237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dizionamen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a urbanizzazione co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rov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ale Adria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ffineria A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2449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gett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qualificazione dell’offer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involgimento stakehol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eguamento as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scamb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244944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e di Interv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b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agine e Paesagg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sporti, Viabilità, Servi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ismo e Imprenditorialit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t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2808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mbien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ianto fog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nif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ificazione igienizzazio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nizzazi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ano anti-incen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2664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magine e Paesagg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de pubb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sta pedonale, ciclab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duzione pressione ferrov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eguamento aree acces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ficazione segnale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tellonis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orizzazione stabilimenti (storicità, personalizzazio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260280"/>
            <a:ext cx="2843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sporti e Viabilit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pliamento aree parchegg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ropolitana di superfic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a del M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251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5T14:23:16Z</dcterms:created>
  <dc:creator>Bruno</dc:creator>
  <dc:description/>
  <dc:language>en-US</dc:language>
  <cp:lastModifiedBy>Bruno</cp:lastModifiedBy>
  <dcterms:modified xsi:type="dcterms:W3CDTF">2003-08-15T12:42:01Z</dcterms:modified>
  <cp:revision>6</cp:revision>
  <dc:subject/>
  <dc:title>PALOMBINA BEACH</dc:title>
</cp:coreProperties>
</file>