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F4E8-0F3B-4EB2-932D-1E0D6FB7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475-1C3D-4A07-BC12-AC75E823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20E0-4975-43C5-BD0E-668E4545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EF38-DA9E-4DC6-8BE4-562CA27F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F139A-1E23-41D1-A512-D985691A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1FAED-0738-40EB-94E1-57C1AC45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13671-9710-4438-8EF3-4D3E1BCF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D7EBA-0796-4CE9-8D47-0B4669F7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F0262-D3F5-47B1-9006-18E5A17E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69C97-363A-470F-A8A5-6CAB3F23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38212-EE3A-45E2-B91D-D843868C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3C12-FE28-4BBE-A58E-EE5F40A0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A2D7A-22C3-44C9-9092-31989234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7D8E7-4207-4ED3-B7D4-FED4B4C3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97478-3E64-4A36-A9F4-41F7E2B0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65C23-8E91-4654-BABE-C25C88D6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D0C22-D55F-4DD9-A8DB-EC89BB93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B71-F3D1-42A7-92C1-57AD1BE8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F57-CC8F-464C-A4DE-147676A4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031-14FC-4DF4-B9B3-99703701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E63-37BF-4772-9631-C93C9418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C0F-DC23-4CCA-8691-9B7BE17A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EBC-C467-4746-8523-22E79D63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E83-08C5-47DB-98EA-34F7DCF5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16F5-4188-416F-8166-513003A32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8B2F-E08D-489B-AB2A-AA807E9A4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it/imgres?imgurl=http://www.anconanostra.com/ancona_antiga/cartoline/mario/palombina_stazione.JPG&amp;imgrefurl=http://www.anconanostra.com/ancona_antiga/cartoline/mario/panzini.htm&amp;h=378&amp;w=600&amp;sz=61&amp;hl=it&amp;start=5&amp;tbnid=YJ7qzdoN46Cw_M:&amp;tbnh=85&amp;tbnw=135&amp;prev=/images%3Fq%3Dpalombina%26svnum%3D10%26hl%3Dit%26lr%3Dlang_i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LOMBINA BEA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4000" y="691920"/>
            <a:ext cx="7448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The stakeolders approa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Palombina, 15 luglio 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700360" y="1628640"/>
            <a:ext cx="576252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1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1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urismo e Imprenditorialit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perativa “vecchi” bagnini e giovani loca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stione parchegg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mazio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bblicit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mozione even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to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nto fisico “reception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d &amp; brekfa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300720" y="4508640"/>
            <a:ext cx="2303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alit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tificazi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ano Qualit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stomer Satisf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zione contin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t pract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227640" y="4581360"/>
            <a:ext cx="199728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azie e Arrivederci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to di Palombina al tramonto. Domani è un nuovo giorn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504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lombina sr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età pubblico/priv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1% Comune Ancona 49% Priva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tituita nel 200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2428920" cy="19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ahoma"/>
              </a:rPr>
              <a:t>Mission Palombina s.r.l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orizzazione turistica, ambientale, paesaggis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mozione e svilup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435640" y="3860640"/>
            <a:ext cx="237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dizionament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a urbanizzazione co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rrov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ale Adria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ffineria A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651640" y="3933720"/>
            <a:ext cx="24494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gett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qualificazione dell’offer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involgimento stakehol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eguamento as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scamb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651640" y="3933720"/>
            <a:ext cx="244944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e di Interv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bi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agine e Paesagg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sporti, Viabilità, Servi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ismo e Imprenditorialit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lit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2808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mbien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ianto fogn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nif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ificazione igienizzazio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nizzazi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ano anti-incen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2664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magine e Paesagg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de pubb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sta pedonale, ciclab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duzione pressione ferrov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eguamento aree acces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lificazione segnale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tellonis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orizzazione stabilimenti (storicità, personalizzazio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260280"/>
            <a:ext cx="2843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sporti e Viabilit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pliamento aree parchegg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ropolitana di superfic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a del M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2519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5T14:23:16Z</dcterms:created>
  <dc:creator>Bruno</dc:creator>
  <dc:description/>
  <dc:language>en-US</dc:language>
  <cp:lastModifiedBy>Bruno</cp:lastModifiedBy>
  <dcterms:modified xsi:type="dcterms:W3CDTF">2003-08-15T12:42:01Z</dcterms:modified>
  <cp:revision>6</cp:revision>
  <dc:subject/>
  <dc:title>PALOMBINA BEACH</dc:title>
</cp:coreProperties>
</file>